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CE24-D5FF-4F69-B2C8-7DA44B62B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2FDC-3AEE-4699-8932-523139A64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34B0-B07F-4CBD-884D-004779941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B488-6ED2-4614-978B-340B8F770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8745-3122-41EB-BE41-CC3B54917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DA33-8DFF-4487-B88B-DCA41B1A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94D7-A39D-404A-BFFD-306063B04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F469-C2AD-4061-88F6-7DE5977B7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608A-B4B0-4A3A-A4DE-9CE60AF7E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1497-75DD-4A53-9B27-6215E8465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94FD-7D7F-4677-9A74-23BFFC3DC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7B05-53F1-41A2-BF33-7683F76EC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A180-C531-487E-A998-0BA751DC7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0974-AB33-401B-AFED-3F8789358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7F6E-60E3-4A28-9FF7-A9D024E00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624A-9C94-4207-A614-149696F37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901A-1DB1-4AE8-B658-85B71583C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59FC-4188-4C2A-928F-294BC24CF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89B7-E993-4016-A642-06B7E09B4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561A-0A83-44C7-BD10-CC0AA1F10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DBF3-2E31-4FEF-AD62-7A8F46FA7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BDB9-5BF0-4020-BF6C-9CBCBD99E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6141-9F50-42C9-93BE-2AAA0EF9F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36520" y="761760"/>
            <a:ext cx="867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FOLK HERO IS FAMOUS FOR HIS EXPLORATION AND SETTLEMENT OF THE PART OF VIRGINIA NOW KNOWN AS KENTUC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37960" y="762120"/>
            <a:ext cx="8668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STARRING AL PACINO AND JOHNNY DEPP WAS NAMED AFTER THE REAL-LIFE ALIAS USED TO INFILTRATE A 70'S CRIME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W  BARRY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47880" y="762120"/>
            <a:ext cx="7248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ITTLE GIRL IN "E.T. THE EXTRA-TERRESTRI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55680" y="770040"/>
            <a:ext cx="6632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ALTER-EGO ZIGGY STARDU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ECK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42840" y="762120"/>
            <a:ext cx="725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-2013 SOCCER PLAYER IS ARGUABLY THE MOST FAMOUS BRITISH SOCCER PLAYER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12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REAN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47880" y="762120"/>
            <a:ext cx="724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ACTOR ON THE CURRENT TV SHOW "SEAL T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868400" y="762120"/>
            <a:ext cx="5407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DA VINCI CO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ERKOWI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AL KILLER WAS KNOWN AS "SON OF S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RKS  BENT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95160" y="762120"/>
            <a:ext cx="7753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THE #1 SONGS "SIDEWAYS", "WHAT WAS I THINKIN'",  "DIFFERENT FOR GIRLS", AND "FEEL THAT 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ITTLE GIRL IN "E.T. THE EXTRA-TERRESTRI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Y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57080" y="762120"/>
            <a:ext cx="762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ALKING HE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BO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74680" y="762120"/>
            <a:ext cx="8594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FOLK HERO IS FAMOUS FOR HIS EXPLORATION AND SETTLEMENT OF THE PART OF VIRGINIA NOW KNOWN AS KENTUC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IE  BRA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14280" y="762120"/>
            <a:ext cx="85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STARRING AL PACINO AND JOHNNY DEPP WAS NAMED AFTER THE REAL-LIFE ALIAS USED TO INFILTRATE A 70'S CRIME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77840" y="761760"/>
            <a:ext cx="698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ALTER-EGO ZIGGY STARDU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95320" y="76212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-2013 SOCCER PLAYER IS ARGUABLY THE MOST FAMOUS BRITISH SOCCER PLAYER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09720" y="762120"/>
            <a:ext cx="7324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ACTOR ON THE CURRENT TV SHOW "SEAL TE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859040" y="762120"/>
            <a:ext cx="5424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DA VINCI CO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AL KILLER WAS KNOWN AS "SON OF S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THE #1 SONGS "SIDEWAYS", "WHAT WAS I THINKIN'",  "DIFFERENT FOR GIRLS", AND "FEEL THAT 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TALKING HEA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21:48:37Z</dcterms:modified>
  <cp:revision>365</cp:revision>
  <dc:subject/>
  <dc:title>Slide 1</dc:title>
</cp:coreProperties>
</file>