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DD5C-1E22-4B52-9FA5-F3855B288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9C1B-AD47-45BE-B0DA-0D006EABF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EFC7-5EB6-4AD4-864A-00717B187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1158-4320-448B-B4F5-D423A569C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A7B4-BD69-4037-A449-F5660155F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185B-778D-490D-A5F5-72A234A15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D42A-1D4C-42F8-8EFD-621169D02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F0D7-1E50-4ED6-A30A-4542A1760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A9F2-890D-4A0C-A67F-E7B8BC8FC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EC51-67ED-414B-9000-E8EC1FC15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FEBC-D636-4C82-B0EB-746C09AF2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6FAB-51DD-46D4-9A1C-3C06CC97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B3BC-BC09-4571-9E38-FF3233520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1529-7D41-4850-B7B0-AC9BE804D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2529-4043-4568-B62D-E63C03B3F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D836-E58D-4154-AA4B-7E02C552D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4FBD-D683-486A-BE13-E1438AEF4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F75A-A6E1-46A2-B50E-904104CEA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6575-E358-4CB2-8986-31D3CD07E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863A-C5C1-4EFC-B78D-432462B9A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4EC9-736F-48B4-8F53-90E7FC357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A4AC-93C2-42D9-A86C-A1430CD54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4966-76D0-4407-A9B5-62A6958C3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36520" y="761760"/>
            <a:ext cx="867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FOLK HERO IS FAMOUS FOR HIS EXPLORATION AND SETTLEMENT OF THE PART OF VIRGINIA NOW KNOWN AS KENTUC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37960" y="762120"/>
            <a:ext cx="8668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STARRING AL PACINO AND JOHNNY DEPP WAS NAMED AFTER THE REAL-LIFE ALIAS USED TO INFILTRATE A 70'S CRIME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W  BARRY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47880" y="762120"/>
            <a:ext cx="7248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ITTLE GIRL IN "E.T. THE EXTRA-TERRESTRI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55680" y="770040"/>
            <a:ext cx="6632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ALTER-EGO ZIGGY STARDU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ECK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42840" y="762120"/>
            <a:ext cx="725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-2013 SOCCER PLAYER IS ARGUABLY THE MOST FAMOUS BRITISH SOCCER PLAYER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12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REAN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47880" y="762120"/>
            <a:ext cx="724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ACTOR ON THE CURRENT TV SHOW "SEAL T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868400" y="762120"/>
            <a:ext cx="5407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DA VINCI CO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ERKOWI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AL KILLER WAS KNOWN AS "SON OF S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RKS  BENT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95160" y="762120"/>
            <a:ext cx="7753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THE #1 SONGS "SIDEWAYS", "WHAT WAS I THINKIN'",  "DIFFERENT FOR GIRLS", AND "FEEL THAT 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ITTLE GIRL IN "E.T. THE EXTRA-TERRESTRI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Y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57080" y="762120"/>
            <a:ext cx="762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ALKING HE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BO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74680" y="762120"/>
            <a:ext cx="8594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FOLK HERO IS FAMOUS FOR HIS EXPLORATION AND SETTLEMENT OF THE PART OF VIRGINIA NOW KNOWN AS KENTUC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IE  BRA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14280" y="762120"/>
            <a:ext cx="85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STARRING AL PACINO AND JOHNNY DEPP WAS NAMED AFTER THE REAL-LIFE ALIAS USED TO INFILTRATE A 70'S CRIME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77840" y="761760"/>
            <a:ext cx="698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ALTER-EGO ZIGGY STARDU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95320" y="76212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-2013 SOCCER PLAYER IS ARGUABLY THE MOST FAMOUS BRITISH SOCCER PLAYER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09720" y="762120"/>
            <a:ext cx="7324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ACTOR ON THE CURRENT TV SHOW "SEAL TE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859040" y="762120"/>
            <a:ext cx="5424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DA VINCI CO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AL KILLER WAS KNOWN AS "SON OF S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THE #1 SONGS "SIDEWAYS", "WHAT WAS I THINKIN'",  "DIFFERENT FOR GIRLS", AND "FEEL THAT 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ALKING HEA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21:48:37Z</dcterms:modified>
  <cp:revision>365</cp:revision>
  <dc:subject/>
  <dc:title>Slide 1</dc:title>
</cp:coreProperties>
</file>