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6737-D50E-4BC4-B313-0031A33DE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6114-A0A1-4E80-A1AA-AC8CDE638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E0D5-0984-4E95-91BB-AD5EC57B6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6C2C-D1B6-4C79-BEA5-A99B72AA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6306-D00B-45EC-9663-B3FC207FE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6F592-FCEA-4862-91A5-D2536D93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BADE-8B5F-4F26-8B5E-F3A7AC39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56A8-0A83-46A7-894C-32A0B5B833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CBE1-4CF0-4F6B-82B1-17E2BBEF8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5CEB-4E7E-49B8-8071-9D0CD517E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85E-133A-4D9A-87EE-11DCF8263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3F71-CF56-4647-9176-ABD4491BC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1CE0-F163-481C-A566-ED93A9909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9026-A544-4280-842A-216570C9E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9137-70BF-48DD-84D1-F57485096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FF2C-076A-4BBB-9EF0-2D0EDD2FC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1146-7564-4FD8-89CA-F8F69163A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D18D-FE75-4E9A-A702-526EBBEE7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99A-8266-4708-A5BE-03D8A168F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45ED-14DD-4737-8AEB-5B0633C04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1035-0DE8-41FB-9FD4-986177C8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660F6-409A-414C-874F-EC59E2DEC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269F-E73F-45C7-AC0A-701D834E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GUITARIST FOR THE GRATEFUL D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FF  GOR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ON THE SPRINT CUP IN 1995, 1997, 1998, AND 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GOE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, DIPLOMAT, AND PHILOSOPHER WROTE THE PLAY "FAU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ES  GUTE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60440" y="76824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USE MOVABLE TYPE IN A PRINTING P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O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S OF THE GAMBINO CRIME FAMILY WAS KNOWN AS "THE TEFLON D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OO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WORLD'S FOREMOST EXPERT ON CHIMPANZE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RIS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 AUTHORS HAVE SOLD   2 MILLION BOOKS ON THEIR FIRST PRINTING: TOM CLANCY, J. K. ROWLING, AND W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GAR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U.S. PRESIDENT FOR 6 ½  MONTHS, BEFORE HE WAS ASSASSINATED IN 188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SCAR DRIVER WON THE SPRINT CUP IN 1995, 1997, 1998, AND 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0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H  GROB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4 ALBUMS, "CLOSER", "AWAKE", "NOËL", AND A SELF-TITLED ALBUM WERE ALL MULTI-PLATIN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GLEN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638360" y="762120"/>
            <a:ext cx="5867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AMERICAN TO ORBIT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GAR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GUITARIST FOR THE GRATEFUL D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, DIPLOMAT, AND PHILOSOPHER WROTE THE PLAY "FAU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EUROPEAN TO USE MOVABLE TYPE IN A PRINTING P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SS OF THE GAMBINO CRIME FAMILY WAS KNOWN AS "THE TEFLON D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WORLD'S FOREMOST EXPERT ON CHIMPANZE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LY 3 AUTHORS HAVE SOLD    2 MILLION BOOKS ON THEIR FIRST PRINTING: TOM CLANCY, J. K. ROWLING, AND WH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NLY SERVED AS U.S. PRESIDENT FOR 6 ½  MONTHS, BEFORE HE WAS ASSASSINATED IN 188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FIRST 4 ALBUMS, "CLOSER", "AWAKE", "NOËL", AND A SELF-TITLED ALBUM WERE ALL MULTI-PLATIN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8T21:49:16Z</dcterms:modified>
  <cp:revision>348</cp:revision>
  <dc:subject/>
  <dc:title>Slide 1</dc:title>
</cp:coreProperties>
</file>