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E1B-6517-4287-8469-7FDDB228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5039-6B8C-4F5E-8B83-E8986B10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525-B178-45EE-9D2E-8F963A9B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C8F-BCF5-4DCB-BC45-DC0EC4A2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113B-B759-4054-BD44-6C36902C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19D4-62F3-4D04-BBBF-EFC8559B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3FC-9FE1-4FFF-9322-B226916B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3F3-FD9E-4714-A253-1FADD6F0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BD4-F02C-4FA9-887E-35D50979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7CC-F921-4BCB-BF4D-3565983C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1DB-67D3-4576-9E7B-23C70143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7EF-76B2-4BAB-A851-189D4A519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03D-261C-4A2B-A805-349841AB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C78-8767-46A9-B79B-8E5FA0C0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93B1-C971-4A8A-9735-BAECC6FC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642-6EEB-4ED1-A2B7-2EE48D0A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C35B-E219-4009-BA8D-B7CC2B0B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F0D-8CDE-42AD-AD0A-BBF268D7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1B78-9288-48E3-A524-9B2ACBAB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568-62F7-4A91-A3EF-87DE78BD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01E-2B4F-490F-8D88-CB8944A4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9C3-0B0A-4C2F-B92E-35B74341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C28B-F429-4C75-81E6-3127BDC6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GUITARIST FOR THE GRATEFUL D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R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ON THE SPRINT CUP IN 1995, 1997, 1998, AND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, DIPLOMAT, AND PHILOSOPHER WROTE THE PLAY "F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GUT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60440" y="7682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USE MOVABLE TYPE IN A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O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S OF THE GAMBINO CRIME FAMILY WAS KNOWN AS "THE TEFLON D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WORLD'S FOREMOST EXPERT ON CHIMPANZE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RIS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AUTHORS HAVE SOLD   2 MILLION BOOKS ON THEIR FIRST PRINTING: TOM CLANCY, J. K. ROWLING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U.S. PRESIDENT FOR 6 ½  MONTHS, BEFORE HE WAS ASSASSINATED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ON THE SPRINT CUP IN 1995, 1997, 1998, AND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H  GRO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4 ALBUMS, "CLOSER", "AWAKE", "NOËL", AND A SELF-TITLED ALBUM WERE ALL MULTI-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GUITARIST FOR THE GRATEFUL D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, DIPLOMAT, AND PHILOSOPHER WROTE THE PLAY "F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USE MOVABLE TYPE IN A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S OF THE GAMBINO CRIME FAMILY WAS KNOWN AS "THE TEFLON D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WORLD'S FOREMOST EXPERT ON CHIMPANZ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AUTHORS HAVE SOLD    2 MILLION BOOKS ON THEIR FIRST PRINTING: TOM CLANCY, J. K. ROWLING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U.S. PRESIDENT FOR 6 ½  MONTHS, BEFORE HE WAS ASSASSINATED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4 ALBUMS, "CLOSER", "AWAKE", "NOËL", AND A SELF-TITLED ALBUM WERE ALL MULTI-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21:49:16Z</dcterms:modified>
  <cp:revision>348</cp:revision>
  <dc:subject/>
  <dc:title>Slide 1</dc:title>
</cp:coreProperties>
</file>