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857C-E1BC-4128-B60F-750EC921F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94EE-6881-4A33-A1F5-61C8E122C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A219-9115-4F4B-B83B-899FAB8F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8908-835F-47C4-BEDB-D8EB4CC2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AE68-7777-4F64-A1D4-B3B1F460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CAEF-168B-405B-BAFC-9BE670F17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F8C2-CA18-42BA-A26E-542AE80A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306B-0924-489A-AB97-487A923E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FE39-436D-4130-BD8D-4C028BE2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42E-4DF8-46F6-A826-FB8AC98D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B616-3059-4B69-AA08-80C5EE779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8F8E-6FD0-4E98-BC96-CE85C2B7F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2EC4-8645-43A4-AE17-551CBF0DA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93DE-1585-4830-B416-36FE93250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3DD-E10E-4664-9CE0-348B8BAD9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B908-A1C3-473A-B45B-CB437729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59AF-7F56-4BF1-8B9E-AC3C519A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A93C-FC30-477C-821B-04A31EAC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E6E0-A598-4605-8C23-3B612851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F608-0397-48EF-89D0-5A13D228D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B768-A135-4A92-80B6-6386F5F2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71E4-F193-4C74-B4EB-84A0861B1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71A2-8554-457E-8ACB-4A150FB2B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FOR HER NOVELS OF FRONTIER LIFE ON THE PLAINS, AND WON THE 1923 PULITZER PRIZE FOR LIT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EVERYBODY HAVE FUN TONIGHT", WHICH CONTAINS THE BAND'S NAME IN THE CHO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CRON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ANCHOR'S DEPARTING CATCH-PHRASE WAS "AND THAT'S THE WAY IT 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EADER SAID "YOU HAVE ENEMIES? GOOD. IT MEANS YOU’VE STOOD UP FOR SOMETHING, SOMETIME IN YOUR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T  CHAMBER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ONCE SCORED 100 POINTS IN ONE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CHRISTOP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ATHER FRANCIS MULCAHY ON TV'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COL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OOTHPASTE MAGNATE DONATED SO MUCH TO MADISON UNIVERSITY THAT THEY RENAMED THE SCHOOL AFTER HIM 33 YEARS AFTER HIS DEA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XPLORED THE LOUISIANA PURCHASE WITH MERIWETHER LEW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LEY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STAR GENERAL RAN FOR THE DEMOCRATIC PRESIDENTIAL NOMINATION IN 2004, WINNING THE OKLAHOMA PRI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ANCHOR'S DEPARTING CATCH-PHRASE WAS "AND THAT'S THE WAY IT 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  CR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CREATED THE "SCREAM" AND "NIGHTMARE ON ELM STREET" FRANCHI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A  C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FOR HER NOVELS OF FRONTIER LIFE ON THE PLAINS, AND WON THE 1923 PULITZER PRIZE FOR LIT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G  C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EVERYBODY HAVE FUN TONIGHT", WHICH CONTAINS THE BAND'S NAME IN THE CHO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EADER SAID "YOU HAVE ENEMIES? GOOD. IT MEANS YOU’VE STOOD UP FOR SOMETHING, SOMETIME IN YOUR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ONCE SCORED 100 POINTS IN ONE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ATHER FRANCIS MULCAHY ON TV'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OOTHPASTE MAGNATE DONATED SO MUCH TO MADISON UNIVERSITY THAT THEY RENAMED THE SCHOOL AFTER HIM 33 YEARS AFTER HIS DEA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XPLORED THE LOUISIANA PURCHASE WITH MERIWETHER LEW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STAR GENERAL RAN FOR THE DEMOCRATIC PRESIDENTIAL NOMINATION IN 2004, WINNING THE OKLAHOMA PRIM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CREATED THE "SCREAM" AND "NIGHTMARE ON ELM STREET" FRANCHI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8T21:50:40Z</dcterms:modified>
  <cp:revision>353</cp:revision>
  <dc:subject/>
  <dc:title>Slide 1</dc:title>
</cp:coreProperties>
</file>