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23BE-6F34-45CD-83EB-116927027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2808-19E2-4CB7-83DB-1CFAD9DBA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252-0DC6-4573-9145-5B2497CB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0630-F524-4340-A645-D94C558E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F189-51AF-49D0-A971-3C75A298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CB21-C6CD-487E-A638-677BBA3AE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12AD-521F-4CA0-AD05-16FBFE7E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AD0C-4CA1-455C-ACDB-EA2532AC6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151-6F3D-41BF-BE58-C72D32A80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0678-0AF9-439F-8AA3-975F6D36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74E8-691F-48EB-9415-19AA83D8E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BA2B-E40C-4878-8038-ADADAD4AB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C8DE-7539-499C-8841-8BCE4CF3F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6671-9BE2-4AEC-8C1C-3BD264AC4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227BE-A911-419E-A7DA-EBE52D67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9E3C-2AC9-4B1E-806A-39168A84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CEAD-379E-47EF-8B86-3446E528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2940-41C4-4ECC-AAF4-83128C467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75AF-1562-42CC-9352-9D663ED06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5028-20B1-462F-B502-544996EA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D6F4-D714-4EAA-896A-0572AE71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0AD9-7F34-4C9D-9A09-FECE7CC91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7AED-E7B7-4F53-9909-024C7BE8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HER NOVELS OF FRONTIER LIFE ON THE PLAINS, AND WON THE 1923 PULITZER PRIZE FOR LIT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EVERYBODY HAVE FUN TONIGHT", WHICH CONTAINS THE BAND'S NAME IN THE CHO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CRONK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ANCHOR'S DEPARTING CATCH-PHRASE WAS "AND THAT'S THE WAY IT 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EADER SAID "YOU HAVE ENEMIES? GOOD. IT MEANS YOU’VE STOOD UP FOR SOMETHING, SOMETIME IN YOUR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T  CHAMBERL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ONCE SCORED 100 POINTS IN ONE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CHRISTOP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FRANCIS MULCAHY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COL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OTHPASTE MAGNATE DONATED SO MUCH TO MADISON UNIVERSITY THAT THEY RENAMED THE SCHOOL AFTER HIM 33 YEARS AFTER HIS DEAT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XPLORED THE LOUISIANA PURCHASE WITH MERIWETHER LEW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LEY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STAR GENERAL RAN FOR THE DEMOCRATIC PRESIDENTIAL NOMINATION IN 2004, WINNING THE OKLAHOMA PRI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S ANCHOR'S DEPARTING CATCH-PHRASE WAS "AND THAT'S THE WAY IT 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  CRA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CREATED THE "SCREAM" AND "NIGHTMARE ON ELM STREET" FRANCHIS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A  C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HER NOVELS OF FRONTIER LIFE ON THE PLAINS, AND WON THE 1923 PULITZER PRIZE FOR LIT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NG  CH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EVERYBODY HAVE FUN TONIGHT", WHICH CONTAINS THE BAND'S NAME IN THE CHOR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LEADER SAID "YOU HAVE ENEMIES? GOOD. IT MEANS YOU’VE STOOD UP FOR SOMETHING, SOMETIME IN YOUR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ONCE SCORED 100 POINTS IN ONE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8572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ATHER FRANCIS MULCAHY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OOTHPASTE MAGNATE DONATED SO MUCH TO MADISON UNIVERSITY THAT THEY RENAMED THE SCHOOL AFTER HIM 33 YEARS AFTER HIS DEAT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EXPLORED THE LOUISIANA PURCHASE WITH MERIWETHER LEW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STAR GENERAL RAN FOR THE DEMOCRATIC PRESIDENTIAL NOMINATION IN 2004, WINNING THE OKLAHOMA PRIM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CREATED THE "SCREAM" AND "NIGHTMARE ON ELM STREET" FRANCHIS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8T21:50:40Z</dcterms:modified>
  <cp:revision>353</cp:revision>
  <dc:subject/>
  <dc:title>Slide 1</dc:title>
</cp:coreProperties>
</file>