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CAE4-F2D0-4225-B9C5-5B1C9BE78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13E4-4D49-42C2-AB8C-DC55E4ED0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7087-32D0-44D4-9382-1E95B781B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AEB6-06BD-4C66-95CF-05F8C4EFC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6138-6B6E-4C6A-8C5D-3886DE222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D595-3E8F-4A82-B939-3301D4DD9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A9E3-9003-470F-B695-09554E811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24E0-18FC-4875-9804-A341182FF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174A-190E-46D3-A427-8F21C3F58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A642-8D40-4032-AB22-35224D28F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2960-27A9-4420-BD89-42D511A1A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B694-0966-468B-9D17-65AD0262B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6C95-A838-4F71-B404-35A84A790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5D41-8B90-4D2A-9F2C-69399A0A0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8038-BD9C-44F8-9245-B9190E6A9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486E-A983-47FC-99FA-A73B1C15F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76F3-490F-4855-AE24-53EEAD653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B58F-C3C3-44DF-8A68-2AEFA78FD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7C0C-78B2-41D0-90FD-EFFA78D90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2D0E-CA73-4A14-A6A0-658E8CF13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C6AA-751A-46A0-9097-CAB46E85D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C1DF-94D9-4A05-93F4-4AAF3AB02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125F1-B034-4E33-A047-020273B35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ELECTED AFRICAN-AMERICAN GOVERN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104840" y="762120"/>
            <a:ext cx="693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REATED THE "LAW &amp; ORDER"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00600"/>
            <a:ext cx="7010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NZEL  WASH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SUPPORTING ACTOR FOR "GLORY" AND BEST ACTOR FOR "TRAINING 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0060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NIE  WAHLBE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62080" y="762120"/>
            <a:ext cx="68198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FROM "NEW KIDS ON THE BLOCK" NOW STARS ON TV'S "BLUE BLOO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MON  WAY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85760" y="762120"/>
            <a:ext cx="6972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   IN "MAJOR PAYNE" AND "THE LAST BOY SCOU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00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WAYNE  W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IAMI HEAT'S ALL-TIME LEADER IN GAMES, ASSISTS, STEALS, SHOTS TAKEN, AND POI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WN  W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85760" y="762120"/>
            <a:ext cx="6972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ARY ANN ON "GILLIGAN'S ISL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BRA  WI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14440" y="762120"/>
            <a:ext cx="8115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RESS FOR "AN OFFICER AND A GENTLEMAN", "TERMS OF ENDEARMENT", AND "SHADOWLAN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IEL  WEB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WYER SERVED   AS SECRETARY OF STATE UNDER PRESIDENTS HARRISON, TYLER, AND YEARS LATER, FILMO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SUPPORTING ACTOR FOR "GLORY" AND BEST ACTOR FOR "TRAINING D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NNE  WI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71520" y="762120"/>
            <a:ext cx="8400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5 WOODY ALLEN FILMS, WINNING BEST SUPPORTING ACTRESS FOR "HANNAH AND HER SISTERS" &amp; "BULLETS OVER BROAD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UG  WIL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ELECTED AFRICAN-AMERICAN GOVERN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CK  WO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181160" y="762120"/>
            <a:ext cx="6781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REATED THE "LAW &amp; ORDER"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23920" y="761760"/>
            <a:ext cx="6896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FROM "NEW KIDS ON THE BLOCK" NOW STARS ON TV'S "BLUE BLOO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85760" y="762120"/>
            <a:ext cx="6972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   IN "MAJOR PAYNE" AND "THE LAST BOY SCOU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28560" y="762120"/>
            <a:ext cx="7886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IAMI HEAT'S ALL-TIME LEADER IN GAMES, ASSISTS, STEALS, SHOTS TAKEN, AND POI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09800" y="761760"/>
            <a:ext cx="7124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ARY ANN ON "GILLIGAN'S ISL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14440" y="761760"/>
            <a:ext cx="8115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RESS FOR "AN OFFICER AND A GENTLEMAN", "TERMS OF ENDEARMENT", AND "SHADOWLAN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WYER SERVED   AS SECRETARY OF STATE UNDER PRESIDENTS HARRISON, TYLER, AND YEARS LATER, FILMO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5 WOODY ALLEN FILMS, WINNING BEST SUPPORTING ACTRESS FOR "HANNAH AND HER SISTERS" &amp; "BULLETS OVER BROAD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13:15:19Z</dcterms:created>
  <dc:creator>Jennifer Budzinski</dc:creator>
  <dc:description/>
  <dc:language>en-US</dc:language>
  <cp:lastModifiedBy>Erich Friedman</cp:lastModifiedBy>
  <dcterms:modified xsi:type="dcterms:W3CDTF">2020-08-28T21:51:05Z</dcterms:modified>
  <cp:revision>355</cp:revision>
  <dc:subject/>
  <dc:title>Slide 1</dc:title>
</cp:coreProperties>
</file>