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4C89-85DA-4340-ADCD-7720B36C3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C876-B67A-4F04-B2C2-456E5616A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DBD-BA77-457F-9E29-7ED2E06C1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33D7-ED71-4EE3-8D8E-C7D1C1EF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2F36-6B25-49AB-88F2-DF5DF958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8711-7DC5-4924-967D-B2DD89C2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FC97-660A-4249-8665-F35CBF6C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515A-20A5-4219-90A0-F08383D2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7D22-22A2-497C-A0A8-8FF7908C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3C0-1A14-4AB3-A973-70C34339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57D-77AF-4CE5-A548-730E046B2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8873-F59C-4AD1-A923-D9DA9638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C682-6C81-4360-80B4-88366828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0753-7A7C-47F0-A222-20766FC0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06B1-6258-4FC2-8A28-7F6F3A7B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CE85-8BE3-4C30-B8D9-43568C54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E8A1-73C5-4F44-A333-CE805EF7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F1A8-B6F1-46E5-9A08-F9C4DD47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6E46-C4C8-4C8E-9C8F-0CA9164D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64E6-4C93-479D-96B3-829866C4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7521-6A1C-4FE9-88DC-011A54CBE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3421-A1DC-412E-9C27-77BDBA31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6ED8-5723-4525-AFD2-9FB3D705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GLORY" AND BEST ACTOR FOR "TRAININ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IE  WAH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62080" y="762120"/>
            <a:ext cx="6819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FROM "NEW KIDS ON THE BLOCK" NOW STARS ON TV'S "BLUE BLOO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O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IN "MAJOR PAYNE" AND "THE LAST BOY SC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YNE  W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AMI HEAT'S ALL-TIME LEADER IN GAMES, ASSISTS, STEALS, SHOTS TAKEN, AND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RA  W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AN OFFICER AND A GENTLEMAN", "TERMS OF ENDEARMENT", AND "SHADOWLA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WE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  AS SECRETARY OF STATE UNDER PRESIDENTS HARRISON, TYLER, AND YEARS LATER, FILM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GLORY" AND BEST ACTOR FOR "TRAININ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NE  WI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5 WOODY ALLEN FILMS, WINNING BEST SUPPORTING ACTRESS FOR "HANNAH AND HER SISTERS" &amp; "BULLETS OVER BROAD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FROM "NEW KIDS ON THE BLOCK" NOW STARS ON TV'S "BLUE BLOO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IN "MAJOR PAYNE" AND "THE LAST BOY SC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AMI HEAT'S ALL-TIME LEADER IN GAMES, ASSISTS, STEALS, SHOTS TAKEN, AND PO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AN OFFICER AND A GENTLEMAN", "TERMS OF ENDEARMENT", AND "SHADOWLA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  AS SECRETARY OF STATE UNDER PRESIDENTS HARRISON, TYLER, AND YEARS LATER, FILM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5 WOODY ALLEN FILMS, WINNING BEST SUPPORTING ACTRESS FOR "HANNAH AND HER SISTERS" &amp; "BULLETS OVER BROAD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8T21:51:05Z</dcterms:modified>
  <cp:revision>355</cp:revision>
  <dc:subject/>
  <dc:title>Slide 1</dc:title>
</cp:coreProperties>
</file>