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0AD-427C-4BB8-905B-C033CC488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8E18-8FF6-45D1-9CBD-E2714B80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E2E0-A077-4B83-B57A-AB6EFD8F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F71-2E6C-495B-9225-63361C41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16C8-FA92-45D4-ACB8-E47C8B9B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868-61E8-448F-B320-28609D65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205-C253-4D2A-8E4C-D6F3CAF9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B39-A717-4EFB-AB77-7EEFA2AB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E739-C491-4083-87A1-AC57C86E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D1F-1CBE-4C0F-98F1-EA11C291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6EE-C740-4A2D-83A0-85A1AD73F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570C-3B05-4AAA-B5AC-688260FAF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CCF-70BB-4081-8D15-E6A14354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3E81-952C-464F-96A8-9CB9EF57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F1C-6E60-44D0-B73F-C0325E8B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149D-8BB8-4EF2-AC19-8A532621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DF0-CE52-470C-9EAB-D5FCDA9B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9AE-4A72-4F42-9926-14539501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476-369B-4070-9C2F-BBA181A0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579-76C8-43B0-862C-633EFE80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9B2-1D6B-448C-8486-8AA13571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6253-3BDE-4687-8382-92F06345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FBE-34C5-4046-8965-8C17592B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IE  WAH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62080" y="762120"/>
            <a:ext cx="681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YNE  W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W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NE  W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8T21:51:05Z</dcterms:modified>
  <cp:revision>355</cp:revision>
  <dc:subject/>
  <dc:title>Slide 1</dc:title>
</cp:coreProperties>
</file>