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51FD-3A3F-4866-84E7-3CFDB85F0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6EB8-5986-4F39-B103-27E18A481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69FF-C1C0-4196-B74F-9FCE0E9C2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B451-9B95-42D4-A981-238D57560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977A-B7DC-4167-8E6F-3D0E7EE8E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748F-439C-4BBD-83BC-6602108C3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4726-221C-4403-9099-3743384D1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CE2C-C0B8-4172-B11D-009201C0E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316F-3262-4AA7-BC94-5DD03EB29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A14E-E038-40FD-BE81-FBFB6D8FD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E353-C653-4595-9B81-BAA31BA91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5E89-B7AE-4FEC-AFF5-7DCDE11FE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7FB1-659C-4A25-BD04-67376D25C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1C4E-09D0-442F-9204-4B3A7D4FA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D442-D431-4C0A-8ACA-211BDFB9A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DB69-8238-4066-945E-7BB9064D0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F5FD-8065-4FF0-98C4-EC69C9C0D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E4AE-CD4F-4599-894A-CA682738C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DA7C-9C0D-4EEB-990C-91D96F501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AB96-9337-4A13-B10B-B565E050B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CD9A-9E75-45EF-B6B1-B00233D82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6A58-44C1-4EB6-B870-3277AD847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24E1-83AF-449D-85FE-E0AAF6851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ER OF MODERN CHEMISTRY HAS THE LAW 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D FOR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HEISMAN TROPHY IN 2005, BUT BECAME THE ONLY WINNER TO FORFEIT HI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BRA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28680" y="762120"/>
            <a:ext cx="848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WNER OF VIRGIN ATLANTIC AIRLINES WAS TOLD BY HIS HEADMASTER THAT HE WOULD EITHER END UP IN PRISON OR BE A MILLIONA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90480" y="762120"/>
            <a:ext cx="7763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WIDELY CONSIDERED TO BE THE NATIONAL POET OF SCOT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O  BENIG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28600" y="762120"/>
            <a:ext cx="68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WON BEST ACTOR FOR THE 1997 FILM THAT HE ALSO WROTE AND DIR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538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BRADB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FAHRENHEIT 451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ANNE  B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A COMEDY SHOW NAMED AFTER HER 1988-1997, AND THE REVIVAL UNTIL  IT WAS CANCELED AFTER        SHE MADE A RACIST TW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B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V'S "BARETT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BU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ZABETH TAYLOR WAS MARRIED 8 TIMES, TWICE TO WHICH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WNER OF VIRGIN ATLANTIC AIRLINES WAS TOLD BY HIS HEADMASTER THAT HE WOULD EITHER END UP IN PRISON OR BE A MILLIONA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MOND  BU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3080" y="762120"/>
            <a:ext cx="719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ON "IRONSIDE" AND "PERRY MAS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BO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ER OF MODERN CHEMISTRY HAS THE LAW 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D FO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GGIE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HEISMAN TROPHY IN 2005, BUT BECAME THE ONLY WINNER TO FORFEIT HI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71400" y="761760"/>
            <a:ext cx="78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WIDELY CONSIDERED TO BE THE NATIONAL POET OF SCOT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28600" y="762120"/>
            <a:ext cx="68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WON BEST ACTOR FOR THE 1997 FILM THAT HE ALSO WROTE AND DIR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57040" y="762120"/>
            <a:ext cx="8629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FAHRENHEIT 451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A COMEDY SHOW NAMED AFTER HER 1988-1997, AND THE REVIVAL UNTIL IT WAS CANCELED AFTER     SHE MADE A RACIST TW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V'S "BARETT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ZABETH TAYLOR WAS MARRIED 8 TIMES, TWICE TO WHICH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ON "IRONSIDE" AND "PERRY MAS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8T21:52:06Z</dcterms:modified>
  <cp:revision>358</cp:revision>
  <dc:subject/>
  <dc:title>Slide 1</dc:title>
</cp:coreProperties>
</file>