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B1B2-35A8-4DB4-8178-49DA05366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292B-E3F1-4927-A282-2146E2DAE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8BA5-E8A4-4EC8-A7D2-520AA0699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10F2-7773-471A-A872-7C53A5AEA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22A8-6054-49ED-BA85-8670B81EC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1C7A-3316-4DA4-900C-1131BC754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86C4-9309-4F73-B6F7-023CD5852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0F68-A458-4188-B6EF-64A35D701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486A-B354-4457-B0E8-591121498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6FB-A910-4377-AA6D-52AD5C0AD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1C4A-B859-4DA7-992D-C9D43D2E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9E2B-F058-4B31-BE62-506658D1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262E-346E-46C5-BC56-70C443A45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2E33-3A9B-4EC1-86F1-237B3A9DF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DEC8-B0E2-4B32-8572-D0F8035EB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0702-AB2F-457A-BB46-6D32B3FEC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5288-BFE2-42E9-A26E-4836340A6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6A07-8795-4ADD-9619-099D437AB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0BB1-5902-4056-A5FE-2705CEDF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E132-84EF-4B3C-B1D8-EF43723FB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0EFD-FED9-4A5F-98BB-9E3F29CAB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220C-FB62-4ECD-A736-6D5184EC4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033A-AA6C-49D2-A7ED-7EF037B47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ER OF MODERN CHEMISTRY HAS THE LAW 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D FO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5, BUT BECAME THE ONLY WINNER TO FORFEIT HI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BR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28680" y="762120"/>
            <a:ext cx="848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WNER OF VIRGIN ATLANTIC AIRLINES WAS TOLD BY HIS HEADMASTER THAT HE WOULD EITHER END UP IN PRISON OR BE A MILLION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90480" y="762120"/>
            <a:ext cx="776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WIDELY CONSIDERED TO BE THE NATIONAL POET OF SCOT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O  BENIG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ON BEST ACTOR FOR THE 1997 FILM THAT HE ALSO WROTE AND DIR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538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BRADB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HRENHEIT 45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ANNE  B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 COMEDY SHOW NAMED AFTER HER 1988-1997, AND THE REVIVAL UNTIL  IT WAS CANCELED AFTER        SHE MADE A RACIST TW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B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V'S "BARETT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BU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8 TIMES, TWICE TO WHICH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WNER OF VIRGIN ATLANTIC AIRLINES WAS TOLD BY HIS HEADMASTER THAT HE WOULD EITHER END UP IN PRISON OR BE A MILLIONA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MOND  BU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3080" y="762120"/>
            <a:ext cx="719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ON "IRONSIDE" AND "PERRY MA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BO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ER OF MODERN CHEMISTRY HAS THE LAW 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D FO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GGI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5, BUT BECAME THE ONLY WINNER TO FORFEIT HI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WIDELY CONSIDERED TO BE THE NATIONAL POET OF SCOT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ON BEST ACTOR FOR THE 1997 FILM THAT HE ALSO WROTE AND DIR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HRENHEIT 45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 COMEDY SHOW NAMED AFTER HER 1988-1997, AND THE REVIVAL UNTIL IT WAS CANCELED AFTER     SHE MADE A RACIST TW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V'S "BARETT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8 TIMES, TWICE TO WHICH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ON "IRONSIDE" AND "PERRY MAS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8T21:52:06Z</dcterms:modified>
  <cp:revision>358</cp:revision>
  <dc:subject/>
  <dc:title>Slide 1</dc:title>
</cp:coreProperties>
</file>