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7321-984E-48AB-ABA4-1686E4897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C04A-48DC-4C7F-BF72-ED556F36B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5BFF-8855-41BE-8D57-C22C350EB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97405-A691-42FA-953F-24E365D4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EC67-FC38-4BDF-974C-6407A2B1B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CB2C-E9CA-4CF6-B2AC-08357DC28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8BD7-2832-4CDC-80D1-48B77256F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FBE4-D22E-4FFF-AEDB-3AD127B73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B88D-33C9-4478-BE8B-D7D74DD28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25F5-C57B-46CA-9DDC-2FF6676E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E652-C91E-4708-8E4F-E2C0AE0F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3AA3-AF23-411A-B1F0-93D0AA43F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1F23-BA1D-4294-9D71-E7DC4486E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525D-E902-4B13-A625-59C128EEA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3806-F13C-454B-95EA-201CF626E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0080-A7FF-4CE7-BC25-B3C6D21F8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216A-6710-4F72-95FE-2486F949F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B66A-4238-4B25-AEFD-0416D18FF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9648-A94A-4EDD-8985-243484DEF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5522-B6A6-45AD-91D0-ADEAAF78F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9A35-B2FF-4EC8-89D3-AFC808015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8D16-7D2A-40AE-9F83-B02EB013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948C-1846-433E-84EA-A1C963E8B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CHEMISTRY HAS THE LAW 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FO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5, BUT BECAME THE ONLY WINNER TO FORFEIT HI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BR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28680" y="762120"/>
            <a:ext cx="8485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WNER OF VIRGIN ATLANTIC AIRLINES WAS TOLD BY HIS HEADMASTER THAT HE WOULD EITHER END UP IN PRISON OR BE A M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ONSIDERED TO BE THE NATIONAL POET OF SCOT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O  BENIG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N BEST ACTOR FOR THE 1997 FILM THAT HE ALSO WROTE AND DIR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538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  BRADB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HRENHEIT 451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ANNE  BA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 COMEDY SHOW NAMED AFTER HER 1988-1997, AND THE REVIVAL UNTIL  IT WAS CANCELED AFTER        SHE MADE A RACIST TWE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BARETT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CHARD  BU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81200" y="762120"/>
            <a:ext cx="758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8 TIMES, TWICE TO WHICH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WNER OF VIRGIN ATLANTIC AIRLINES WAS TOLD BY HIS HEADMASTER THAT HE WOULD EITHER END UP IN PRISON OR BE A MILLIONA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YMOND  BU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73080" y="762120"/>
            <a:ext cx="719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ON "IRONSIDE" AND "PERRY MA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BOY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ER OF MODERN CHEMISTRY HAS THE LAW 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=P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AMED FO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GGI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HEISMAN TROPHY IN 2005, BUT BECAME THE ONLY WINNER TO FORFEIT HIS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71400" y="761760"/>
            <a:ext cx="7801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WIDELY CONSIDERED TO BE THE NATIONAL POET OF SCOT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128600" y="762120"/>
            <a:ext cx="68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TALIAN WON BEST ACTOR FOR THE 1997 FILM THAT HE ALSO WROTE AND DIREC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FAHRENHEIT 451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A COMEDY SHOW NAMED AFTER HER 1988-1997, AND THE REVIVAL UNTIL IT WAS CANCELED AFTER     SHE MADE A RACIST TWE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 IN TV'S "BARETT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8 TIMES, TWICE TO WHICH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ON "IRONSIDE" AND "PERRY MAS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8T21:52:06Z</dcterms:modified>
  <cp:revision>358</cp:revision>
  <dc:subject/>
  <dc:title>Slide 1</dc:title>
</cp:coreProperties>
</file>