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6E14-9A24-4F2E-B10B-6D0436CAE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0497-FC5C-4001-AA1F-7B30B61D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CECC-A7F2-45E7-8F28-E19056CA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EF55-228E-4996-A2AB-98047425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B21D-5B78-4BA8-B9FD-5DB71316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E0D-0282-4DB5-BF44-C9EC4167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5B7-9510-4B99-A42F-B7298AF3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6764-E332-41C8-A8EE-2A99D49D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4AE-5C39-4575-AB84-B190189D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A05-8B7A-40E5-BA8F-292AE69A9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EFB-8472-4418-8D66-9AFA81D8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2E28-3451-497D-90FF-097F740B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7F9-0F3A-4FCA-A315-E6355839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C16-DC0F-4926-8391-A1CFD1FB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55C-87A6-4C45-8DF4-463C0503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6E5-5BC9-4CA8-B7C7-6F160B2B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8867-616E-461B-A378-106E05C4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FCF-A0BC-414B-9527-00B5BC5B4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AB30-0E96-440D-BD8E-907F0031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EC5-CB24-4A1E-9A62-71BCA4BA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9B05-28E1-4A87-8DB6-74B12A5A1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2DC6-66CF-4A7A-A515-D942968B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64A-1C82-4FC5-A5AB-A61369751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SIDDHARTHA" AND "STEPPENWOLF" WON THE NOBEL PRIZE FOR LITERATURE IN 194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"THE PIANO" AND WAS NOMINATED FOR "BROADCAST NEWS", "THE FIRM", AND "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ERT  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THE GREAT DEPR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HEF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1160" y="762120"/>
            <a:ext cx="6781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LAYBOY"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ICIAN FAMOUS FOR HIS ESCAPE ACTS WAS BORN "ERIK WE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HUG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SINESSMAN AND PHILANTHROPIST FORMED AN AIRCRAFT COMPANY THAT BUILT THE "SPRUCE G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BERT  HUMPH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YNDON JOHNSON'S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LK  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RECOGNIZED WRESTLING STAR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HIG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MY FAIR LADY" WHAT PROFESSOR GAVE ELIZA DOOLITTLE LANGUAGE LES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THE GREAT DEPR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"MAD ABOUT YOU" FOR 7 SEASONS, AND WON AN OSCAR FOR BEST ACTRESS FOR "AS GOOD AS IT GE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N  H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SIDDHARTHA" AND "STEPPENWOLF" WON THE NOBEL PRIZE FOR LITERATURE IN 194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  HU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"THE PIANO" AND WAS NOMINATED FOR "BROADCAST NEWS", "THE FIRM", AND "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LAYBOY"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ICIAN FAMOUS FOR HIS ESCAPE ACTS WAS BORN "ERIK WE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SINESSMAN AND PHILANTHROPIST FORMED AN AIRCRAFT COMPANY THAT BUILT THE "SPRUCE GO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YNDON JOHNSON'S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RECOGNIZED WRESTLING STAR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MY FAIR LADY" WHAT PROFESSOR GAVE ELIZA DOOLITTLE LANGUAGE LES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"MAD ABOUT YOU" FOR 7 SEASONS, AND WON AN OSCAR FOR BEST ACTRESS FOR "AS GOOD AS IT GE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3:49:54Z</dcterms:modified>
  <cp:revision>340</cp:revision>
  <dc:subject/>
  <dc:title>Slide 1</dc:title>
</cp:coreProperties>
</file>