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9F46-A935-4C02-97AB-62A6C084F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08FE-A241-45FC-892C-BF2B9D8AD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2AB7-2D7C-49AA-9E1C-3B46251F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5D38-4AC7-4E5C-92A0-585BA17F1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EA0F-7463-4432-AC9C-0B9946C6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1BCD-E660-466D-A7D3-42E1C71C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1440-E6CD-4A59-9E92-C46A92830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C0E6-6BBB-4837-9CDB-6CEC69A3F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2FDF-FBD5-45E9-B05F-61C75C194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42BF-06F7-4EC6-9128-34573301F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C37D-62CC-4EF8-AA6C-847D419C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E6CB-D492-48A9-B929-FE5BC13FC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FB90-5EE8-44BB-ACC0-20FA36B21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B438-7D52-441D-9248-E1ABE2923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751E-DBB3-4834-B814-3B249E22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5DC2-AF32-4B44-BC60-740002AA8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4869-E953-4119-98F0-AED517838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9EA7-A0E1-4497-838B-F31FAEEB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1788-F9D0-43DD-B5E5-744C17766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A175-AFE4-4D2F-A054-8EE4500CE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C4B7-F66C-4575-B7A2-26E551F57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572F-D9AE-42CF-8216-8360C5A0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5B52-60D3-4350-8FC5-0A3079CEA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SIDDHARTHA" AND "STEPPENWOLF" WON THE NOBEL PRIZE FOR LITERATURE IN 194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"THE PIANO" AND WAS NOMINATED FOR "BROADCAST NEWS", "THE FIRM", AND "THIRT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BERT  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THE GREAT DEPR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HEF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81160" y="762120"/>
            <a:ext cx="6781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"PLAYBOY"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HOU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ICIAN FAMOUS FOR HIS ESCAPE ACTS WAS BORN "ERIK WEI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ARD  HUG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SINESSMAN AND PHILANTHROPIST FORMED AN AIRCRAFT COMPANY THAT BUILT THE "SPRUCE G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BERT  HUMPH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YNDON JOHNSON'S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LK  H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 RECOGNIZED WRESTLING STAR WORLD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HIG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MY FAIR LADY" WHAT PROFESSOR GAVE ELIZA DOOLITTLE LANGUAGE LES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DURING THE GREAT DEPR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FE ON "MAD ABOUT YOU" FOR 7 SEASONS, AND WON AN OSCAR FOR BEST ACTRESS FOR "AS GOOD AS IT GE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N  H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SIDDHARTHA" AND "STEPPENWOLF" WON THE NOBEL PRIZE FOR LITERATURE IN 194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  HU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"THE PIANO" AND WAS NOMINATED FOR "BROADCAST NEWS", "THE FIRM", AND "THIRT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"PLAYBOY"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ICIAN FAMOUS FOR HIS ESCAPE ACTS WAS BORN "ERIK WEI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SINESSMAN AND PHILANTHROPIST FORMED AN AIRCRAFT COMPANY THAT BUILT THE "SPRUCE GO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YNDON JOHNSON'S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 RECOGNIZED WRESTLING STAR WORLD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MY FAIR LADY" WHAT PROFESSOR GAVE ELIZA DOOLITTLE LANGUAGE LES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FE ON "MAD ABOUT YOU" FOR 7 SEASONS, AND WON AN OSCAR FOR BEST ACTRESS FOR "AS GOOD AS IT GE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3:49:54Z</dcterms:modified>
  <cp:revision>340</cp:revision>
  <dc:subject/>
  <dc:title>Slide 1</dc:title>
</cp:coreProperties>
</file>