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D2049-16F0-4B54-A6B5-5C115E9DF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E62E-3D58-4E41-884A-E38CAB08E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FF30-78B6-4374-BE3A-28F58B38F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9659-E1AE-43B9-AAAC-DECBD6C75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89D2-0C1D-4BA2-9A94-C14ABC69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FD8F-72D0-43BD-B164-8546F48E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20E4-D919-4FA2-AC05-A84F23B8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F71F-3647-489D-BD7B-4AFC602AF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2BF4-01FF-42BB-B789-6E54B173D5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B5E4-3206-4122-9688-5A1F1FF87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015E-ED15-4623-BF16-6B06AE307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7C83-4ECC-497C-9A30-2138D088B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5505-B25D-433A-8164-D004058D42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32DE2-E21E-471A-B148-7A6D2D486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22DC-7271-49AC-A8A6-0C2FA5256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19F8-B7F7-4F07-A3AF-76687688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8539-854B-444F-B07F-FE26F7579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2716-BE0E-486A-A638-AD0E1528B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43A6-8CD7-4504-9205-EC65D9C9A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22E5-5394-4667-B570-583156A1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6885-B434-4B1F-ABCB-03E1B0097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05E8-0782-4E71-9438-D353616E5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94E4-A3F2-4DE0-951B-319C0129F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YMPIC GOLD MEDALIST PLAYED TARZAN IN A DOZEN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AY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90440" y="762120"/>
            <a:ext cx="6934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'S BIRTH NAME WAS MARION ROBERT MORRI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19040" y="76212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THE "STAR WARS" AND "INDIANA JONES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S  WHED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TV SERIES "FIREFLY", "ANGEL", "BUFFY THE VAMPIRE SLAYER, AND "AGENTS OF S.H.I.E.L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ANNE  WOOD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RESS OSCAR AND GOLDEN GLOBE AWARD FOR "THE THREE FACES OF EV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VENTOR IMPROVED THE STEAM ENGINE, SPURRING THE INDUSTRIAL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WAL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990720" y="762120"/>
            <a:ext cx="71625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MOUS GUITAR SOLOS ON "HOTEL CALIFORNI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NATHAN  WIN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LEGEND VOICED PAPA SMURF IN "THE SMURF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'S BIRTH NAME WAS MARION ROBERT MORRI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62 NOBEL PRIZE FOR MEDICINE WITH FRANCIS CRICK AND MAURICE WILKI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WEISSMU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YMPIC GOLD MEDALIST PLAYED TARZAN IN A DOZEN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IS  WIN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95360" y="762120"/>
            <a:ext cx="8153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TAMPA BAY BUCCANEERS 2015-201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THE "STAR WARS" AND "INDIANA JONES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REATED THE TV SERIES "FIREFLY", "ANGEL", "BUFFY THE VAMPIRE SLAYER, AND "AGENTS OF S.H.I.E.L.D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 BEST ACTRESS OSCAR AND GOLDEN GLOBE AWARD FOR "THE THREE FACES OF EV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OTTISH INVENTOR IMPROVED THE STEAM ENGINE, SPURRING THE INDUSTRIAL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MOUS GUITAR SOLOS ON "HOTEL CALIFORNI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EDY LEGEND VOICED PAPA SMURF IN "THE SMURF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1962 NOBEL PRIZE FOR MEDICINE WITH FRANCIS CRICK  AND MAURICE WILKI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12-16T14:00:03Z</dcterms:modified>
  <cp:revision>342</cp:revision>
  <dc:subject/>
  <dc:title>Slide 1</dc:title>
</cp:coreProperties>
</file>