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DE96-538E-4700-B82C-6D6244F16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A84E-3ADA-46A5-86DD-C91D297B7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2569-42D7-431B-98A2-E6ADF7B50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2E9A-5B8E-4AC1-9A26-D349F5DD3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7CB0-3914-48E8-81BD-841D37921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58DB-3B4A-46A7-BD9D-647A12162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4FBF-072B-4954-8D15-84E40B975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AE76-B5D0-492F-98F2-531ECA2ED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D170-C369-4564-AF8F-9B386B063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1C41-4948-4454-98FF-09648918F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7052-0143-400A-926C-DFCFB182A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A689-EEFE-4BC7-8C79-65A4EE173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F34D-3549-4A8E-8693-5A74A22ED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4613-6BE8-4E2E-8560-EA846D807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D619-0F52-479C-A5A1-732460826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9050-3E39-4F5D-898B-FB4426CE2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063B-2FA6-48F4-95CC-739EFBF8E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8E62-7140-443C-96D7-DF7287E82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6D49-77CD-4D5E-8A8D-B8B67CCEB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794F-01C7-4FF7-B95D-709CEACDE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8984-408D-4805-958D-347D46C8F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2698-8664-46D5-9A08-E013F2196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9E48-4FDE-4CC8-AEE3-547752969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LYMPIC GOLD MEDALIST PLAYED TARZAN IN A DOZEN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QUARTERBACK FOR THE TAMPA BAY BUCCANEERS 2015-20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WAY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090440" y="762120"/>
            <a:ext cx="69343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'S BIRTH NAME WAS MARION ROBERT MORRI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WILLI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19040" y="762120"/>
            <a:ext cx="83059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FILM SCORES FOR THE "STAR WARS" AND "INDIANA JONES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SS  WHED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REATED THE TV SERIES "FIREFLY", "ANGEL", "BUFFY THE VAMPIRE SLAYER, AND "AGENTS OF S.H.I.E.L.D.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ANNE  WOOD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 BEST ACTRESS OSCAR AND GOLDEN GLOBE AWARD FOR "THE THREE FACES OF E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WA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OTTISH INVENTOR IMPROVED THE STEAM ENGINE, SPURRING THE INDUSTRIAL REVOLU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E  WAL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90720" y="762120"/>
            <a:ext cx="71625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FAMOUS GUITAR SOLOS ON "HOTEL CALIFORNI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NATHAN  WIN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Y LEGEND VOICED PAPA SMURF IN "THE SMURF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'S BIRTH NAME WAS MARION ROBERT MORRI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WAT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1962 NOBEL PRIZE FOR MEDICINE WITH FRANCIS CRICK AND MAURICE WILKI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NY  WEISSMU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38080" y="762120"/>
            <a:ext cx="74678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LYMPIC GOLD MEDALIST PLAYED TARZAN IN A DOZEN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IS  WINS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QUARTERBACK FOR THE TAMPA BAY BUCCANEERS 2015-20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FILM SCORES FOR THE "STAR WARS" AND "INDIANA JONES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REATED THE TV SERIES "FIREFLY", "ANGEL", "BUFFY THE VAMPIRE SLAYER, AND "AGENTS OF S.H.I.E.L.D.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 BEST ACTRESS OSCAR AND GOLDEN GLOBE AWARD FOR "THE THREE FACES OF E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OTTISH INVENTOR IMPROVED THE STEAM ENGINE, SPURRING THE INDUSTRIAL REVOLU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FAMOUS GUITAR SOLOS ON "HOTEL CALIFORNI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Y LEGEND VOICED PAPA SMURF IN "THE SMURF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1962 NOBEL PRIZE FOR MEDICINE WITH FRANCIS CRICK  AND MAURICE WILKI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0-12-16T14:00:03Z</dcterms:modified>
  <cp:revision>342</cp:revision>
  <dc:subject/>
  <dc:title>Slide 1</dc:title>
</cp:coreProperties>
</file>