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7CF9-65F6-4F94-92C9-F8701574C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F5EF-B543-4788-BF3F-C70BB6A13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BD06-16DF-42C9-A7D3-DB2B3BB86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4414-0528-44DB-9236-DB47C269D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8D44-F0AF-48A6-94BC-18E857CFD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3A0A-1F7D-42AB-9B43-7E2CC9989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7E81-D488-4787-8148-C8AB3BB3A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EE69-2549-4EC8-97B4-22DEEC1F3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E969-13A3-4DDC-A379-5B133B788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36E9-9448-480D-90FD-E57FDDC1D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2651-4C9C-407F-BE51-8BE415D9E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08A6-B9F7-4BC4-B2A6-71EA708EB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9E60-2B76-4500-A5A3-0C844E151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9A01-576C-4AB6-9797-95B8A884F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76BC-E236-4B1A-A3EA-B854573BF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1A19-22C5-4B70-9512-C5CFF1342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F141-7EF8-40AD-BCF7-54540D71A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50FD-A02B-44D8-9F76-2C2874DBA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8E53-B75E-4847-BAE8-C2926884E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1081-159B-4A87-95AE-CD57B539C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A396-09DF-458D-9441-DB21FC914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59AA-BD0F-4B6D-AA81-AF07A8C8B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61C3-BAF9-4841-9049-60B8530D5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COVERED AND DEVELOPED THE FIRST POLIO VACC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IFE OF HENRY VIII, AND THE ONLY ONE TO BE BURIED BESIDE HIM IN WINDSOR CAS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STEINB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82480" y="762120"/>
            <a:ext cx="7977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EAST OF ED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PH  STA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19040" y="762120"/>
            <a:ext cx="8305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ED THE SOVIET UNION FROM 1922 TO 195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SON  SUDEIK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9996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ARRED IN "HALL PASS", "WE'RE THE MILLERS", "MOTHER'S DAY", AND THE "HORRIBLE BOSSE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SP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38120" y="762120"/>
            <a:ext cx="826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EARNED 2 GOLDEN GLOBE NOMINATIONS FOR PLAYING A CRIMINAL-TURNED-INFORMANT ON "BLACKLI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STEW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33520" y="83808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NOMINATED FOR 5 OSCARS WAS A BRIGADIER GENERAL IN THE AIR FORCE RESER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  STEW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23960" y="762120"/>
            <a:ext cx="7696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"THE DAILY SHOW" FROM 1999 TO 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RY  SEINF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REATOR   AND HOST OF THE WEB SERIES "COMEDIANS IN CARS GETTING COFFE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EAST OF ED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ATHAN 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61960" y="762120"/>
            <a:ext cx="8020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REGARDED BY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ENCYCLOPÆDIA BRITANNIC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S THE FOREMOST PROSE SATIRIST IN THE ENGLISH LANGU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AS  S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8080" y="762120"/>
            <a:ext cx="74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COVERED AND DEVELOPED THE FIRST POLIO VACC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SEYM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IFE OF HENRY VIII, AND THE ONLY ONE TO BE BURIED BESIDE HIM IN WINDSOR CAS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ED THE SOVIET UNION FROM 1922 TO 195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9996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ARRED IN "HALL PASS", "WE'RE THE MILLERS", "MOTHER'S DAY", AND THE "HORRIBLE BOSSE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EARNED 2 GOLDEN GLOBE NOMINATIONS FOR PLAYING A CRIMINAL-TURNED-INFORMANT ON "BLACKLI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NOMINATED FOR 5 OSCARS WAS A BRIGADIER GENERAL IN THE AIR FORCE RESER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"THE DAILY SHOW" FROM 1999 TO 20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REATOR   AND HOST OF THE WEB SERIES "COMEDIANS IN CARS GETTING COFFE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REGARDED BY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ENCYCLOPÆDIA BRITANNIC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S THE FOREMOST PROSE SATIRIST IN THE ENGLISH LANGU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12-16T14:01:44Z</dcterms:modified>
  <cp:revision>347</cp:revision>
  <dc:subject/>
  <dc:title>Slide 1</dc:title>
</cp:coreProperties>
</file>