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10C-1DF7-4DB6-97EA-56B9D82CF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CED0-5B94-40A1-9DC6-BD5F5F2C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A70B-F454-4A40-B910-AC375D50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C3C3-4A6F-4022-B6F8-056DFE6E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347E-D218-432C-B7F2-D5BE62E6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4B3-3F24-4BD1-B1EA-8CC94A54F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B18A-9A6B-4ED8-8FC1-8ABD5967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B476-2713-40A1-9D7C-E34EB6290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D60-FE51-4666-A7E8-3195D8E06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4F8-A614-4CAE-B360-95DBD162E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120B-5B3D-4034-A81D-B9D385B1B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0881-19B9-4F7C-965D-8EDFA613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B36B-97EA-4068-AE13-458D21225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AA2C-5404-4757-80E3-9241A0C9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1EC6-BA1A-4409-94F9-9AB2BDF5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7F25-CE10-48CC-A67B-297E393DB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3D8B-5C68-4BC8-A518-4D768223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0B3E5-F6C8-4805-8F04-0D8E22528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5696-822C-4F16-BCC5-76C7186FC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7A15-6AA1-4D57-A58A-43259EFA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0ACB-FED2-4421-B770-3A4B1B81D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4829-9A2E-4C30-80FA-7DA57CF64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63A-0AB8-4F02-8E22-9AA8EC3C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AND DEVELOPED THE FIRST POLIO VACC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F HENRY VIII, AND THE ONLY ONE TO BE BURIED BESIDE HIM IN WINDSOR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EIN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82480" y="762120"/>
            <a:ext cx="7977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EAST OF ED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22 TO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SUDEIK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HALL PASS", "WE'RE THE MILLERS", "MOTHER'S DAY", AND THE "HORRIBLE BOSS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SP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EARNED 2 GOLDEN GLOBE NOMINATIONS FOR PLAYING A CRIMINAL-TURNED-INFORMANT ON "BLACK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838080"/>
            <a:ext cx="8076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5 OSCARS WAS A BRIGADIER GENERAL IN THE AIR FORCE RESER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DAILY SHOW" FROM 1999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SEINF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REATOR   AND HOST OF THE WEB SERIES "COMEDIANS IN CARS GETTING COFF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EAST OF ED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1960" y="762120"/>
            <a:ext cx="8020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GARDED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CYCLOPÆDIA BRITANNIC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FOREMOST PROSE SATIRIST IN THE ENGLISH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S  S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AND DEVELOPED THE FIRST POLIO VACC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SEYM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F HENRY VIII, AND THE ONLY ONE TO BE BURIED BESIDE HIM IN WINDSOR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22 TO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IN "HALL PASS", "WE'RE THE MILLERS", "MOTHER'S DAY", AND THE "HORRIBLE BOSS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EARNED 2 GOLDEN GLOBE NOMINATIONS FOR PLAYING A CRIMINAL-TURNED-INFORMANT ON "BLACK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5 OSCARS WAS A BRIGADIER GENERAL IN THE AIR FORCE RESER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DAILY SHOW" FROM 1999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REATOR   AND HOST OF THE WEB SERIES "COMEDIANS IN CARS GETTING COFF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GARDED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NCYCLOPÆDIA BRITANNIC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FOREMOST PROSE SATIRIST IN THE ENGLISH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1:44Z</dcterms:modified>
  <cp:revision>347</cp:revision>
  <dc:subject/>
  <dc:title>Slide 1</dc:title>
</cp:coreProperties>
</file>