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18C5-656F-4191-B987-4EA70A03D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E00A-1841-46E0-A6E3-AE2C9DBEE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1B0A-C933-4F2D-8E64-B48AFCBA0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20CC-9C54-4189-8F29-172C16E32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44D2-1F48-49B2-A6C5-2E613F385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B822-F852-46EB-AEFF-6281601E9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4FEA-AD38-440D-811F-0B5858F41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1BCB-8CD7-4ED5-8B60-F3D2E843A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767D-B65D-4351-9EC2-AD0F0ADBC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6D6F-C70F-4E58-BBC9-C74A62A92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89D8-A47C-4F6D-8952-2C32EF45D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FAD9-31BC-4068-8D63-F2F67D10E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2290-76C1-4265-A6BF-B511D9E73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8288-DA6F-433F-AD7C-28829C2D4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BDFF-9126-442B-AFE8-AF87348E2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2642-60E2-4D7C-B421-A4E2219DB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6CC1-FD06-4E41-B875-9611AC5E4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AC9C-593F-4D15-956A-DC9BCE01A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0975-F6C0-42C3-A18B-5BA827519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AA74-1FEB-4060-AFA6-EA25777AA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0194-C670-4B08-8472-C856C9513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F232-8495-464C-BC18-AA8CFE667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AA93-10E9-48ED-BAF4-46BDC3038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AND DEVELOPED THE FIRST POLIO VACC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FE OF HENRY VIII, AND THE ONLY ONE TO BE BURIED BESIDE HIM IN WINDSOR CAS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STEINB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82480" y="762120"/>
            <a:ext cx="7977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EAST OF ED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ST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19040" y="76212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SOVIET UNION FROM 1922 TO 195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SON  SUDEIK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ARRED IN "HALL PASS", "WE'RE THE MILLERS", "MOTHER'S DAY", AND THE "HORRIBLE BOSSE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SP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EARNED 2 GOLDEN GLOBE NOMINATIONS FOR PLAYING A CRIMINAL-TURNED-INFORMANT ON "BLACKL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83808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NOMINATED FOR 5 OSCARS WAS A BRIGADIER GENERAL IN THE AIR FORCE RESER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23960" y="762120"/>
            <a:ext cx="7696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THE DAILY SHOW" FROM 1999 TO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SEINF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REATOR   AND HOST OF THE WEB SERIES "COMEDIANS IN CARS GETTING COFF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EAST OF ED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THAN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61960" y="762120"/>
            <a:ext cx="8020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REGARDED BY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NCYCLOPÆDIA BRITANNIC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 THE FOREMOST PROSE SATIRIST IN THE ENGLISH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S  S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AND DEVELOPED THE FIRST POLIO VACC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SEYM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FE OF HENRY VIII, AND THE ONLY ONE TO BE BURIED BESIDE HIM IN WINDSOR CAS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SOVIET UNION FROM 1922 TO 195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ARRED IN "HALL PASS", "WE'RE THE MILLERS", "MOTHER'S DAY", AND THE "HORRIBLE BOSSE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EARNED 2 GOLDEN GLOBE NOMINATIONS FOR PLAYING A CRIMINAL-TURNED-INFORMANT ON "BLACKLI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NOMINATED FOR 5 OSCARS WAS A BRIGADIER GENERAL IN THE AIR FORCE RESER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THE DAILY SHOW" FROM 1999 TO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REATOR   AND HOST OF THE WEB SERIES "COMEDIANS IN CARS GETTING COFF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REGARDED BY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NCYCLOPÆDIA BRITANNIC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 THE FOREMOST PROSE SATIRIST IN THE ENGLISH LANGU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12-16T14:01:44Z</dcterms:modified>
  <cp:revision>347</cp:revision>
  <dc:subject/>
  <dc:title>Slide 1</dc:title>
</cp:coreProperties>
</file>