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F899-6E22-48AC-84DE-05C8C71C3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97BE3-4F9B-4C91-8F7D-EEA9A002C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C8A1-DC7D-460C-9773-C240B64E7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B147-55D0-4D94-B24D-7622253C0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175F-B5A2-4900-AD9F-D8AB2F3A7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F41D-D049-42AF-830C-81C70DE34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5F74-501E-45F9-8A52-ACF7B8FC2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D248-36EE-4882-AE05-ECBB60C0A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36ADA-2BAC-4BB7-8C05-022EA2406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FCEA-6E68-40C9-BB13-907D09838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06A5-4108-4590-9B01-BB255FBB6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2587-4ED5-46F4-8809-785AF72AD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54EB-2600-42D5-911C-55E4EC03C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D444-D928-4EBA-B163-910CB0CD8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58C2-14CF-4606-85BC-37B1BA6EA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EF2E-2041-4589-9682-14BC3BBEA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CC1A-A42B-4A08-8F10-EAB8BB835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2909-3679-440B-A248-CC62F87E8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57DE-2D36-4A27-A09E-F9AD8DB35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7A31-3A07-47B3-9E88-55BA1535E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D8760-1DC4-405D-B82B-D77F41358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CF30-0BA7-4400-83C1-1D07FF75E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6319B-D9EF-4A9A-8E77-AB32E0D3D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PAINTER WAS A FRIEND AND CONTEMPORARY OF PICASSO, AND IS KNOWN FOR HIS USE OF COL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BLACK SPRING", "TROPIC OF CAPRICORN",  AND "TROPIC OF CANC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Y  MANCI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22480" y="762120"/>
            <a:ext cx="6933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THE PINK PANTHER THE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RMAN  MELVI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5888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MOBY DI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EN  MIR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PLAYING QUEEN ELIZABETH II IN "THE QUE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NAH  MONT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TV SERIES DID MILEY CYRUS PLAY A SCHOOLGIRL BY DAY AND RECORDING ARTIST BY N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IE  MAN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WAS THE HOST OF THE GAME SHOW "DEAL OR NO DE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SNI  MUBAR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ESIDENT OF EGYPT FROM 1981 TO 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PO  MAR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LESS VERBAL THAN HIS COMEDIC BROTHERS GROUCHO AND CH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THE PINK PANTHER THE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Y  MOR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447920" y="762120"/>
            <a:ext cx="6248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OLONEL SHERMAN POTTER  ON TV'S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I  MATI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ENCH PAINTER WAS A FRIEND AND CONTEMPORARY OF PICASSO, AND IS KNOWN FOR HIS USE OF COL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NRY  MI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BLACK SPRING", "TROPIC OF CAPRICORN", AND "TROPIC OF CANC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MOBY DI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PLAYING QUEEN ELIZABETH II IN "THE QUE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TV SERIES DID MILEY CYRUS PLAY A SCHOOLGIRL BY DAY AND RECORDING ARTIST BY N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23960"/>
            <a:ext cx="73915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WAS THE HOST OF THE GAME SHOW "DEAL OR NO DE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RESIDENT OF EGYPT FROM 1981 TO 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LESS VERBAL THAN HIS COMEDIC BROTHERS GROUCHO AND CHI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COLONEL SHERMAN POTTER   ON TV'S "M*A*S*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7:26:16Z</dcterms:created>
  <dc:creator>Jennifer Budzinski</dc:creator>
  <dc:description/>
  <dc:language>en-US</dc:language>
  <cp:lastModifiedBy>Erich Friedman</cp:lastModifiedBy>
  <dcterms:modified xsi:type="dcterms:W3CDTF">2020-08-23T21:59:42Z</dcterms:modified>
  <cp:revision>318</cp:revision>
  <dc:subject/>
  <dc:title>Slide 1</dc:title>
</cp:coreProperties>
</file>