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90DA-3538-4549-A0C4-52186B664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7439-BA66-4EEC-BBD0-BD9D7DBB6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6000-98F1-4163-B82B-A55558471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D3FC-B2FF-4F28-B52E-9887C706C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577C-FA3F-4145-9FFA-589394627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3C3F-C40C-41B1-8355-806CE7E96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94BB-DF04-4124-BB0F-C834B6F2B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8681-EE4E-40D4-87DA-A2E5E93BE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BDF0-90C1-41DB-A027-2E84C5468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1C79-5772-4CF6-AEEF-858E8F16D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B9D7-7923-415C-8728-B36D0BAB7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037E-9996-4D47-B11E-2444A5AF3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4D41-6A02-438F-A166-0D4E5E82C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9E7E-275A-4D0C-B178-49409F371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F285-EA30-48F9-A251-1BCD24E43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F13D-4B1D-4AF2-991F-E96137532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0A60-6A33-4191-BA56-1E0A96939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6B24-533E-4773-8F8B-6EB3DEE98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95C4-A564-4F58-8C71-281872284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F49E-024D-462D-AB37-665057E39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AA51-BCDD-4A24-A905-B52F4330A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4026-FACE-43D8-82AA-36921691D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55E9-7FCA-49C5-8086-9A84DD25B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PAINTER WAS A FRIEND AND CONTEMPORARY OF PICASSO, AND IS KNOWN FOR HIS USE OF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BLACK SPRING", "TROPIC OF CAPRICORN",  AND "TROPIC OF CANC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MANC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22480" y="762120"/>
            <a:ext cx="6933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PINK PANTHER TH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MAN  MELV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588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MOBY DI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MIR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QUEEN ELIZABETH II IN "THE QU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NAH  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V SERIES DID MILEY CYRUS PLAY A SCHOOLGIRL BY DAY AND RECORDING ARTIST BY N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IE  MA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WAS THE HOST OF THE GAME SHOW "DEAL OR NO DE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SNI  MUBAR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EGYPT FROM 1981 TO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PO  M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ESS VERBAL THAN HIS COMEDIC BROTHERS GROUCHO AND CH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PINK PANTHER THE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47920" y="762120"/>
            <a:ext cx="6248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ONEL SHERMAN POTTER  ON TV'S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I  MATI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PAINTER WAS A FRIEND AND CONTEMPORARY OF PICASSO, AND IS KNOWN FOR HIS USE OF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M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BLACK SPRING", "TROPIC OF CAPRICORN", AND "TROPIC OF CANC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MOBY DI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QUEEN ELIZABETH II IN "THE QU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V SERIES DID MILEY CYRUS PLAY A SCHOOLGIRL BY DAY AND RECORDING ARTIST BY N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2396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WAS THE HOST OF THE GAME SHOW "DEAL OR NO DE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EGYPT FROM 1981 TO 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ESS VERBAL THAN HIS COMEDIC BROTHERS GROUCHO AND CHI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ONEL SHERMAN POTTER   ON TV'S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7:26:16Z</dcterms:created>
  <dc:creator>Jennifer Budzinski</dc:creator>
  <dc:description/>
  <dc:language>en-US</dc:language>
  <cp:lastModifiedBy>Erich Friedman</cp:lastModifiedBy>
  <dcterms:modified xsi:type="dcterms:W3CDTF">2020-08-23T21:59:42Z</dcterms:modified>
  <cp:revision>318</cp:revision>
  <dc:subject/>
  <dc:title>Slide 1</dc:title>
</cp:coreProperties>
</file>