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9E874-16CB-49D2-9F04-B1C90F7608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14E22-88D9-4DC8-80BC-329DD80F3C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389E3-9F57-4FE7-8842-32AF8381E5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068C1-6744-4C7A-BF20-EB58092FDA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83C4E-04F3-4A9D-91AF-7C5AC88C6C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C46F8-2259-43EA-B8DF-3B7F1AE6FF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727E5-406E-47F6-AEF0-627148F337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4C8FD-3FC8-4C45-ADE4-11B4ED485D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22B00-938B-4C9A-80CD-B4FB399C32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DC27D-B55B-48E7-9DE7-93589CC79C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F7D9F-8C17-4CBB-A088-1BBBA1433D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7347A-CB58-451B-8E04-391CA67BD0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6DCBB-CF76-43DB-A328-DB9BD14613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4EEFA-CBAD-47F1-B520-7EC876F601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76BE3-0D16-4E01-ABBA-4F6A548B71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C2D22-2320-4216-9E85-45E738A88C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3E370-F344-4E6C-B103-B6219CBBFF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E9AE9-A0CC-4341-ADD0-16EE8A98E5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B9BF0-0C84-4734-ADF3-9370085C51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C0861-1C3D-4F9E-8515-EE3B79C7F1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F0CC8-2673-4EA8-9148-B4AA03FCC3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42852-6557-4392-92E9-66C647081E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BD894-5DE3-49A2-8AA8-79F12E5826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799920" y="152388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AME INITI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RENCH PAINTER WAS A FRIEND AND CONTEMPORARY OF PICASSO, AND IS KNOWN FOR HIS USE OF COLO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ROTE "BLACK SPRING", "TROPIC OF CAPRICORN",  AND "TROPIC OF CANCER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ENRY  MANCIN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1122480" y="762120"/>
            <a:ext cx="693396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COMPOSED THE PINK PANTHER THE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ERMAN  MELVIL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685800" y="758880"/>
            <a:ext cx="77724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ROTE "MOBY DICK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ELEN  MIRR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495360" y="762120"/>
            <a:ext cx="81532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BEST ACTRESS FOR PLAYING QUEEN ELIZABETH II IN "THE QUEE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76920"/>
            <a:ext cx="8458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ANNAH  MONTAN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571680" y="762120"/>
            <a:ext cx="8001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TV SERIES DID MILEY CYRUS PLAY A SCHOOLGIRL BY DAY AND RECORDING ARTIST BY NIGH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53352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OWIE  MAND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914400" y="762120"/>
            <a:ext cx="73152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MIC WAS THE HOST OF THE GAME SHOW "DEAL OR NO DEAL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OSNI  MUBARA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609480" y="762120"/>
            <a:ext cx="792504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PRESIDENT OF EGYPT FROM 1981 TO 2011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ARPO  MAR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647640" y="762120"/>
            <a:ext cx="78487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LESS VERBAL THAN HIS COMEDIC BROTHERS GROUCHO AND CHIC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762120" y="762120"/>
            <a:ext cx="76197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COMPOSED THE PINK PANTHER THEM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ARRY  MORG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1447920" y="762120"/>
            <a:ext cx="624816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COLONEL SHERMAN POTTER  ON TV'S "M*A*S*H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ENRI  MATIS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495360" y="762120"/>
            <a:ext cx="815328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RENCH PAINTER WAS A FRIEND AND CONTEMPORARY OF PICASSO, AND IS KNOWN FOR HIS USE OF COLO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ENRY  MILL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ROTE "BLACK SPRING", "TROPIC OF CAPRICORN", AND "TROPIC OF CANCER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ROTE "MOBY DICK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495360" y="762120"/>
            <a:ext cx="81532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BEST ACTRESS FOR PLAYING QUEEN ELIZABETH II IN "THE QUEE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TV SERIES DID MILEY CYRUS PLAY A SCHOOLGIRL BY DAY AND RECORDING ARTIST BY NIGH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876240" y="723960"/>
            <a:ext cx="73915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MIC WAS THE HOST OF THE GAME SHOW "DEAL OR NO DEAL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647640" y="761760"/>
            <a:ext cx="78487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PRESIDENT OF EGYPT FROM 1981 TO 2011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609480" y="761760"/>
            <a:ext cx="79250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LESS VERBAL THAN HIS COMEDIC BROTHERS GROUCHO AND CHICO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1371600" y="761760"/>
            <a:ext cx="64008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COLONEL SHERMAN POTTER   ON TV'S "M*A*S*H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17T17:26:16Z</dcterms:created>
  <dc:creator>Jennifer Budzinski</dc:creator>
  <dc:description/>
  <dc:language>en-US</dc:language>
  <cp:lastModifiedBy>Erich Friedman</cp:lastModifiedBy>
  <dcterms:modified xsi:type="dcterms:W3CDTF">2020-08-23T21:59:42Z</dcterms:modified>
  <cp:revision>318</cp:revision>
  <dc:subject/>
  <dc:title>Slide 1</dc:title>
</cp:coreProperties>
</file>