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2E8E-6018-4F85-A2C8-A5FD1414D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0A3A-1857-4210-B11D-D36E31379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FB07-3CDB-4C65-A1AF-04855041D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05F1-91A8-4010-BB16-195813F35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D14C-9B18-4173-94F3-1A6AA7969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B635-BC63-458B-BC61-09B227E1D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E1C3-C73D-4930-9E37-6D400AEBE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B80F-DC2F-4E84-8A69-48512E09A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4262-4183-4989-9DF3-77B3F28E4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185E-BE97-4D51-BF4E-8F11567E8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6F40-44A1-462E-99E4-3A681F63A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81EC-0EB3-40F3-BEC3-97B3399B8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D8F3-4567-4DF4-A0CA-AD331EC66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0130-2662-4D07-A616-59BC88C38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C004-7A11-4980-81F2-25712557A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795B-F17D-4E92-A976-A7DC09F1F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D96D-178C-4BEA-93A2-D40F30512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3CE3-CF05-4296-8C7F-2F5A150C7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EC00-9E1E-4391-876C-692A52E4D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7999-1DB2-42BE-A4E7-9522A5CFA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76AD-25B7-43DE-8B55-26A4B91E2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60B3-345C-4365-AE28-2E0A7E005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40B8-71A3-4006-BE20-3DE19B211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9960" y="762120"/>
            <a:ext cx="8344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HIS "PERSON-CENTERED THERAPY", WHO IS CONSIDERED TO BE THE 2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MOST EMINENT CLINICAL PSYCHOLOGIST OF THE 20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ENTURY, AFTER FREU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19200" y="762120"/>
            <a:ext cx="7905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PLAYER KNOWN AS "THE IRON MAN"  HOLDS THE RECORD FOR CONSECUTIVE GAMES PLAYED (2632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ISTIANO  RONAL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38160" y="762120"/>
            <a:ext cx="7265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ESPN, WHAT PORTUGUESE SOCCER PLAYER WAS THE WORLD'S MOST FAMOUS ATHLETE 2016-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  R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71480" y="762120"/>
            <a:ext cx="7601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NL" COMIC STARRED IN THE FILMS "TOP FIVE", "DOWN TO EARTH", AND "HEAD OF STA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DOLEEZZA  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06480" y="762120"/>
            <a:ext cx="73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WOMAN AND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FRICAN-AMERICAN TO SERVE AS SECRETARY OF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OPHER  REE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31920" y="762120"/>
            <a:ext cx="8480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UPERMAN IN 4 FILMS IN THE 70'S AND 8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INA  RIC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THE OPPOSITE OF SEX", "CASPER", "PUMPKIN",  AND "PROZAC  NA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UDE  R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28560" y="762120"/>
            <a:ext cx="7886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WAS NOMINATED FOR BEST SUPPORTING ACTOR FOR "MR. SMITH GOES TO WASHINGTON", "CASABLANCA", "NOTORIOUS", AND "MR. SKEFFINGTON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SAR  ROM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61920" y="762120"/>
            <a:ext cx="7220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JOKER ON TV'S "BAT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ESPN, WHAT PORTUGUESE SOCCER PLAYER WAS THE WORLD'S MOST FAMOUS ATHLETE 2016-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IFF  ROBERT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63680" y="762120"/>
            <a:ext cx="82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FOR BEST ACTOR FOR "CHAR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L  RO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57200" y="762120"/>
            <a:ext cx="8229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HIS "PERSON-CENTERED THERAPY", WHO IS CONSIDERED TO BE THE 2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MOST EMINENT CLINICAL PSYCHOLOGIST OF THE 20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ENTURY, AFTER FREU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L  RIPKIN  J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28560" y="762120"/>
            <a:ext cx="7886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PLAYER KNOWN AS "THE IRON MAN"  HOLDS THE RECORD FOR CONSECUTIVE GAMES PLAYED (2632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71480" y="761760"/>
            <a:ext cx="7601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NL" COMIC STARRED IN THE FILMS "TOP FIVE", "DOWN TO EARTH", AND "HEAD OF STAT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06480" y="762120"/>
            <a:ext cx="73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WOMAN AND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FRICAN-AMERICAN TO SERVE AS SECRETARY OF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7040" y="762120"/>
            <a:ext cx="8629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UPERMAN IN 4 FILMS IN THE 70'S AND 8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THE OPPOSITE OF SEX", "CASPER", "PUMPKIN",   AND "PROZAC  NA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WAS NOMINATED FOR BEST SUPPORTING ACTOR FOR "MR. SMITH GOES TO WASHINGTON", "CASABLANCA", "NOTORIOUS", AND "MR. SKEFFINGTON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47600" y="761760"/>
            <a:ext cx="7048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JOKER ON TV'S "BAT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FOR BEST ACTOR FOR "CHARL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12-16T14:11:43Z</dcterms:modified>
  <cp:revision>357</cp:revision>
  <dc:subject/>
  <dc:title>Slide 1</dc:title>
</cp:coreProperties>
</file>