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7F6E-DBB3-49C5-9D5B-399176F02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428D-D5BF-425B-A235-752C42CC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AE33-C202-436B-AFB2-55120AE35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D586-45A3-4849-9E9B-683C07F2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D05-EAA1-4F83-865B-5A41A5F5DF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CE98-A3B9-4C1C-8483-368372E8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34F47-DCF5-4DEA-ADF3-0B6F7B80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3B26-908A-4B2F-90A9-23A18361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9793-9CBD-4861-98EB-ED8A8CF09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FDD1-9281-465C-808D-EC5B9A1FA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2D2A-394B-4C2B-ADFD-153FC10B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439C-6E7F-4756-AB23-D5FD6BDAD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D6D6-1D70-4B53-B8BC-AE70BD737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309BD-9772-44EA-AAA2-F2CAB8CB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2E98-7528-4C3B-A8FE-BE7C4530D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C237-4188-4E87-9B9E-ABF40B0BA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8592-FA44-4A8D-B7F8-82A48AFE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18CB-8030-4B12-A3F9-0931CE2F1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CC45C-473F-44F9-B18D-894F52F7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3058-BDA4-440B-A8F1-2DC84D1D9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C1A0-191F-40E7-A223-86A4BBFE3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505F-23B2-45C1-9159-C1DDF52892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D698-7340-48B0-BE56-267E9E6EB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9960" y="762120"/>
            <a:ext cx="834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"PERSON-CENTERED THERAPY", WHO IS CONSIDERED TO BE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ST EMINENT CLINICAL PSYCHOLOGIST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FTER FREU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9200" y="762120"/>
            <a:ext cx="7905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KNOWN AS "THE IRON MAN"  HOLDS THE RECORD FOR CONSECUTIVE GAMES PLAYED (263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ISTIANO  RONAL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38160" y="762120"/>
            <a:ext cx="72658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SPN, WHAT PORTUGUESE SOCCER PLAYER WAS THE WORLD'S MOST FAMOUS ATHLETE 2016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71480" y="762120"/>
            <a:ext cx="7601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STARRED IN THE FILMS "TOP FIVE", "DOWN TO EARTH", AND "HEAD OF STAT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DOLEEZZA  R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WOMAN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SERVE AS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REE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4 FILMS IN THE 70'S AND 8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A  RI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OPPOSITE OF SEX", "CASPER", "PUMPKIN",  AND "PROZAC  N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UDE  R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28560" y="762120"/>
            <a:ext cx="78868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NOMINATED FOR BEST SUPPORTING ACTOR FOR "MR. SMITH GOES TO WASHINGTON", "CASABLANCA", "NOTORIOUS", AND "MR. SKEFFINGTON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AR  ROM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61920" y="762120"/>
            <a:ext cx="722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ON TV'S "BAT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ESPN, WHAT PORTUGUESE SOCCER PLAYER WAS THE WORLD'S MOST FAMOUS ATHLETE 2016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IFF  ROBER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63680" y="762120"/>
            <a:ext cx="82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CHARL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 HIS "PERSON-CENTERED THERAPY", WHO IS CONSIDERED TO BE THE 2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ST EMINENT CLINICAL PSYCHOLOGIST OF THE 20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CENTURY, AFTER FREU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L  RIPKIN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28560" y="762120"/>
            <a:ext cx="7886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LB PLAYER KNOWN AS "THE IRON MAN"  HOLDS THE RECORD FOR CONSECUTIVE GAMES PLAYED (263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SNL" COMIC STARRED IN THE FILMS "TOP FIVE", "DOWN TO EARTH", AND "HEAD OF STAT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06480" y="762120"/>
            <a:ext cx="73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WOMAN AND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FRICAN-AMERICAN TO SERVE AS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57040" y="762120"/>
            <a:ext cx="8629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UPERMAN IN 4 FILMS IN THE 70'S AND 8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STARRED IN "THE OPPOSITE OF SEX", "CASPER", "PUMPKIN",   AND "PROZAC  N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WAS NOMINATED FOR BEST SUPPORTING ACTOR FOR "MR. SMITH GOES TO WASHINGTON", "CASABLANCA", "NOTORIOUS", AND "MR. SKEFFINGTON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47600" y="761760"/>
            <a:ext cx="7048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JOKER ON TV'S "BAT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OR FOR "CHARL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11:43Z</dcterms:modified>
  <cp:revision>357</cp:revision>
  <dc:subject/>
  <dc:title>Slide 1</dc:title>
</cp:coreProperties>
</file>