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541D-7824-47D9-A77E-C88DD7A90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39F6-7D6C-4257-A113-E2F5E58BA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C8BE-DCB3-4E34-8A18-5F840C1FC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4E2A-E6DC-4C10-9FE8-58429A90E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45B1-EDAA-43CB-B159-E55B03303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2F12-1161-4FC9-BAFF-E59A4AC4C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D0CC-DA2E-4A66-A4EE-388055DD0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BF00-A69E-4B0C-9CBC-6CE00B813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E56E-ADA8-4202-91DB-0DBE2EDA4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6B0F-E3B7-4B9C-A2E9-19A8C8144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C1FD-4BFC-4C36-8B93-384929E0B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481D-ABBB-49CB-BCDB-4FEDC1B53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9F03-B0E6-42EB-9B4D-881F53E01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D45E-0FC3-4FFF-883F-A57A03A83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344E-9C4B-4EEB-8602-03B50421B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EDEF-5846-48AB-AAE3-37AAF52A0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5472-9437-4578-9793-301ACD7B7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A7D2-8267-4DC5-BA0A-A9B6804C0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F9B7-5B6B-4DC4-9C87-E9DB36EDB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A6B5-A28F-4548-B227-C1C2E3A96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5F8F-3C2E-4689-A9F5-565277AB4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BF6F-9287-46D8-B95A-B4A780115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924B-7DCD-4AE0-BCC8-516E96120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2360" y="761760"/>
            <a:ext cx="8639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STARRING AL PACINO AS A RACE CAR DRIVER IS BASED ON THE ERICH MARIA REMARQUE NOVEL "HEAVEN HAS NO FAVORIT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22360" y="762120"/>
            <a:ext cx="8099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40 COMEDY DOES W.C. FIELDS PLAY A DRUNK WHO ACCIDENTALLY FOILS A ROBBERY AND IS REWARDED BY A DETECTIVE JO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L  DURH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90640" y="762120"/>
            <a:ext cx="7361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8 BASEBALL MOVIE WAS CHOSEN BY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PORTS ILLUSTRATE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S THE GREATEST SPORTS MOVIE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OD  DIAM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89120" y="762120"/>
            <a:ext cx="7565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6 FILM STARRING LEONARDO DICAPRIO AND JENNIFER CONNELLY WAS SET DURING THE SIERRA LEONE CIVIL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Y  D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17440" y="762120"/>
            <a:ext cx="870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7 FILM ABOUT A YOUNG, MUSICALLY-MOTIVATED BANK ROBBER TOOK ITS NAME FROM A SIMON &amp; GARFUNKEL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G  DAD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87480" y="762120"/>
            <a:ext cx="7169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VIE POSTER OF WHAT 1999 FILM HAS ADAM SANDLER AND A KID PEEING ON A BUILD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DY  DOU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52440" y="762120"/>
            <a:ext cx="8439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EROTIC THRILLER STARRING MELANIE GRIFFITH WAS AN HOMAGE TO THE FILMS OF ALFRED HITCHCO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IND  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26960" y="762120"/>
            <a:ext cx="8290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7 ROMANTIC COMEDY ABOUT A VERY BAD EVENING LEADING TO A WEDDING STARRED KIM BASINGER    AND BRUCE WILL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LACK  DAH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52480" y="762120"/>
            <a:ext cx="7439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6 CRIME THRILLER STARRING SCARLETT JOHANSSON IS BASED ON A JAMES ELLROY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99640" y="762120"/>
            <a:ext cx="7342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8 BASEBALL MOVIE WAS CHOSEN BY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PORTS ILLUSTRATE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S THE GREATEST SPORTS MOVIE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ST  DEFE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4 COMEDY DOES DUDLEY MOORE DESIGN A TANK THAT EDDIE MURPHY PILOTS TO VIC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BY  DEER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43000" y="762120"/>
            <a:ext cx="8658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STARRING AL PACINO AS A RACE CAR DRIVER IS BASED ON THE ERICH MARIA REMARQUE NOVEL "HEAVEN HAS NO FAVORIT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NK  D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11280" y="762120"/>
            <a:ext cx="7920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40 COMEDY DOES W.C. FIELDS PLAY A DRUNK WHO ACCIDENTALLY FOILS A ROBBERY AND IS REWARDED BY A DETECTIVE JO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28640" y="761760"/>
            <a:ext cx="7686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6 FILM STARRING LEONARDO DICAPRIO AND JENNIFER CONNELLY WAS SET DURING THE SIERRA LEONE CIVIL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06280" y="762120"/>
            <a:ext cx="8731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7 FILM ABOUT A YOUNG, MUSICALLY-MOTIVATED BANK ROBBER TOOK ITS NAME FROM A SIMON &amp; GARFUNKEL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60480" y="762120"/>
            <a:ext cx="7221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VIE POSTER OF WHAT 1999 FILM HAS ADAM SANDLER AND A KID PEEING ON A BUILD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82600" y="762120"/>
            <a:ext cx="8556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EROTIC THRILLER STARRING MELANIE GRIFFITH WAS AN HOMAGE TO THE FILMS OF ALFRED HITCHCO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07880" y="761760"/>
            <a:ext cx="8328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7 ROMANTIC COMEDY ABOUT A VERY BAD EVENING LEADING TO A WEDDING STARRED KIM BASINGER    AND BRUCE WILL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09640" y="761760"/>
            <a:ext cx="7524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6 CRIME THRILLER STARRING SCARLETT JOHANSSON IS BASED ON A JAMES ELLROY NOV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16080" y="761760"/>
            <a:ext cx="8511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4 COMEDY DOES DUDLEY MOORE DESIGN A TANK THAT EDDIE MURPHY PILOTS TO VIC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12-16T14:12:59Z</dcterms:modified>
  <cp:revision>386</cp:revision>
  <dc:subject/>
  <dc:title>Slide 1</dc:title>
</cp:coreProperties>
</file>