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08D1-58C7-4464-B7D8-6DB5ACAB8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8F68-5BBA-41C3-B846-24E1BE5F5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B824-784E-4911-AB60-C1595343F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108C-7CA3-4D64-B815-C8B0EE9C7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26EB-75D4-4FFC-BC82-078BEB8A5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5BD8-9960-47DD-BE28-00647618D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7FF1-E871-43AB-96CA-2F718DA57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25B4-C7A0-49FB-BC7F-31FC29357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7832-6124-40D1-A8A9-D37A5B271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6387-A8D1-4E14-8B91-F9B80C23C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7713-6BF1-4C6A-8594-2702519DF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8A87-8FF2-402A-B1BD-EA5F27972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AF08-11BE-4C8D-BCAF-FC16E819D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7254-ABCA-4BB2-BE9C-B80D0FF98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81F3-9A03-4E18-B288-998FB9CA3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DCA6-543A-49EF-92A7-5A2D36BF6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71B6-893C-4565-8813-CF079C90F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8DB7-FF7E-4534-B105-634321E45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F406-8D0C-4491-BC3D-545C3987F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C5ED-5B26-472A-A16A-51B1AB4C8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AB05-BD6E-474B-92B6-8775DCEF1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A9DE-84A2-4B9E-ADC3-3E1052A19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6013-C718-4E60-BACE-19FCA2E87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2360" y="761760"/>
            <a:ext cx="863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AL PACINO AS A RACE CAR DRIVER IS BASED ON THE ERICH MARIA REMARQUE NOVEL "HEAVEN HAS NO FAVORIT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22360" y="762120"/>
            <a:ext cx="809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40 COMEDY DOES W.C. FIELDS PLAY A DRUNK WHO ACCIDENTALLY FOILS A ROBBERY AND IS REWARDED BY A DETECTIVE 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  DUR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90640" y="762120"/>
            <a:ext cx="736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BASEBALL MOVIE WAS CHOSEN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GREATEST SPORTS MOVIE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  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89120" y="762120"/>
            <a:ext cx="756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FILM STARRING LEONARDO DICAPRIO AND JENNIFER CONNELLY WAS SET DURING THE SIERRA LEON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  D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17440" y="762120"/>
            <a:ext cx="870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FILM ABOUT A YOUNG, MUSICALLY-MOTIVATED BANK ROBBER TOOK ITS NAME FROM A SIMON &amp; GARFUNKEL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DAD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87480" y="762120"/>
            <a:ext cx="7169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VIE POSTER OF WHAT 1999 FILM HAS ADAM SANDLER AND A KID PEEING ON A BUIL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DY  D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52440" y="762120"/>
            <a:ext cx="8439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EROTIC THRILLER STARRING MELANIE GRIFFITH WAS AN HOMAGE TO THE FILMS OF ALFRED HITCHC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IND  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26960" y="762120"/>
            <a:ext cx="829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ROMANTIC COMEDY ABOUT A VERY BAD EVENING LEADING TO A WEDDING STARRED KIM BASINGER    AND BRUCE WIL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LACK  DAH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52480" y="762120"/>
            <a:ext cx="7439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CRIME THRILLER STARRING SCARLETT JOHANSSON IS BASED ON A JAMES ELLROY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99640" y="762120"/>
            <a:ext cx="7342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BASEBALL MOVIE WAS CHOSEN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GREATEST SPORTS MOVIE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ST  DEF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4 COMEDY DOES DUDLEY MOORE DESIGN A TANK THAT EDDIE MURPHY PILOTS TO VIC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  DEE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43000" y="762120"/>
            <a:ext cx="8658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AL PACINO AS A RACE CAR DRIVER IS BASED ON THE ERICH MARIA REMARQUE NOVEL "HEAVEN HAS NO FAVORIT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K  D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11280" y="762120"/>
            <a:ext cx="7920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40 COMEDY DOES W.C. FIELDS PLAY A DRUNK WHO ACCIDENTALLY FOILS A ROBBERY AND IS REWARDED BY A DETECTIVE 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8640" y="761760"/>
            <a:ext cx="768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FILM STARRING LEONARDO DICAPRIO AND JENNIFER CONNELLY WAS SET DURING THE SIERRA LEON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06280" y="762120"/>
            <a:ext cx="873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FILM ABOUT A YOUNG, MUSICALLY-MOTIVATED BANK ROBBER TOOK ITS NAME FROM A SIMON &amp; GARFUNKEL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60480" y="762120"/>
            <a:ext cx="722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VIE POSTER OF WHAT 1999 FILM HAS ADAM SANDLER AND A KID PEEING ON A BUIL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2600" y="762120"/>
            <a:ext cx="8556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EROTIC THRILLER STARRING MELANIE GRIFFITH WAS AN HOMAGE TO THE FILMS OF ALFRED HITCHCO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07880" y="761760"/>
            <a:ext cx="8328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ROMANTIC COMEDY ABOUT A VERY BAD EVENING LEADING TO A WEDDING STARRED KIM BASINGER    AND BRUCE WIL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CRIME THRILLER STARRING SCARLETT JOHANSSON IS BASED ON A JAMES ELLROY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6080" y="761760"/>
            <a:ext cx="851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4 COMEDY DOES DUDLEY MOORE DESIGN A TANK THAT EDDIE MURPHY PILOTS TO VIC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12-16T14:12:59Z</dcterms:modified>
  <cp:revision>386</cp:revision>
  <dc:subject/>
  <dc:title>Slide 1</dc:title>
</cp:coreProperties>
</file>