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447D6-B449-44E0-B83E-3FEE489683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5C8D4-0A1F-489F-9F5C-3D60095E5A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873AC-4B3C-4B47-ADDF-092E294384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373EB-6EEE-4DE2-9C67-408C4B802F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F9C5D-1D67-4805-8F4F-3F364E0E5C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71858-C124-4DD1-B0DC-0A5C5B4828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D64AC-7170-4D25-98C7-E0F0A0EB7D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B2A51-7980-41AB-A526-6554A7AF93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20192-C7B3-4293-966A-2D8F020089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3B27D-E376-4BBE-9A22-40AD762476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764D8-96E9-44B6-A0CF-4BAA4D2ECC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E0ECC-E5BB-42C6-BD67-CB77EED1DA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A4A36-04C8-462B-A16E-7FCC476B9F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CC38D-B0AA-40F8-B4A7-C63BAE9108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CF763-AEF9-43CA-9662-5C73FE5D1C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4616A-587A-4A63-ABD1-C0301F480B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A5177-3159-4085-B0C0-17B4D57180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3202A-7F23-4FAE-B68C-2EBD12E9A4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1B3D8-36D5-4261-9088-EFB65A051F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EA367-D3CB-4636-9C23-B3A7BB6E79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2D5D0-B6F5-4C5F-9037-46CB806AF0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31058-6FF1-49B9-B268-AAC3BA0E1B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E9B76-AB93-427F-8C97-3D6BF3DBF0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333440" y="1523880"/>
            <a:ext cx="64771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ILM SAME INITI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252360" y="761760"/>
            <a:ext cx="86392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ILM STARRING AL PACINO AS A RACE CAR DRIVER IS BASED ON THE ERICH MARIA REMARQUE NOVEL "HEAVEN HAS NO FAVORITE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522360" y="762120"/>
            <a:ext cx="80992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1940 COMEDY DOES W.C. FIELDS PLAY A DRUNK WHO ACCIDENTALLY FOILS A ROBBERY AND IS REWARDED BY A DETECTIVE JOB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1066680" y="4952880"/>
            <a:ext cx="70106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ULL  DURHA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890640" y="762120"/>
            <a:ext cx="73612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88 BASEBALL MOVIE WAS CHOSEN BY 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SPORTS ILLUSTRATE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AS THE GREATEST SPORTS MOVIE OF ALL TI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457200" y="4952880"/>
            <a:ext cx="82296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LOOD  DIAMO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789120" y="762120"/>
            <a:ext cx="75657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06 FILM STARRING LEONARDO DICAPRIO AND JENNIFER CONNELLY WAS SET DURING THE SIERRA LEONE CIVIL WA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45720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ABY  DRIV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217440" y="762120"/>
            <a:ext cx="87091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17 FILM ABOUT A YOUNG, MUSICALLY-MOTIVATED BANK ROBBER TOOK ITS NAME FROM A SIMON &amp; GARFUNKEL SO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304920" y="4952880"/>
            <a:ext cx="84582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IG  DADD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987480" y="762120"/>
            <a:ext cx="71690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MOVIE POSTER OF WHAT 1999 FILM HAS ADAM SANDLER AND A KID PEEING ON A BUILDI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457200" y="4952880"/>
            <a:ext cx="82296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ODY  DOUB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352440" y="762120"/>
            <a:ext cx="84391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84 EROTIC THRILLER STARRING MELANIE GRIFFITH WAS AN HOMAGE TO THE FILMS OF ALFRED HITCHCOCK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LIND  DA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426960" y="762120"/>
            <a:ext cx="82900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87 ROMANTIC COMEDY ABOUT A VERY BAD EVENING LEADING TO A WEDDING STARRED KIM BASINGER    AND BRUCE WILLI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143000" y="4952880"/>
            <a:ext cx="685800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BLACK  DAHL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852480" y="762120"/>
            <a:ext cx="74390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06 CRIME THRILLER STARRING SCARLETT JOHANSSON IS BASED ON A JAMES ELLROY NOVE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899640" y="762120"/>
            <a:ext cx="73422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88 BASEBALL MOVIE WAS CHOSEN BY 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SPORTS ILLUSTRATE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AS THE GREATEST SPORTS MOVIE OF ALL TIM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45720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EST  DEFEN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380880" y="762120"/>
            <a:ext cx="83822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1984 COMEDY DOES DUDLEY MOORE DESIGN A TANK THAT EDDIE MURPHY PILOTS TO VICTOR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0880" y="495288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OBBY  DEER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243000" y="762120"/>
            <a:ext cx="865800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ILM STARRING AL PACINO AS A RACE CAR DRIVER IS BASED ON THE ERICH MARIA REMARQUE NOVEL "HEAVEN HAS NO FAVORITE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ANK  DI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611280" y="762120"/>
            <a:ext cx="79200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1940 COMEDY DOES W.C. FIELDS PLAY A DRUNK WHO ACCIDENTALLY FOILS A ROBBERY AND IS REWARDED BY A DETECTIVE JOB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728640" y="761760"/>
            <a:ext cx="76867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06 FILM STARRING LEONARDO DICAPRIO AND JENNIFER CONNELLY WAS SET DURING THE SIERRA LEONE CIVIL WA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206280" y="762120"/>
            <a:ext cx="87314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17 FILM ABOUT A YOUNG, MUSICALLY-MOTIVATED BANK ROBBER TOOK ITS NAME FROM A SIMON &amp; GARFUNKEL SO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960480" y="762120"/>
            <a:ext cx="7221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MOVIE POSTER OF WHAT 1999 FILM HAS ADAM SANDLER AND A KID PEEING ON A BUILDING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282600" y="762120"/>
            <a:ext cx="85564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84 EROTIC THRILLER STARRING MELANIE GRIFFITH WAS AN HOMAGE TO THE FILMS OF ALFRED HITCHCOCK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07880" y="761760"/>
            <a:ext cx="83282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87 ROMANTIC COMEDY ABOUT A VERY BAD EVENING LEADING TO A WEDDING STARRED KIM BASINGER    AND BRUCE WILLI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809640" y="761760"/>
            <a:ext cx="75247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06 CRIME THRILLER STARRING SCARLETT JOHANSSON IS BASED ON A JAMES ELLROY NOVEL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316080" y="761760"/>
            <a:ext cx="85118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1984 COMEDY DOES DUDLEY MOORE DESIGN A TANK THAT EDDIE MURPHY PILOTS TO VICTOR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12T15:54:55Z</dcterms:created>
  <dc:creator>Jennifer Budzinski</dc:creator>
  <dc:description/>
  <dc:language>en-US</dc:language>
  <cp:lastModifiedBy>Erich Friedman</cp:lastModifiedBy>
  <dcterms:modified xsi:type="dcterms:W3CDTF">2020-12-16T14:12:59Z</dcterms:modified>
  <cp:revision>386</cp:revision>
  <dc:subject/>
  <dc:title>Slide 1</dc:title>
</cp:coreProperties>
</file>