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7034-13F4-4333-BFDF-FB265193C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BC55-948B-4E79-A0BC-3905EBEB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ECFE-DFA7-48E8-A124-EDFE64FCF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C2BE-7096-4DC1-8757-5739BA808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B197-C1A0-4E43-8495-FA534E049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FEF4-DCBA-4A30-9337-4A2186A32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7F4F-EF1E-4A2A-9609-D8B4095A1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1EFD-0A4D-4866-A3A2-A14BE82B6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758F-B598-4BC3-B6DC-8F9C752EF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6A3F-D84F-4E61-B499-3326C810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F730-BC75-48F6-AAA6-A26104015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2857-9200-4D5F-A29A-671CDE408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EDDE-A637-44F2-BBC2-89F21A45B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1036-0684-4228-A321-D7FBDBC5E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DA3F-F1D3-4DAC-8FB7-C7DEC2352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17DB-3814-458C-A549-EB65B2225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765B-2D52-44DC-8696-F2DCF7EB7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EEE0-79C9-4F45-8E6E-CE40E4FEF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8E28-C9A9-42F3-8A70-96E5E5F7C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2374-B803-410C-9213-DF6B22B8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D0A8-38CB-4707-B785-6013F2D4A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0F31-E2A3-4367-80EE-CDF9C8A35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5316-8852-457F-A2F9-055D26A66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INGER OF THE TOP-20 SONGS "FALLIN' FOR YOU", "BUBBLY", AND "REALIZE" AUDITIONED UNSUCCESSFULLY FOR "AMERICAN IDOL" TWI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AILING" AND "ARTHUR'S THE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61840" y="762120"/>
            <a:ext cx="7418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WAS FAMOUS FOR HIS PERSONA "THE 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COLUM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19040" y="7621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NDAY IN OCTOBER IS CELEBRATED AS A HOLIDAY NAMED AFTER WH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RTNEY  C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ONICA GELLER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  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2040" y="762120"/>
            <a:ext cx="78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FRENCH FASHION DESIGNER POPULARIZED SPORTY, CASUAL CHIC IN THE 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C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83808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AST MEMBER STARTED THE "WEEKEND NEWS UPD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VIN  COOL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U.S. 1923-192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LSEA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ARENTS BOTH WON THE POPULAR VOTE FOR THE U.S. PRESID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WAS FAMOUS FOR HIS PERSONA "THE TRAM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  CO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61960" y="762120"/>
            <a:ext cx="8201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AGUE OF MILES DAVIS AND HERBIE HANCOCK COMPOSED THE JAZZ STANDARDS "WINDOWS", "SPAIN", AND "LA FIEST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BIE  CAIL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7621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INGER OF THE TOP-20 SONGS "FALLIN' FOR YOU", "BUBBLY", AND "REALIZE" AUDITIONED UNSUCCESSFULLY FOR "AMERICAN IDOL" TW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AILING" AND "ARTHUR'S THE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NDAY IN OCTOBER IS CELEBRATED AS A HOLIDAY NAMED AFTER WH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ONICA GELLER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FRENCH FASHION DESIGNER POPULARIZED SPORTY, CASUAL CHIC IN THE 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AST MEMBER STARTED THE "WEEKEND NEWS UPDA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U.S. 1923-192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ARENTS BOTH WON THE POPULAR VOTE FOR THE U.S. PRESIDEN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AGUE OF MILES DAVIS AND HERBIE HANCOCK COMPOSED THE JAZZ STANDARDS "WINDOWS", "SPAIN", AND "LA FIEST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9-21T16:15:06Z</dcterms:modified>
  <cp:revision>349</cp:revision>
  <dc:subject/>
  <dc:title>Slide 1</dc:title>
</cp:coreProperties>
</file>