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6B0C-72CD-4A38-BFEB-B1917FA6A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0F13-D40C-4A21-9E07-0FF2DE869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7ABB-2175-4393-AB14-6D87FA366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3D4E-D4C5-46EF-A138-222274170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9E4F-FCA3-43A9-BC66-975EE3E4A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CFFC-350A-413D-BFA0-E28841474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6201-DC20-45EF-B2A9-604DA07E0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7D23-7FCE-4638-BD5B-94F3E1F4A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EE6F-F68A-4638-A5CA-A99D08395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4C67-01FC-4FB8-9030-3DA979587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44C4-06C9-4402-A924-09ADEED61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FBB5-F99F-433B-AAA1-1F3A3CFD5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A26E-8B0D-4EA6-AE54-8F4C3393F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2A25-C40D-4165-903D-B2503FDFB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3F7D-DDB9-48C4-A42E-DCA39063F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BE98-39AA-4C25-942F-67A9C89B0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DFA0-D2A4-462C-B6F5-9FBE050C0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8C13-3AAC-476E-8E21-876248CEB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DB0D-75D5-4021-8815-856229E18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279F-F1A5-420F-B72C-B0298AB48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BBDB-CCB2-49D5-A515-F0D4A5FEC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ABE8-3C8E-4937-B61D-73023FAB3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7294-2E39-42E2-BF49-E5B929995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SINGER OF THE TOP-20 SONGS "FALLIN' FOR YOU", "BUBBLY", AND "REALIZE" AUDITIONED UNSUCCESSFULLY FOR "AMERICAN IDOL" TWIC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AILING" AND "ARTHUR'S THE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IE  CHAP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61840" y="762120"/>
            <a:ext cx="7418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LENT FILM STAR WAS FAMOUS FOR HIS PERSONA "THE TRAM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OPHER  COLUMB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19040" y="762120"/>
            <a:ext cx="83059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NDAY IN OCTOBER IS CELEBRATED AS A HOLIDAY NAMED AFTER WH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URTNEY  C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09640" y="762120"/>
            <a:ext cx="7524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ONICA GELLER ON "FRIEN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CO  CHA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62040" y="762120"/>
            <a:ext cx="7819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FRENCH FASHION DESIGNER POPULARIZED SPORTY, CASUAL CHIC IN THE 5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VY  CH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33520" y="838080"/>
            <a:ext cx="80769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SNL" CAST MEMBER STARTED THE "WEEKEND NEWS UPDAT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LVIN  COOLI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23960" y="762120"/>
            <a:ext cx="7696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OF THE U.S. 1923-192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LSEA  CLIN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81200" y="762120"/>
            <a:ext cx="7581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PARENTS BOTH WON THE POPULAR VOTE FOR THE U.S. PRESIDENC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LENT FILM STAR WAS FAMOUS FOR HIS PERSONA "THE TRAMP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CK  COR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61960" y="762120"/>
            <a:ext cx="8201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LEAGUE OF MILES DAVIS AND HERBIE HANCOCK COMPOSED THE JAZZ STANDARDS "WINDOWS", "SPAIN", AND "LA FIEST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BIE  CAILL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38080" y="762120"/>
            <a:ext cx="78487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SINGER OF THE TOP-20 SONGS "FALLIN' FOR YOU", "BUBBLY", AND "REALIZE" AUDITIONED UNSUCCESSFULLY FOR "AMERICAN IDOL" TWI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OPHER  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AILING" AND "ARTHUR'S THE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NDAY IN OCTOBER IS CELEBRATED AS A HOLIDAY NAMED AFTER WH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09640" y="762120"/>
            <a:ext cx="7524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ONICA GELLER ON "FRIEN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FRENCH FASHION DESIGNER POPULARIZED SPORTY, CASUAL CHIC IN THE 5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SNL" CAST MEMBER STARTED THE "WEEKEND NEWS UPDAT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OF THE U.S. 1923-192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28560" y="761760"/>
            <a:ext cx="7886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PARENTS BOTH WON THE POPULAR VOTE FOR THE U.S. PRESIDENC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LEAGUE OF MILES DAVIS AND HERBIE HANCOCK COMPOSED THE JAZZ STANDARDS "WINDOWS", "SPAIN", AND "LA FIEST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1-09-21T16:15:06Z</dcterms:modified>
  <cp:revision>349</cp:revision>
  <dc:subject/>
  <dc:title>Slide 1</dc:title>
</cp:coreProperties>
</file>