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F198-6A12-4749-BDC8-432BA7ACA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C26F-FB10-4CF6-826A-4D2AC0671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5000-5999-400A-94BA-5F556D01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936E-D802-4D8D-8FE9-E615395F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57F-870D-4D64-8068-F5BB556E3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0E60-2719-48C8-87AB-961BBED6D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2FB1-2254-4168-95C1-459217EF4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59C6-2754-4DA8-9CFD-26AF0A42D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146F-4382-47CC-B5CE-C1F18463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850-50D5-42B9-9FB6-41502ADC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9EFD-6E14-4FC4-8C2A-C0E4CA6F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56BF-E12A-4C3F-8211-8815035B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1D0-E60C-4C5F-88E6-C3D9E0C20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86B3-5717-461A-ADE5-A141816C3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81C7-6C2D-45AF-919B-6472C7EE9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1CD8-0D69-4005-BE00-4A08190A3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5CF9-553D-47F3-86F7-B5D0D71D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5ABA-EACC-4993-9ECA-AB3C40601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287-EFA5-4EBE-AC0A-FE31FCDE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6FB4-F71B-4E59-AFE9-E2C88DA92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AE31-B0C7-4C20-ABA5-D79C615C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C5CF0-E2EA-4CAA-A38D-5B420AF3A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DEBF-E689-4421-8205-315BC4071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439F-FB81-4D1E-806C-94F85B870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WAS THE VICTIM OF AN ASSASSINATION ATTEMPT IN 2011, LEAVING HER WITH A SEVERE BRAIN INJ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AMERICAN IN SPACE, AFTER ALAN SHEP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AND THE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I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IS CALLED "THE FATHER OF THE SCIENTIFIC METH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AR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ROMANCE", "CAMILLE", AND "NINOTCH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NIFER  GOO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NE ON "BIG LOVE" AND SNOW WHITE ON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ERW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DIRECTOR AND BEST ORIGINAL SCREENPLAY FOR "LADY 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GERSH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RHAPSODY IN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LBERT  GOTTFRI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876240" y="762120"/>
            <a:ext cx="739152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VOICE OF THE AFLAC DUCK UNTIL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GAY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DISCO HIT "I WILL SURVI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BY  GIFF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RESSWOMAN WAS THE VICTIM OF AN ASSASSINATION ATTEMPT IN 2011, LEAVING HER WITH A SEVERE BRAIN INJ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  GRISS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AMERICAN IN SPACE, AFTER ALAN SHEP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HAM  GRE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14400" y="80028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POWER AND THE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IS CALLED "THE FATHER OF THE SCIENTIFIC METH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RESS FOR "ROMANCE", "CAMILLE", AND "NINOTCH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RGENE ON "BIG LOVE" AND SNOW WHITE ON "ONCE UPON A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DIRECTOR AND BEST ORIGINAL SCREENPLAY FOR "LADY 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RHAPSODY IN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VOICE OF THE AFLAC DUCK UNTIL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DISCO HIT "I WILL SURVI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6:25:30Z</dcterms:modified>
  <cp:revision>355</cp:revision>
  <dc:subject/>
  <dc:title>Slide 1</dc:title>
</cp:coreProperties>
</file>