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4A6B-30C6-4C98-873A-BBA2A5A50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75ED-EB22-4F11-B945-1EFA5F6FD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F376-7D5F-4638-BFDF-13BAB62DC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ECE8-1209-4E6D-A05F-60C976EE7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0401-B2B8-4455-A0ED-A004EE706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018C-6AFD-43E3-8E95-8054AE353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8BF9-A537-4A0A-9927-A70E89CE3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AF47-3A90-4F18-BCFB-E288020AB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02F8-DAF2-4D96-8DDE-957BD3FFE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BB92-E0D4-49EC-91E9-28B33CF46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E78C-78FE-4A1B-B987-18B140B7F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E91F-A6CA-447E-9BC6-4D95DA89A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D20D-2358-4A2E-86D2-C5AE88729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582C-09DA-4B1E-AB69-C0ABF22DF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125D-C158-481D-81CE-247B0E1E7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83A9-6305-43CC-945E-996D76911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8A98-2DED-4078-9A44-B2F41E034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388A-FA7A-46E4-8D66-217B0A0BB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2150-211E-4CE5-B752-6E0233C84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6604-A33C-49A0-9AE8-B349E76C1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39BC-9757-48AE-84A3-F3298EC1B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BB80-B25E-4C51-980A-347CEF0E1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F9B7-30F5-424B-BB88-8D2F75AD5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CA78-BF15-4FD6-9EF3-9FF812BB7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GRESSWOMAN WAS THE VICTIM OF AN ASSASSINATION ATTEMPT IN 2011, LEAVING HER WITH A SEVERE BRAIN INJ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AMERICAN IN SPACE, AFTER ALAN SHEP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POWER AND THE GL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80060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ILEO  GALILI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ASTRONOMER IS CALLED "THE FATHER OF THE SCIENTIFIC METH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TA  GAR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104840" y="762120"/>
            <a:ext cx="6934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ROMANCE", "CAMILLE", AND "NINOTCHK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NNIFER  GOOD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GENE ON "BIG LOVE" AND SNOW WHITE ON "ONCE UPON A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TA  GERW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DIRECTOR AND BEST ORIGINAL SCREENPLAY FOR "LADY BI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GERSH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"RHAPSODY IN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LBERT  GOTTFR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876240" y="762120"/>
            <a:ext cx="739152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WAS THE VOICE OF THE AFLAC DUCK UNTIL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RIA  GAY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DISCO HIT "I WILL SURVI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BBY  GIFF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GRESSWOMAN WAS THE VICTIM OF AN ASSASSINATION ATTEMPT IN 2011, LEAVING HER WITH A SEVERE BRAIN INJ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S  GRISS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876240" y="762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AMERICAN IN SPACE, AFTER ALAN SHEP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HAM  GRE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914400" y="80028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POWER AND THE GL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ASTRONOMER IS CALLED "THE FATHER OF THE SCIENTIFIC METH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ROMANCE", "CAMILLE", AND "NINOTCHK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GENE ON "BIG LOVE" AND SNOW WHITE ON "ONCE UPON A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DIRECTOR AND BEST ORIGINAL SCREENPLAY FOR "LADY BI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"RHAPSODY IN 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WAS THE VOICE OF THE AFLAC DUCK UNTIL 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DISCO HIT "I WILL SURV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1-09-21T16:25:30Z</dcterms:modified>
  <cp:revision>355</cp:revision>
  <dc:subject/>
  <dc:title>Slide 1</dc:title>
</cp:coreProperties>
</file>