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6BD41-6C62-43A0-AF77-819114D8AD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CC67A-DB81-4574-89AD-F53B0D7C2B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FCC8F-C158-4113-9380-B9A812CD3F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6745E-EF3A-4BAE-BAB9-E8C028F362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9EF62-A996-44A6-B490-051E392950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AEDAA-72C3-428E-9CFC-F1F32F3144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1901B-344F-47C2-9BAB-8FB5CFF86F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9CB8E-275F-40AF-B171-8D87BE3BB9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4F1EE-C1A6-4A84-A844-C8840A0164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A42E5-00B1-4335-AC22-10B5D29608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C29A5-393C-4D0E-8F5E-D82FD426D7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FD4E0-2236-44D3-A00D-CA6BF2D438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BEE2E-DD4A-46EB-8040-AF54CEDE9D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62976-C000-4452-8E19-42CE5D4B69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93C23-4B3E-465B-B84E-7DF6E51001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52564-D4ED-4025-A5A3-F2C513C0D3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05434-298F-4AC1-9365-E63C3E8EE9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EAB4E-7F37-4F42-ABA0-63EC60FA49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1822A-2E9A-460D-8264-B11AE52007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FABCA-ACA4-4CA6-BFBA-35975071F6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F420D-18D5-46E0-97A2-4DDC84A2B9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4EC01-B74A-4F9B-AD5D-5D169D1821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F0E9C-2907-4BD4-B81A-964E08F1D3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4A195-6050-4555-9653-1BAA4CBF90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799920" y="68580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ELCOME TO THURSDAY NIGHT TRIVIA AT THE ELUSIVE GRAP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77720" y="761760"/>
            <a:ext cx="81885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MIC WAS THE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WOMAN TO HOST A LATE NIGHT NETWORK TV SHOW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676440" y="761760"/>
            <a:ext cx="77911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CHIEF JUSTICE OF THE SUPREME COUR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766800" y="762120"/>
            <a:ext cx="7608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FL WIDE RECEIVER HOLDS THE RECORDS    FOR MOST RECEPTIONS, TOUCHDOWN RECEPTIONS, AND RECEIVING YARD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3"/>
          <p:cNvSpPr/>
          <p:nvPr/>
        </p:nvSpPr>
        <p:spPr>
          <a:xfrm>
            <a:off x="1066680" y="4952880"/>
            <a:ext cx="701064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ACKIE  ROBIN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947880" y="762120"/>
            <a:ext cx="7246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AFRICAN-AMERICAN TO PLAY IN MLB IN THE MODERN ER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HN  RIT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"/>
          <p:cNvSpPr/>
          <p:nvPr/>
        </p:nvSpPr>
        <p:spPr>
          <a:xfrm>
            <a:off x="723960" y="762120"/>
            <a:ext cx="769608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JACK TRIPPER ON "THREE'S COMPAN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ANE  RUSS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2"/>
          <p:cNvSpPr/>
          <p:nvPr/>
        </p:nvSpPr>
        <p:spPr>
          <a:xfrm>
            <a:off x="1004760" y="762120"/>
            <a:ext cx="7132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RUNETTE STARRED IN THE FILM "GENTLEMEN PREFER BLONDES" WITH MARILYN MONRO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3"/>
          <p:cNvSpPr/>
          <p:nvPr/>
        </p:nvSpPr>
        <p:spPr>
          <a:xfrm>
            <a:off x="343080" y="495288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ULIA  ROBE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735120" y="762120"/>
            <a:ext cx="76723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HIGHEST-PAID ACTRESS IN THE WORLD FROM 1993 TO 2005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3"/>
          <p:cNvSpPr/>
          <p:nvPr/>
        </p:nvSpPr>
        <p:spPr>
          <a:xfrm>
            <a:off x="457200" y="4952880"/>
            <a:ext cx="8229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HN  ROCKEFELL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"/>
          <p:cNvSpPr/>
          <p:nvPr/>
        </p:nvSpPr>
        <p:spPr>
          <a:xfrm>
            <a:off x="561960" y="762120"/>
            <a:ext cx="80200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RICHEST AMERICAN EVER, MEASURED AS A PERCENTAGE OF AMERICA'S GDP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HN  RADN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2"/>
          <p:cNvSpPr/>
          <p:nvPr/>
        </p:nvSpPr>
        <p:spPr>
          <a:xfrm>
            <a:off x="585720" y="762120"/>
            <a:ext cx="79725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TED MOSBY ON "HOW I MET YOUR MOTHER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799920" y="152388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AME INITI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3"/>
          <p:cNvSpPr/>
          <p:nvPr/>
        </p:nvSpPr>
        <p:spPr>
          <a:xfrm>
            <a:off x="1143000" y="4952880"/>
            <a:ext cx="6858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ACK  RUB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"/>
          <p:cNvSpPr/>
          <p:nvPr/>
        </p:nvSpPr>
        <p:spPr>
          <a:xfrm>
            <a:off x="339840" y="762120"/>
            <a:ext cx="84643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HOT THE PERSON WHO SHOT JOHN F. KENNED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AN  RIV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2"/>
          <p:cNvSpPr/>
          <p:nvPr/>
        </p:nvSpPr>
        <p:spPr>
          <a:xfrm>
            <a:off x="457200" y="762120"/>
            <a:ext cx="82296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MIC WAS THE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WOMAN TO HOST A LATE NIGHT NETWORK TV SHOW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3"/>
          <p:cNvSpPr/>
          <p:nvPr/>
        </p:nvSpPr>
        <p:spPr>
          <a:xfrm>
            <a:off x="380880" y="495288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HN  ROBE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2"/>
          <p:cNvSpPr/>
          <p:nvPr/>
        </p:nvSpPr>
        <p:spPr>
          <a:xfrm>
            <a:off x="671400" y="762120"/>
            <a:ext cx="780120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CHIEF JUSTICE OF THE SUPREME COUR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ERRY  RI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723960" y="762120"/>
            <a:ext cx="76960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FL WIDE RECEIVER HOLDS THE RECORDS    FOR MOST RECEPTIONS, TOUCHDOWN RECEPTIONS, AND RECEIVING YARD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867960" y="762120"/>
            <a:ext cx="74055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AFRICAN-AMERICAN TO PLAY IN MLB IN THE MODERN ER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49280" y="761760"/>
            <a:ext cx="8244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JACK TRIPPER ON "THREE'S COMPANY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1004760" y="762120"/>
            <a:ext cx="71485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RUNETTE STARRED IN THE FILM "GENTLEMEN PREFER BLONDES" WITH MARILYN MONRO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665280" y="762120"/>
            <a:ext cx="78134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HIGHEST-PAID ACTRESS IN THE WORLD FROM 1993 TO 2005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04800" y="761760"/>
            <a:ext cx="7934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RICHEST AMERICAN EVER, MEASURED AS A PERCENTAGE OF AMERICA'S GDP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561960" y="761760"/>
            <a:ext cx="80200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TED MOSBY ON "HOW I MET YOUR MOTHER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243000" y="761760"/>
            <a:ext cx="86580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HOT THE PERSON WHO SHOT JOHN F. KENNED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20T17:42:29Z</dcterms:created>
  <dc:creator>Jennifer Budzinski</dc:creator>
  <dc:description/>
  <dc:language>en-US</dc:language>
  <cp:lastModifiedBy>Erich Friedman</cp:lastModifiedBy>
  <dcterms:modified xsi:type="dcterms:W3CDTF">2021-09-21T10:41:44Z</dcterms:modified>
  <cp:revision>368</cp:revision>
  <dc:subject/>
  <dc:title>Slide 1</dc:title>
</cp:coreProperties>
</file>