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AC15-4609-41D3-81F2-2CF929917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12D6-36B2-4022-94B1-C58739370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F7E8-49D7-41AB-990D-13207E3C8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81E3-95B3-4556-BECD-5BF9E276E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7EF0-EBFB-45B4-B2D0-9EEF18B90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22DB-EE00-4F59-9F29-EDAD35CE4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5D76-FA47-4779-A2EE-7915E518A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C88D-3910-4D09-BC22-84B503429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F1E7-E3A2-42EA-9AF5-5DD91DC4B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6DA2-9F6E-43C4-9741-62889EF09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CFEE-E3F7-4E40-A26C-DFEF5C4A3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3A55-CD06-4680-9F6F-E54815F48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C3C3-FE92-4F1A-8E53-A08073DCC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8F42-0DCC-4616-9052-8084E3B70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0CBB-1D88-40A0-8318-591075495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1218-041C-434F-A07D-58A6EE936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9DAF-1495-4810-BA75-623A6B001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B93B-8D24-4547-88EF-B8097D48D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B823-D190-4DAF-9CA5-F73870AC4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F648-833B-4A0B-9452-96198C205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A8F6-99C2-4CBE-8056-A067CE462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F300-32CD-46E2-B53A-149318C86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D088-1F16-494A-AF29-5E1E252BF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65ED-5ACE-4C1F-9B73-169849109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7720" y="761760"/>
            <a:ext cx="8188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JUSTICE OF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66800" y="762120"/>
            <a:ext cx="7608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WIDE RECEIVER HOLDS THE RECORDS    FOR MOST RECEPTIONS, TOUCHDOWN RECEPTIONS, AND RECEIV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IE  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47880" y="762120"/>
            <a:ext cx="7246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FRICAN-AMERICAN TO PLAY IN MLB IN THE MODERN E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723960" y="7621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TRIPPER ON "THREE'S COMPA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04760" y="762120"/>
            <a:ext cx="713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UNETTE STARRED IN THE FILM "GENTLEMEN PREFER BLONDES" WITH MARILYN MO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35120" y="762120"/>
            <a:ext cx="76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IGHEST-PAID ACTRESS IN THE WORLD FROM 1993 TO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OCKEFE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EVER, MEASURED AS A PERCENTAGE OF AMERICA'S GD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AD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85720" y="762120"/>
            <a:ext cx="797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ED MOSBY ON "HOW I MET YOUR M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39840" y="762120"/>
            <a:ext cx="84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PERSON WHO SHOT JOHN F.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RI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OMAN TO HOST A LATE NIGHT NETWORK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71400" y="762120"/>
            <a:ext cx="7801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HIEF JUSTICE OF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WIDE RECEIVER HOLDS THE RECORDS    FOR MOST RECEPTIONS, TOUCHDOWN RECEPTIONS, AND RECEIV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67960" y="762120"/>
            <a:ext cx="74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FRICAN-AMERICAN TO PLAY IN MLB IN THE MODERN E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TRIPPER ON "THREE'S COMPA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4760" y="762120"/>
            <a:ext cx="7148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UNETTE STARRED IN THE FILM "GENTLEMEN PREFER BLONDES" WITH MARILYN MONRO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IGHEST-PAID ACTRESS IN THE WORLD FROM 1993 TO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ICHEST AMERICAN EVER, MEASURED AS A PERCENTAGE OF AMERICA'S GD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ED MOSBY ON "HOW I MET YOUR MO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HOT THE PERSON WHO SHOT JOHN F.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9-21T10:41:44Z</dcterms:modified>
  <cp:revision>368</cp:revision>
  <dc:subject/>
  <dc:title>Slide 1</dc:title>
</cp:coreProperties>
</file>