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D965-C7FF-494B-8A08-2AF09794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41AB-6F5E-4332-9112-7EF0B341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0D2-327E-448D-93EB-B84100780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8C70-53C0-42AC-A676-FAE15881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46C-3E35-4610-BF48-1492E7866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C8C-E3C7-4EDE-A0FE-EF773404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2D12-92E5-4ACB-8178-24E60FF03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3C9-21F0-4AEC-B938-C280D27BE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341-3AE8-4AF0-9F1D-B6D189AB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4882-DCF5-455C-B04A-F9D16CEAE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E68-8602-4A19-AD6F-C9778B9B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1476-0236-4C2A-A75A-24C132F7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364-51B5-4E72-83BB-A7E29B30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71F-BA8B-4698-BDAD-1F8721C0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AA9C-1A60-454F-84AE-B6F5E003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C3F-5ABB-45B2-B56C-87C3F643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FF85-36CD-4A45-A2A5-A09E9EC4A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4E3D-E93A-40AD-8A06-1651D137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D247-D3C7-48F0-AC48-B143A1B5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F664-AE47-4C81-A93F-513C83DC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74B5-72C5-401C-A9FB-D554AD3C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16A-9A2E-4389-9778-EC08783E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BBAF-94AA-4009-81C2-F4C6C0F8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FILMMAKER HAS WON 2 OSCARS, BUT IS BEST KNOWN FOR MAKING "WOMEN ON THE VERGE OF A NERVOUS BREAK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6120" y="762120"/>
            <a:ext cx="859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ORTER FOR CNN    HAD LIVE COVERAGE FROM BAGHDAD DURING THE GULF WAR, INCLUDING AN INTERVIEW WITH SADDAM HUSS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ELA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0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BOY PLAYMATE STARRED ON "BAYWA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PUT YOUR HEAD ON MY SHOULDER", "(YOU'RE) HAVING MY BABY", "DIANA", AND "LONELY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62120"/>
            <a:ext cx="835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WRITER FAMOUS FOR HIS XANTH SERIES HAS PUBLISHED A BOOK BEGINNING WITH EVERY LETTER OF THE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MICROSOFT WITH BILL G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-LIFE PHYSICIAN AND CLOWN DID ROBIN WILLIAMS PLAY IN A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IA  ARQ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DIUM ALLISON DUBOIS IN THE SUPERNATURAL DRAMA SERIES "MEDIUM" 2005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A  ABD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28680" y="762120"/>
            <a:ext cx="84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OREOGRAPHER FOR JANET JACKSON AND SINGER WITH 6 #1 HIT SONGS WAS ONE OF THE ORIGINAL JUDGES ON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800" y="762120"/>
            <a:ext cx="825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BOY PLAYMATE STARRED ON "BAYWA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ELA  AD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27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N "CALIFORNICATION", "LOUIE", AND SINCE 2016, "BETTER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DRO  ALMODÓ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FILMMAKER HAS WON 2 OSCARS, BUT IS BEST KNOWN FOR MAKING "WOMEN ON THE VERGE OF A NERVOUS BREAK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AR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ORTER FOR CNN    HAD LIVE COVERAGE FROM BAGHDAD DURING THE GULF WAR, INCLUDING AN INTERVIEW WITH SADDAM HUSS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PUT YOUR HEAD ON MY SHOULDER", "(YOU'RE) HAVING MY BABY", "DIANA", AND "LONELY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18960" y="762120"/>
            <a:ext cx="850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WRITER FAMOUS FOR HIS XANTH SERIES HAS PUBLISHED A BOOK BEGINNING WITH EVERY LETTER OF THE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3440" y="837720"/>
            <a:ext cx="8277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MICROSOFT WITH BILL G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-LIFE PHYSICIAN AND CLOWN DID ROBIN WILLIAMS PLAY IN A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DIUM ALLISON DUBOIS IN THE SUPERNATURAL DRAMA SERIES "MEDIUM" 2005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OREOGRAPHER FOR JANET JACKSON AND SINGER WITH 6 #1 HIT SONGS WAS ONE OF THE ORIGINAL JUDGES ON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80920" y="761760"/>
            <a:ext cx="738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N "CALIFORNICATION", "LOUIE", AND SINCE 2016, "BETTER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4-26T16:17:18Z</dcterms:modified>
  <cp:revision>362</cp:revision>
  <dc:subject/>
  <dc:title>Slide 1</dc:title>
</cp:coreProperties>
</file>