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8402-96A7-49E8-AF90-469A4BDBA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D83E-D233-4043-A787-A7E71A6ED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71ED-0284-4708-B37E-970335054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0D9F4-AF6C-4E1B-B82F-6C835E25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0681-6CAB-42F8-ABE1-7CCE3483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B19CB-B144-4457-94B9-2B479964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E7F7-909F-4A0E-A855-45E5E84A1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60A4-C0B4-47A2-87D1-6EF787585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098A-7E1A-4941-870E-4280F6A7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2DF2-8E7D-4BF5-B9C1-719F9FA6E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E820-860E-4DAA-9F61-5424C266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B527-9DD9-4D83-85A8-81FE86A2A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148A-B226-4EED-9CFD-BB35389C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2795-894A-48AB-A1EE-04EF2394E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C739-AE26-49E1-A239-81F6DB181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38D2-1FD8-4B98-A603-42C0F34DD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1BF5-6DDE-42F1-85D0-287A80D57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DA39-1EC9-4AF4-82D6-5ED3F028E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F83F-9437-4E56-B228-F485FA07F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E251-C055-4716-97D8-1C87557CF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598-4702-4531-AAC3-D09A62636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D564-AB15-4F29-A160-63817C809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4481-18A7-4B9E-8ED9-F380D2712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FILMMAKER HAS WON 2 OSCARS, BUT IS BEST KNOWN FOR MAKING "WOMEN ON THE VERGE OF A NERVOUS BREAK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6120" y="762120"/>
            <a:ext cx="859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ORTER FOR CNN    HAD LIVE COVERAGE FROM BAGHDAD DURING THE GULF WAR, INCLUDING AN INTERVIEW WITH SADDAM HUSS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ELA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0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BOY PLAYMATE STARRED ON "BAYWA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2240" y="762120"/>
            <a:ext cx="87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PUT YOUR HEAD ON MY SHOULDER", "(YOU'RE) HAVING MY BABY", "DIANA", AND "LONELY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S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62120"/>
            <a:ext cx="835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WRITER FAMOUS FOR HIS XANTH SERIES HAS PUBLISHED A BOOK BEGINNING WITH EVERY LETTER OF THE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MICROSOFT WITH BILL G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CH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-LIFE PHYSICIAN AND CLOWN DID ROBIN WILLIAMS PLAY IN A 199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IA  ARQU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DIUM ALLISON DUBOIS IN THE SUPERNATURAL DRAMA SERIES "MEDIUM" 2005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A  ABD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28680" y="762120"/>
            <a:ext cx="84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OREOGRAPHER FOR JANET JACKSON AND SINGER WITH 6 #1 HIT SONGS WAS ONE OF THE ORIGINAL JUDGES ON "AMERICAN ID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800" y="762120"/>
            <a:ext cx="825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BOY PLAYMATE STARRED ON "BAYWA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ELA  AD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27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N "CALIFORNICATION", "LOUIE", AND SINCE 2016, "BETTER TH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DRO  ALMODÓV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FILMMAKER HAS WON 2 OSCARS, BUT IS BEST KNOWN FOR MAKING "WOMEN ON THE VERGE OF A NERVOUS BREAK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AR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ORTER FOR CNN    HAD LIVE COVERAGE FROM BAGHDAD DURING THE GULF WAR, INCLUDING AN INTERVIEW WITH SADDAM HUSS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S "PUT YOUR HEAD ON MY SHOULDER", "(YOU'RE) HAVING MY BABY", "DIANA", AND "LONELY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18960" y="762120"/>
            <a:ext cx="850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WRITER FAMOUS FOR HIS XANTH SERIES HAS PUBLISHED A BOOK BEGINNING WITH EVERY LETTER OF THE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3440" y="837720"/>
            <a:ext cx="82771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MICROSOFT WITH BILL G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-LIFE PHYSICIAN AND CLOWN DID ROBIN WILLIAMS PLAY IN A 199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DIUM ALLISON DUBOIS IN THE SUPERNATURAL DRAMA SERIES "MEDIUM" 2005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OREOGRAPHER FOR JANET JACKSON AND SINGER WITH 6 #1 HIT SONGS WAS ONE OF THE ORIGINAL JUDGES ON "AMERICAN ID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80920" y="761760"/>
            <a:ext cx="738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ON "CALIFORNICATION", "LOUIE", AND SINCE 2016, "BETTER TH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4-26T16:17:18Z</dcterms:modified>
  <cp:revision>362</cp:revision>
  <dc:subject/>
  <dc:title>Slide 1</dc:title>
</cp:coreProperties>
</file>