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ACFF-5AE2-4232-B177-5A7EFB9BA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6C3D-AF83-4789-B419-27088A539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609E-D9C3-4931-B1D4-3B9746FD9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CF13-B35E-451B-A889-DCA0B20F7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F100-8269-44FB-93AD-020D25F57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D11D4-2989-46C2-9A52-AC0D2B359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F329-F37B-4CAE-B700-8CEC5659B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D924-6A98-4473-B333-8F8D7F7F7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8656-06E3-4BC8-AD5B-B20700D32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E145-2806-4DF8-A2FA-32A262BE7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1B41-C120-4161-B59A-4E1DFECD3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ECB3-86A7-456D-B2CA-7B4A3ED0A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BD72-F4B6-4527-A889-21B6CF878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B908-FA91-44AD-A31B-B1C1C2CE2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BF21-BD06-44B6-A523-CF915889F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4889-0856-4676-B5D7-2ECDBAE65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142A-0711-4A81-AA5D-789F8A4A2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7A51-C518-4745-AEF5-5BB8FEA94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515D-9595-4B5A-8221-6FEB85FAE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7E59-7015-4235-8D21-6EB69ED86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44F8-8A4C-4475-A0FA-B135A5250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1375-AFE6-4A20-8030-7338F3B38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DE1F-FB1F-445B-8C65-AFF6E3CF5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2240" y="761760"/>
            <a:ext cx="875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A 12-YEAR RELATIONSHIP WITH BILL CLINTON, WHO WROTE THE BOOKS "PASSION AND BETRAYAL" AND "SLEEPING WITH THE PRESID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26960" y="762120"/>
            <a:ext cx="829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PRIL 2021, A MINNEAPOLIS POLICE OFFICER DEREK CHAUVIN WAS FOUND GUILTY OF MURDERING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ALD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98360" y="762120"/>
            <a:ext cx="8747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PERSON TO SERVE AS PRESIDENT AND V.P. OF THE U.S. WITHOUT BEING ELECTED TO EITHER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FORE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51000" y="762120"/>
            <a:ext cx="8442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WEIGHT BOXING CHAMPION SOLD THE NAMING RIGHTS TO HIS GRILL FOR OVER $100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STAVE  FLAU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89000" y="762120"/>
            <a:ext cx="876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MADAME BOV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N  F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65400" y="762120"/>
            <a:ext cx="661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EAGLES SANG "THE HEAT IS 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Y  FAW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9560" y="762120"/>
            <a:ext cx="8264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UNSUCCESSFULLY PLOTTED TO BLOW UP THE HOUSE OF LORDS IN 16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MASTER  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04920" y="762120"/>
            <a:ext cx="8567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THE FURIOUS FIVE, WHO WAS INDUCTED IN THE ROCK AND ROLL HALL OF FAME IN 2007, BEING THE FIRST HIP HOP ACT SO HONO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Y  FIE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08080" y="762120"/>
            <a:ext cx="692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F WAS THE FACE OF THE FOOD NETWORK IN THE 201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89000" y="762120"/>
            <a:ext cx="876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PERSON TO SERVE AS PRESIDENT AND V.P. OF THE U.S. WITHOUT BEING ELECTED TO EITHER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ALDINE  FERRA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EMALE VICE PRESIDENTIAL CANDIDATE BY A MAJOR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NIFER  FL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81160" y="762120"/>
            <a:ext cx="8581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A 12-YEAR RELATIONSHIP WITH BILL CLINTON, WHO WROTE THE BOOKS "PASSION AND BETRAYAL" AND "SLEEPING WITH THE PRESID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42880" y="762120"/>
            <a:ext cx="8058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PRIL 2021, A MINNEAPOLIS POLICE OFFICER DEREK CHAUVIN WAS FOUND GUILTY OF MURDERING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84200" y="761760"/>
            <a:ext cx="8175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WEIGHT BOXING CHAMPION SOLD THE NAMING RIGHTS TO HIS GRILL FOR OVER $100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23920" y="762120"/>
            <a:ext cx="869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MADAME BOV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14440" y="762120"/>
            <a:ext cx="6315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EAGLES SANG "THE HEAT IS 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UNSUCCESSFULLY PLOTTED TO BLOW UP THE HOUSE OF LORDS IN 16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31840" y="761760"/>
            <a:ext cx="8680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THE FURIOUS FIVE, WHO WAS INDUCTED IN THE ROCK AND ROLL HALL OF FAME IN 2007, BEING THE FIRST HIP HOP ACT SO HONO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30320" y="761760"/>
            <a:ext cx="708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F WAS THE FACE OF THE FOOD NETWORK IN THE 201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23360" y="761760"/>
            <a:ext cx="8294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EMALE VICE PRESIDENTIAL CANDIDATE   BY A MAJOR PAR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1-10-24T13:14:42Z</dcterms:modified>
  <cp:revision>399</cp:revision>
  <dc:subject/>
  <dc:title>Slide 1</dc:title>
</cp:coreProperties>
</file>