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7489-F53E-40CB-BF6E-0FE37C00F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A895-D4CB-427A-A2CF-8EF8E985B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7C78-ADF9-476D-97B5-B79701F69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1C21-DCD7-45DD-A2FE-7864633A2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472A-C919-4F6D-B3E5-4AFC0080C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CD4C-C26B-4F17-B546-614617552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3128-8A4D-471C-8687-4D6A8E996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A926-C8E2-41ED-9193-BFADFFB0E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1EE7-E9D7-4669-82C8-89B2103E3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6089-D61B-4FD2-AC0A-3344469BF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BFC8-A73E-4B73-BFBF-7FD37AF84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C6AF-FF2F-46F5-9619-87C4B3293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0323-E8A5-4DD0-8641-EC74F00CC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29FB-78D3-4066-B5A2-73FC35D91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56F0-DE47-45B7-B878-974E9CFC3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3946-7DD3-48A0-8A00-C276ED96B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078B-A54C-4794-8319-3F35B5A13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83EC-12C0-48C3-B5CF-E4A5B8EF7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BE11-F475-4004-86DB-A3D64DC35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E7CD-78C8-4F18-90ED-C9E7132C2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ACC3-9A66-446B-9AB8-EBD8F6A7A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1C6B-D76D-4B77-88AC-BCAF42599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9E16-20A3-43D4-BBFF-1293F9BBA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2240" y="761760"/>
            <a:ext cx="875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A 12-YEAR RELATIONSHIP WITH BILL CLINTON, WHO WROTE THE BOOKS "PASSION AND BETRAYAL" AND "SLEEPING WITH THE PRESID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26960" y="762120"/>
            <a:ext cx="829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PRIL 2021, A MINNEAPOLIS POLICE OFFICER DEREK CHAUVIN WAS FOUND GUILTY OF MURDERING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ALD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98360" y="762120"/>
            <a:ext cx="874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PERSON TO SERVE AS PRESIDENT AND V.P. OF THE U.S. WITHOUT BEING ELECTED TO EITHER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FORE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51000" y="762120"/>
            <a:ext cx="8442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WEIGHT BOXING CHAMPION SOLD THE NAMING RIGHTS TO HIS GRILL FOR OVER $10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STAVE  FLAU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89000" y="762120"/>
            <a:ext cx="876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MADAME BOV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N  F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65400" y="762120"/>
            <a:ext cx="661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EAGLES SANG "THE HEAT IS 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Y  FAW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9560" y="762120"/>
            <a:ext cx="8264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UNSUCCESSFULLY PLOTTED TO BLOW UP THE HOUSE OF LORDS IN 16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MASTER  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04920" y="762120"/>
            <a:ext cx="8567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THE FURIOUS FIVE, WHO WAS INDUCTED IN THE ROCK AND ROLL HALL OF FAME IN 2007, BEING THE FIRST HIP HOP ACT SO HONO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Y  FI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08080" y="762120"/>
            <a:ext cx="692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F WAS THE FACE OF THE FOOD NETWORK IN THE 201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89000" y="762120"/>
            <a:ext cx="876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PERSON TO SERVE AS PRESIDENT AND V.P. OF THE U.S. WITHOUT BEING ELECTED TO EITHER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ALDINE  FERRA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EMALE VICE PRESIDENTIAL CANDIDATE BY A MAJOR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NIFER  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81160" y="762120"/>
            <a:ext cx="8581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A 12-YEAR RELATIONSHIP WITH BILL CLINTON, WHO WROTE THE BOOKS "PASSION AND BETRAYAL" AND "SLEEPING WITH THE PRESID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42880" y="762120"/>
            <a:ext cx="8058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PRIL 2021, A MINNEAPOLIS POLICE OFFICER DEREK CHAUVIN WAS FOUND GUILTY OF MURDERING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84200" y="761760"/>
            <a:ext cx="8175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WEIGHT BOXING CHAMPION SOLD THE NAMING RIGHTS TO HIS GRILL FOR OVER $100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23920" y="762120"/>
            <a:ext cx="869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MADAME BOV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14440" y="762120"/>
            <a:ext cx="6315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EAGLES SANG "THE HEAT IS 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UNSUCCESSFULLY PLOTTED TO BLOW UP THE HOUSE OF LORDS IN 16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31840" y="761760"/>
            <a:ext cx="8680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THE FURIOUS FIVE, WHO WAS INDUCTED IN THE ROCK AND ROLL HALL OF FAME IN 2007, BEING THE FIRST HIP HOP ACT SO HONO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30320" y="761760"/>
            <a:ext cx="70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F WAS THE FACE OF THE FOOD NETWORK IN THE 201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23360" y="761760"/>
            <a:ext cx="8294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EMALE VICE PRESIDENTIAL CANDIDATE   BY A MAJOR PAR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1-10-24T13:14:42Z</dcterms:modified>
  <cp:revision>399</cp:revision>
  <dc:subject/>
  <dc:title>Slide 1</dc:title>
</cp:coreProperties>
</file>