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C152F-B377-4D13-8EEB-FE0F14894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28BE-7E4A-4DF0-907C-B138968EE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5501-C87C-46C6-8B58-8E9126887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0CA5-AB2B-4DDC-B56A-5B00158F3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2910-A232-4A40-A5A7-88F3586B7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DB60-45E6-4108-8EC0-2E83EFE45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9168-8D8E-4F8C-9CA8-CF3F4EE34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0F3-5E37-4F5F-9FA2-E58E3990A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F33A-3784-4631-80B6-DFBAC8DA7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CE19-DE04-4D73-99A1-28B935FA3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5BBF-4FAE-446B-AC74-CA4EFB74C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955F-D836-46CB-92BF-C7AA94D8D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81B4-A330-4CBD-B22B-A6246528C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C0C7-5FFA-4BEB-AFAF-E99466182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0D750-2503-4A98-AC1C-348BD79A1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257C8-CDCA-46F2-8FBF-A93B1CAB2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5AB2-CBBF-469F-BDC4-51E7EB8D1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82A6-CEDC-42FB-9D74-153EA929A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C412-CF7F-419A-AD95-FA4345D00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87CB-E2C6-4F50-A9EE-14C2C4548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783E-3185-4097-A39A-B4FBE402C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65F1-8AEE-4C1D-86B9-E130689D0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18C9-20AB-480E-BDAE-7CF9847A1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DBA3-86A0-49A6-A642-7E018C88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600" y="761760"/>
            <a:ext cx="906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LISH SPLASH", "DREAM LOVER", "MACK THE KNIFE", AND "BEYOND THE SE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BEST SUPPORTING ACTOR IN 1978 FOR "COMING HOME" AND BEST ACTOR IN 2013 FOR "NEBRASK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68360" y="762120"/>
            <a:ext cx="820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WISH PRIME MINISTER OF THE U.K. 1874-1880 PLAYED A CENTRAL ROLE IN THE CREATION OF THE MODERN CONSERVATIVE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058760" y="762120"/>
            <a:ext cx="70106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GILLIGAN'S IS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  DER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FILM "1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LL  DE BLAS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04760" y="762120"/>
            <a:ext cx="713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MAYOR OF NEW YORK CITY SINCE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938160" y="762120"/>
            <a:ext cx="7267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EPUBLICAN VP CANDIDATE IN 1976 AND THE PRESIDENTIAL CANDIDATE IN 199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TE  DAVIS  (EY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SUBJECT OF THE BEST-SELLING SONG EVER BY MUSICIAN KIM CAR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  DIDD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85720" y="762120"/>
            <a:ext cx="7972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IST KNOWN FOR HIS RECTANGULAR GUITAR PLAYED A KEY ROLE IN THE TRANSITION BETWEEN BLUES TO ROCK AND RO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DY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339840" y="762120"/>
            <a:ext cx="84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CORDED THE ALBUMS "BRINGING IT ALL BACK HOME", "HIGHWAY 61 REVISITED", AND "BLONDE ON BLONDE", ALL WITHIN A SPAN OF 15 MON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BY  DAR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173160" y="762120"/>
            <a:ext cx="8797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PLISH SPLASH", "DREAM LOVER", "MACK THE KNIFE", AND "BEYOND THE SE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DE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23840" y="762120"/>
            <a:ext cx="8896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OSCARS FOR BEST SUPPORTING ACTOR IN 1978 FOR "COMING HOME" AND BEST ACTOR IN 2013 FOR "NEBRASK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JAMIN  DISRAE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JEWISH PRIME MINISTER OF THE U.K. 1874-1880 PLAYED A CENTRAL ROLE IN THE CREATION OF THE MODERN CONSERVATIVE PA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28600" y="762120"/>
            <a:ext cx="6886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"GILLIGAN'S IS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IN THE FILM "10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004760" y="762120"/>
            <a:ext cx="713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THE MAYOR OF NEW YORK CITY SINCE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71560" y="762120"/>
            <a:ext cx="7400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REPUBLICAN VP CANDIDATE IN 1976 AND THE PRESIDENTIAL CANDIDATE IN 199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WAS THE SUBJECT OF THE BEST-SELLING SONG EVER BY MUSICIAN KIM CAR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61960" y="761760"/>
            <a:ext cx="8020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UITARIST KNOWN FOR HIS RECTANGULAR GUITAR PLAYED A KEY ROLE IN THE TRANSITION BETWEEN BLUES TO ROCK AND RO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43000" y="761760"/>
            <a:ext cx="86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RECORDED THE ALBUMS "BRINGING IT ALL BACK HOME", "HIGHWAY 61 REVISITED", AND "BLONDE ON BLONDE", ALL WITHIN A SPAN OF 15 MONTH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6-13T14:32:57Z</dcterms:modified>
  <cp:revision>364</cp:revision>
  <dc:subject/>
  <dc:title>Slide 1</dc:title>
</cp:coreProperties>
</file>