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6FD1-04B6-4959-A09C-ADF7D30BE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D7E7-E859-4B41-BD6F-BBC5814F9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2EFE-C798-4B2F-8B06-CA0052AE5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1262-CE06-40FC-9564-82872E0E9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2420-3375-445D-B89E-AADF096E2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25EB-8AB2-4AB3-BEAE-E23E0B145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6ACF-E23E-40FD-B82C-6CCD1C4F4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DAB8-40E5-4F3D-81E9-10930865A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D344-AA90-4F1C-B2A3-FBD9D9280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B1AA-BD7C-4D23-BC05-12C8F8FBF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D624-45D7-41FF-8A5C-130A824F0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B369-8F27-4716-A2D5-434B14E46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E8D8-6B65-4118-BD34-567EE975C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5F9A-1D24-4DB0-B46A-EA791233A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6FA4-07F5-4345-898E-931AC2A51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5F25-FB9D-4B54-9078-D9234D55F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40ED-242E-4DA3-BF96-B7094BF6A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7570-018F-4EE5-88E3-A38CD2EED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F986-F8F3-410A-8E2C-B1B59FA48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68A8-15E6-4C54-98DB-156173F70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6945-A2C1-4F5D-8413-D316D3911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5C3B-9586-4E02-8AE3-0E3F360C9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EE10-01D6-4EB7-8A28-3CDECAF81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712F-BEC5-421B-84AC-DF76C1426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600" y="761760"/>
            <a:ext cx="9064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PLISH SPLASH", "DREAM LOVER", "MACK THE KNIFE", AND "BEYOND THE SE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33200" y="761760"/>
            <a:ext cx="887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OSCARS FOR BEST SUPPORTING ACTOR IN 1978 FOR "COMING HOME" AND BEST ACTOR IN 2013 FOR "NEBRASK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68360" y="762120"/>
            <a:ext cx="8207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EWISH PRIME MINISTER OF THE U.K. 1874-1880 PLAYED A CENTRAL ROLE IN THE CREATION OF THE MODERN CONSERVATIVE PAR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DEN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058760" y="762120"/>
            <a:ext cx="70106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"GILLIGAN'S IS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  DER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IN THE FILM "10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DE BLAS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004760" y="762120"/>
            <a:ext cx="713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THE MAYOR OF NEW YORK CITY SINCE 201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D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938160" y="762120"/>
            <a:ext cx="726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EPUBLICAN VP CANDIDATE IN 1976 AND THE PRESIDENTIAL CANDIDATE IN 199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TE  DAVIS  (EY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666720" y="762120"/>
            <a:ext cx="7810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AS THE SUBJECT OF THE BEST-SELLING SONG EVER BY MUSICIAN KIM CAR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  DIDD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85720" y="762120"/>
            <a:ext cx="797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UITARIST KNOWN FOR HIS RECTANGULAR GUITAR PLAYED A KEY ROLE IN THE TRANSITION BETWEEN BLUES TO ROCK AND RO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DY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339840" y="762120"/>
            <a:ext cx="846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CORDED THE ALBUMS "BRINGING IT ALL BACK HOME", "HIGHWAY 61 REVISITED", AND "BLONDE ON BLONDE", ALL WITHIN A SPAN OF 15 MONTH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BY  DAR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73160" y="762120"/>
            <a:ext cx="8797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PLISH SPLASH", "DREAM LOVER", "MACK THE KNIFE", AND "BEYOND THE SE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D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23840" y="762120"/>
            <a:ext cx="8896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OSCARS FOR BEST SUPPORTING ACTOR IN 1978 FOR "COMING HOME" AND BEST ACTOR IN 2013 FOR "NEBRASK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JAMIN  DISRAE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EWISH PRIME MINISTER OF THE U.K. 1874-1880 PLAYED A CENTRAL ROLE IN THE CREATION OF THE MODERN CONSERVATIVE PAR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28600" y="762120"/>
            <a:ext cx="6886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"GILLIGAN'S IS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49280" y="761760"/>
            <a:ext cx="82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IN THE FILM "10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004760" y="762120"/>
            <a:ext cx="713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THE MAYOR OF NEW YORK CITY SINCE 201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71560" y="762120"/>
            <a:ext cx="7400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EPUBLICAN VP CANDIDATE IN 1976 AND THE PRESIDENTIAL CANDIDATE IN 199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00120" y="761760"/>
            <a:ext cx="7943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AS THE SUBJECT OF THE BEST-SELLING SONG EVER BY MUSICIAN KIM CAR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61960" y="761760"/>
            <a:ext cx="8020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UITARIST KNOWN FOR HIS RECTANGULAR GUITAR PLAYED A KEY ROLE IN THE TRANSITION BETWEEN BLUES TO ROCK AND RO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43000" y="761760"/>
            <a:ext cx="8658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CORDED THE ALBUMS "BRINGING IT ALL BACK HOME", "HIGHWAY 61 REVISITED", AND "BLONDE ON BLONDE", ALL WITHIN A SPAN OF 15 MONTH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06-13T14:32:57Z</dcterms:modified>
  <cp:revision>364</cp:revision>
  <dc:subject/>
  <dc:title>Slide 1</dc:title>
</cp:coreProperties>
</file>