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19F6-1A74-4B0F-8707-CBBCAF227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EC66-F6C4-4FB5-B1F7-4258BE58A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82F1-AB73-4146-BD4E-ADC04605D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6602-A095-4CF5-BD28-E9CE4CF1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5B13-E557-4F89-902B-9B69705CA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DD4FE-7322-43AE-A6A3-1B7F9959B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308A-3C70-4312-B358-AC0085DC4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D058-349D-41F6-8DAE-E37327876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A1D8-F546-47EC-8498-853081461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A9CB-E1E8-48AF-A2E2-38C8C55E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DC0A-872E-44E5-A263-96B22768E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FF87-8A67-4F09-B760-C9081AB0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6E9E-A026-4361-AB76-BCA94A681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4F49-B6AA-4052-8B1B-51F4D10A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52E0-8D9B-4426-8C1F-2DA2A962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9ED0-053E-47C1-9282-536C551D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7225-6928-4F28-8689-72E365B12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E9F3-3732-4C33-A045-81D8B7899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EAE1-7FB3-4523-9166-7447209E3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47A5-AC19-4107-BEDD-D8AC6C43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BF09-FFF7-43A2-92BE-D7A5FC6AB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A337-5B13-4E3C-A7C9-338D2A8DB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2DF7-49DE-4581-BDA0-5B1051321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STARTING QUARTERBACK FOR THE SEATTLE SEAHAWKS SINCE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LUE COLLAR COMEDY TOUR" FEATURED JEFF FOXWORTHY, BILL ENGVALL, LARRY THE CABLE GUY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ESE  WITHER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1080" y="762120"/>
            <a:ext cx="7520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SWEET HOME ALABAMA" AND "WATER FOR ELEPHAN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0480" y="762120"/>
            <a:ext cx="776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GOOD MORNING VIETNAM" AND "PATCH ADA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CHEL  WEIS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S IN "THE MUMMY", "THE MUMMY RETURNS", "THE FOUNTAIN", AND "THE CONSTANT GARDE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TA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00200" y="762120"/>
            <a:ext cx="774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MARRIED TO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NN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WIGHT SCHRUTE ON THE AMERICAN VERSION OF "THE OFF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QUEL  WEL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ON THE FILM "ONE MILLION YEARS B.C.", DESPITE HAVING ONLY 3 LINES OF DIALOG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85960" y="762120"/>
            <a:ext cx="737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IRST LADY, THEN VP, THEN PRESIDENT CLAIRE UNDERWOOD ON THE AMERICAN VERSION OF "HOUSE OF C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9640" y="762120"/>
            <a:ext cx="752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THE FILMS "SWEET HOME ALABAMA" AND "WATER FOR ELEPHAN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WAG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0880" y="762120"/>
            <a:ext cx="784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OMPOSED "TRISTAN AND ISOLDE", "THE TWILIGHT OF THE GODS", AND "THE VALKYR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ELL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STARTING QUARTERBACK FOR THE SEATTLE SEAHAWKS SINCE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95320" y="762120"/>
            <a:ext cx="7353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LUE COLLAR COMEDY TOUR" FEATURED JEFF FOXWORTHY, BILL ENGVALL, LARRY THE CABLE GUY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GOOD MORNING VIETNAM" AND "PATCH ADA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S IN "THE MUMMY", "THE MUMMY RETURNS", "THE FOUNTAIN", AND "THE CONSTANT GARDE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2040" y="762120"/>
            <a:ext cx="781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IS MARRIED TO TOM HAN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WIGHT SCHRUTE ON THE AMERICAN VERSION OF "THE OFF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OT TOP BILLING ON THE FILM "ONE MILLION YEARS B.C.", DESPITE HAVING ONLY 3 LINES OF DIALOG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IRST LADY, THEN VP, THEN PRESIDENT CLAIRE UNDERWOOD ON THE AMERICAN VERSION OF "HOUSE OF C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COMPOSED "TRISTAN AND ISOLDE", "THE TWILIGHT OF THE GODS", AND "THE VALKYR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6-27T02:38:34Z</dcterms:modified>
  <cp:revision>360</cp:revision>
  <dc:subject/>
  <dc:title>Slide 1</dc:title>
</cp:coreProperties>
</file>