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66C-AFFD-4354-80EC-19D51B6B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A377-BAE1-486E-803C-D21E32AA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94C-5295-46B1-B58C-DD65DC5C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19E-3CFF-4EAC-AD51-82274A50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4650-935B-4F42-A795-CF09D298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6FF-481B-4E76-AAFF-E96662E92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D10-DB9F-4F7A-B17D-F452E626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BFC-DEE5-4210-AEEE-C9CF40AA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48C-BCE8-41F3-A46D-5FA6D0E90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226-5B86-4353-A558-37A255FB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51E-3DF8-4E95-A11C-30EA7724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305F-B61E-44CD-BCF0-052AEDE1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DFD2-58DB-4DED-9CA3-245FF3DF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D751-9A3B-4793-B385-944E31AA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5E3-1B68-48E7-BB29-EF9B72F9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7159-2B7D-40E7-B4BF-F185C50D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C90-0438-4BA2-972F-6D7CA775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4ED6-E239-4BC3-911B-1B0FE844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86E1-C8D8-4BB9-B022-3D7BC03C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1916-F6DA-4A57-B8B5-293BEB0F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277A-9395-416B-A7AF-3059EAC6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CE3-3737-48CD-BDE6-178C1F96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2E2-B9CF-462E-B558-AC77CC26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QUARTERBACK FOR THE SEATTLE SEAHAWKS SINCE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LUE COLLAR COMEDY TOUR" FEATURED JEFF FOXWORTHY, BILL ENGVALL, LARRY THE CABLE GU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WEET HOME ALABAMA" AND "WATER FOR ELEPHA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GOOD MORNING VIETNAM" AND "PATCH AD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WEIS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S IN "THE MUMMY", "THE MUMMY RETURNS", "THE FOUNTAIN", AND "THE CONSTANT GARD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00200" y="762120"/>
            <a:ext cx="77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WIGHT SCHRUTE ON THE AMERICAN VERSION OF "THE OFF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QUEL  WEL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ON THE FILM "ONE MILLION YEARS B.C.", DESPITE HAVING ONLY 3 LINES OF DIALO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IRST LADY, THEN VP, THEN PRESIDENT CLAIRE UNDERWOOD ON THE AMERICAN VERSION OF 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WEET HOME ALABAMA" AND "WATER FOR ELEPHA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WA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OMPOSED "TRISTAN AND ISOLDE", "THE TWILIGHT OF THE GODS", AND "THE VALKY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QUARTERBACK FOR THE SEATTLE SEAHAWKS SINCE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LUE COLLAR COMEDY TOUR" FEATURED JEFF FOXWORTHY, BILL ENGVALL, LARRY THE CABLE GU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GOOD MORNING VIETNAM" AND "PATCH AD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S IN "THE MUMMY", "THE MUMMY RETURNS", "THE FOUNTAIN", AND "THE CONSTANT GARD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WIGHT SCHRUTE ON THE AMERICAN VERSION OF "THE OFF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ON THE FILM "ONE MILLION YEARS B.C.", DESPITE HAVING ONLY 3 LINES OF DIALO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IRST LADY, THEN VP, THEN PRESIDENT CLAIRE UNDERWOOD ON THE AMERICAN VERSION OF 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OMPOSED "TRISTAN AND ISOLDE", "THE TWILIGHT OF THE GODS", AND "THE VALKY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27T02:38:34Z</dcterms:modified>
  <cp:revision>360</cp:revision>
  <dc:subject/>
  <dc:title>Slide 1</dc:title>
</cp:coreProperties>
</file>