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2A07-4AD1-4E01-B62C-55B6502B0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E315-3185-47D5-8375-D32C8B083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AA31-1FAF-46CF-B6BC-0710D034B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9230-0E9B-46B8-903E-2624E6D66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B2A1-F210-4EC3-A5F5-AE49B4FF4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E66F-29AE-427D-B9C5-BE9A3F051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CDAD-95D2-481F-8D38-6BA819CED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D27B-56EC-4680-8DCA-EDE4AAD5A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5FC6-E880-4971-94FF-9E50D70C3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1836-88FE-4385-B13A-5D9EF86A3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311E-221D-4B7E-B088-3115B2717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BCB9-2991-404F-BAB1-3F722F67D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4F30-74D5-412A-B253-31FD7BDC5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BB51-6D32-489C-AD80-228DC55D3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AD31-1A5B-4477-93CF-FA3107697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13AF-2DB1-4764-9924-7FF7734A0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1A6C-1424-4139-84EF-07567EB2B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FDDC-A5BC-4BED-AE3A-1FF897C7C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A4E1-64E2-4BB1-A08E-41D8CAE86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BA65-9FD1-4F25-A575-D0FA1B441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051E-0436-4268-A1C8-57113EEFD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EFDA-318C-45B5-A2D3-92E5D6338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693D-46F9-44D8-A0DA-F920D32F5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09520" y="761760"/>
            <a:ext cx="8724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4 TIMES, FOR "STELLA DALLAS", "BALL OF FIRE", DOUBLE INDEMNITY", AND "SORRY, WRONG NUMB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81200" y="762120"/>
            <a:ext cx="758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SONG "SHAME ON THE MO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TNEY  SP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42800" y="762120"/>
            <a:ext cx="825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'S        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WO ALBUM NAMES CONTAINED ELLIPSES:                    "... BABY ONE MORE TIME"  AND "OOPS! ... I DID IT AG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SPRINGST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01760" y="762120"/>
            <a:ext cx="8300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WON 4 GRAMMYS FOR HIS SONG "STREETS OF PHILADELPHI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STI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85720" y="762120"/>
            <a:ext cx="7970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IN "THE SECRET LIFE OF WALTER MIIT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RA  STREIS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41440" y="762120"/>
            <a:ext cx="8061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2 PEOPLE HAVE WON      A PEGOT (PEABODY, EMMY, GRAMMY, OSCAR, AND TONY): THE LATE DIRECTOR MIKE NICHOLS, AND WHO E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OKE  SH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 BLUE LAGOON" AND "ENDLESS LOVE", BUT THEN POSTPONED HER ACTING CAREER TO GO TO PRINCE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KE  SHE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23800" y="762120"/>
            <a:ext cx="8096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LDS THE RECORD FOR THE MOST CONSECUTIVE #1 COUNTRY SINGLES, AND IS MARRIED TO GWEN STEFAN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SAG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85960" y="762120"/>
            <a:ext cx="7372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FATHER DANNY TANNER ON "FULL HOUSE" AND THE NETFLIX SEQUEL "FULLER HOU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66840" y="762120"/>
            <a:ext cx="8410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'S        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WO ALBUM NAMES CONTAINED ELLIPSES:                    "... BABY ONE MORE TIME"  AND "OOPS! ... I DID IT AG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M  STO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316160" y="762120"/>
            <a:ext cx="6511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1897 NOVEL "DRACUL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ARA  STANWY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09520" y="762120"/>
            <a:ext cx="87249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4 TIMES, FOR "STELLA DALLAS", "BALL OF FIRE", DOUBLE INDEMNITY", AND "SORRY, WRONG NUMB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SE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95320" y="762120"/>
            <a:ext cx="7353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SONG "SHAME ON THE MO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49280" y="761760"/>
            <a:ext cx="82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WON 4 GRAMMYS FOR HIS SONG "STREETS OF PHILADELPHI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85720" y="762120"/>
            <a:ext cx="7970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IN "THE SECRET LIFE OF WALTER MIT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46040" y="762120"/>
            <a:ext cx="8251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2 PEOPLE HAVE WON A PEGOT (PEABODY, EMMY, GRAMMY, OSCAR, AND TONY): THE LATE DIRECTOR MIKE NICHOLS, AND WHO EL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09680" y="76176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 BLUE LAGOON" AND "ENDLESS LOVE", BUT THEN POSTPONED HER ACTING CAREER TO GO TO PRINCE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LDS THE RECORD FOR THE MOST CONSECUTIVE #1 COUNTRY SINGLES, AND IS MARRIED TO GWEN STEFAN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FATHER DANNY TANNER ON "FULL HOUSE" AND THE NETFLIX SEQUEL "FULLER HOU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43120" y="761760"/>
            <a:ext cx="7457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1897 NOVEL "DRACUL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10-03T08:49:09Z</dcterms:modified>
  <cp:revision>364</cp:revision>
  <dc:subject/>
  <dc:title>Slide 1</dc:title>
</cp:coreProperties>
</file>