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2DB5-991E-4336-BF5A-66B62DE5F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D8BD-588A-4C6E-8788-E53DF261D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B01A-6AA2-44EA-AD73-8F6F2E328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A062-74F0-4CAD-98A7-61C89339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C9419-045C-4B8D-9C63-EE2B73D12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FD03-C793-4B11-B3D2-EF248005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FB27-3B52-4BED-9CF9-E0CA5CCB8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42B-279E-4706-9FEC-0D9FDBD6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983D-D654-4C07-96EA-7F6418338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3E6C-99FD-42C7-BBF0-5D165164E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93F3-9038-4504-81F5-A8F083256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26C9-84F9-423B-8B19-9ECA8FDF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C60E-56E2-41AC-A5B2-44CD570FC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6215-E5C9-46F0-80F9-3CBF1374A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ED50-FB86-44D4-BFB3-17DCDEFC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6892-DFEB-4F0F-864F-2C86E35F0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B22B-FCD6-44CA-AA11-C25BDD79A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EF82-E78C-496B-9263-991E1A4CD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AF72-5828-4506-AAE9-32FA170A7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D75A3-7FAE-460E-BDB9-7D4F3FF48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E7AE-3BB1-40B2-85F9-C50AE7FCF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9C74-3E2A-4CA8-9114-C0200F6F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01CC-DCD1-4A72-B78E-945D524A6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4 TIMES, FOR "STELLA DALLAS", "BALL OF FIRE", DOUBLE INDEMNITY", AND "SORRY, WRONG NU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SHAME ON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NEY  SP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42800" y="762120"/>
            <a:ext cx="825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       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WO ALBUM NAMES CONTAINED ELLIPSES:                    "... BABY ONE MORE TIME"  AND "OOPS! ... I DID IT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1760" y="762120"/>
            <a:ext cx="8300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WON 4 GRAMMYS FOR HIS SONG "STREETS OF PHILADELPH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ST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 SECRET LIFE OF WALTER MIIT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RA  STREI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41440" y="762120"/>
            <a:ext cx="806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2 PEOPLE HAVE WON      A PEGOT (PEABODY, EMMY, GRAMMY, OSCAR, AND TONY): THE LATE DIRECTOR MIKE NICHOLS, AND WHO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OKE  SHIE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 LAGOON" AND "ENDLESS LOVE", BUT THEN POSTPONED HER ACTING CAREER TO GO TO PRINCE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SH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RECORD FOR THE MOST CONSECUTIVE #1 COUNTRY SINGLES, AND IS MARRIED TO GWEN STEFAN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AG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85960" y="762120"/>
            <a:ext cx="737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DANNY TANNER ON "FULL HOUSE" AND THE NETFLIX SEQUEL "FULLER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1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       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WO ALBUM NAMES CONTAINED ELLIPSES:                    "... BABY ONE MORE TIME"  AND "OOPS! ... I DID IT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M  ST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16160" y="762120"/>
            <a:ext cx="651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897 NOVEL "DRACUL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STANWY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9520" y="762120"/>
            <a:ext cx="8724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4 TIMES, FOR "STELLA DALLAS", "BALL OF FIRE", DOUBLE INDEMNITY", AND "SORRY, WRONG NU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 "SHAME ON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WON 4 GRAMMYS FOR HIS SONG "STREETS OF PHILADELPH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85720" y="762120"/>
            <a:ext cx="7970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THE SECRET LIFE OF WALTER MIT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46040" y="762120"/>
            <a:ext cx="825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2 PEOPLE HAVE WON A PEGOT (PEABODY, EMMY, GRAMMY, OSCAR, AND TONY): THE LATE DIRECTOR MIKE NICHOLS, AND WHO E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9680" y="761760"/>
            <a:ext cx="8324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BLUE LAGOON" AND "ENDLESS LOVE", BUT THEN POSTPONED HER ACTING CAREER TO GO TO PRINCE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LDS THE RECORD FOR THE MOST CONSECUTIVE #1 COUNTRY SINGLES, AND IS MARRIED TO GWEN STEFAN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DANNY TANNER ON "FULL HOUSE" AND THE NETFLIX SEQUEL "FULLER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897 NOVEL "DRACUL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03T08:49:09Z</dcterms:modified>
  <cp:revision>364</cp:revision>
  <dc:subject/>
  <dc:title>Slide 1</dc:title>
</cp:coreProperties>
</file>