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9AEE9-E8BD-45CA-A37C-2E50354950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B2B55-A2F0-447B-8015-ADCEA90D90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44325-BAF4-4C55-8EAC-A540E7A8DF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A3595-7432-4C6F-951B-C45353586E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6A537-3CAB-4321-BC78-A66C5132BA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D489D-C38B-46DB-A075-6A17EE05F8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83EBC-B177-4ECA-AD40-D5E0A0423B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6B7C8-AA55-41A5-B23D-79490D9057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26238-8315-430C-AC23-0F23AAAF3C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81E09-D822-4B3B-81F3-8A7EA134E8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ADF46-27EC-4D11-B0D7-72A1A00CCE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34910-DD55-4F92-8D23-C50B0BB468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B294B-FA4D-4DFF-AEC1-E476820B1E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7C461-CF68-4C04-AAEC-D04F8A5EBF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1D3F6-4066-4800-BDAD-EAA8855C62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6455C-A1D7-4FF7-8BD8-6508FB704C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CFB24-A4D7-419E-8308-FB25E4F467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454A7-096F-44A7-82D1-37629E6C77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A2F18-5CED-4403-838C-68AB51D033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7254D-3C32-4AF6-8396-9135CF7573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96CC0-E2A1-48D6-BC47-28B610D884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5D166-4DF8-4A81-B47A-EA2601F3F6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84C1C-D0CC-423E-BE9E-8537748D3F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799920" y="152388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USICAL SAME INITI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ICH RECORD PRODUCER MANAGED THE RONETTES, THE CRYSTALS, JOHN LENNON, AND GEORGE HARRISON, AND WAS CONVICTED OF MURDER IN 2008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304920" y="762120"/>
            <a:ext cx="85341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DAVID LETTERMAN'S MUSICAL DIRECTOR, BAND LEADER, AND SIDEKIC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AUL  SIM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990720" y="762120"/>
            <a:ext cx="716256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USICAL ARTIST'S ALBUM "GRACELAND" SOLD 14 MILLION COPI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ETE  SEEG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457200" y="758880"/>
            <a:ext cx="82296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OLK SINGER AND SONGWRITER WROTE "TURN, TURN, TURN", "WHERE HAVE ALL THE FLOWERS GONE?", AND "IF I HAD A HAMMER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AUL  STOOK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723960" y="762120"/>
            <a:ext cx="7696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THE SONG "WHERE HAVE ALL THE FLOWERS GONE?" WITH PETER AND MAR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7692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ATTI  SMI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304920" y="762120"/>
            <a:ext cx="8458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FEMALE PUNK ROCK STAR IS BEST-KNOWN FOR THE SONG "BECAUSE THE NIGH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OSH  SPI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762120" y="762120"/>
            <a:ext cx="76197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STAGE NAME OF VICTORIA BECKHAM IN THE BEST-SELLING GIRL GROUP OF ALL TI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OINTER  SIS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1066680" y="758880"/>
            <a:ext cx="701064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JUMP" AND "I'M SO EXCITE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ATTY  SMY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304920" y="762120"/>
            <a:ext cx="85341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LEAD SINGER OF SCANDAL, AND IS MARRIED TO TENNIS STAR JOHN MCENRO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952560" y="762120"/>
            <a:ext cx="72388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USICAL ARTIST'S ALBUM "GRACELAND" SOLD 14 MILLION COPI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87980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ERCY  SLED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1219320" y="762120"/>
            <a:ext cx="670536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THE 1966 HIT SONG "WHEN A MAN LOVES A WOMA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HIL  SPECT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457200" y="762120"/>
            <a:ext cx="822960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ICH RECORD PRODUCER MANAGED THE RONETTES, THE CRYSTALS, JOHN LENNON, AND GEORGE HARRISON, AND WAS CONVICTED OF MURDER IN 2008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AUL  SHAFF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304920" y="762120"/>
            <a:ext cx="85341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DAVID LETTERMAN'S MUSICAL DIRECTOR, BAND LEADER, AND SIDEKIC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OLK SINGER AND SONGWRITER WROTE "TURN, TURN, TURN", "WHERE HAVE ALL THE FLOWERS GONE?", AND "IF I HAD A HAMMER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723960" y="762120"/>
            <a:ext cx="7696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THE SONG "WHERE HAVE ALL THE FLOWERS GONE?" WITH PETER AND MAR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304920" y="762120"/>
            <a:ext cx="85341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FEMALE PUNK ROCK STAR IS BEST-KNOWN FOR THE SONG "BECAUSE THE NIGHT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571320" y="723960"/>
            <a:ext cx="8001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STAGE NAME OF VICTORIA BECKHAM IN THE BEST-SELLING GIRL GROUP OF ALL TIM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1104840" y="761760"/>
            <a:ext cx="69343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JUMP" AND "I'M SO EXCITED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342720" y="761760"/>
            <a:ext cx="84582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LEAD SINGER OF SCANDAL, AND IS MARRIED TO TENNIS STAR JOHN MCENRO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1066680" y="761760"/>
            <a:ext cx="701064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THE 1966 HIT SONG "WHEN A MAN LOVES A WOMAN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17T16:55:10Z</dcterms:created>
  <dc:creator>Jennifer Budzinski</dc:creator>
  <dc:description/>
  <dc:language>en-US</dc:language>
  <cp:lastModifiedBy>Erich Friedman</cp:lastModifiedBy>
  <dcterms:modified xsi:type="dcterms:W3CDTF">2020-08-23T22:03:55Z</dcterms:modified>
  <cp:revision>321</cp:revision>
  <dc:subject/>
  <dc:title>Slide 1</dc:title>
</cp:coreProperties>
</file>