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F9A5-BF9E-412F-A68D-4A92498FF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E0C9-F39C-4A02-B88A-963D8DF83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6C4F-A2C3-448E-80F9-043E2DDE3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D379-D8A1-4FD2-A348-8E3171F02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C331-104B-418E-9464-645D7E6DA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89D6-1F32-4B00-A376-313360CBE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5C46-7A7F-4E5B-BA8D-9622AC8BF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3D24-884F-4050-9F80-CC6D630A8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6DE3-16EF-49F2-A1A7-EDCE6ED77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39A2-F09F-43B1-A776-BAAE6703F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E429-38D6-494E-AB34-30A51290D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0958-13CE-435C-80BE-140F0E209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34FC-73A9-45AE-96CC-A55D1695E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4C90-9778-4A26-8763-65994EF18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F31E-AA72-4831-AC1D-ABD41689A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9167-7F02-4C4F-B4C9-DD6A1211E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0442-1B3D-445D-9E89-BE473C435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12E0-857A-44DC-BE33-86F9D0D77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26E4-DF9E-43F7-BC87-6770596BF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449C-5786-4CCA-ABFC-0D3BDFA61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113D-CFF0-48D6-A710-A9CBE03EC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F447-8C1E-45FE-82B3-11038EC04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C305-5F29-4765-B9AE-083E444EE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SICAL 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CH RECORD PRODUCER MANAGED THE RONETTES, THE CRYSTALS, JOHN LENNON, AND GEORGE HARRISON, AND WAS CONVICTED OF MURDER IN 2008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04920" y="762120"/>
            <a:ext cx="85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DAVID LETTERMAN'S MUSICAL DIRECTOR, BAND LEADER, AND SIDEKI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SI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RTIST'S ALBUM "GRACELAND" SOLD 14 MILLION COP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  SEE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5888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LK SINGER AND SONGWRITER WROTE "TURN, TURN, TURN", "WHERE HAVE ALL THE FLOWERS GONE?", AND "IF I HAD A HAMM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STOO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SONG "WHERE HAVE ALL THE FLOWERS GONE?" WITH PETER AND M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TI  SM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0492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FEMALE PUNK ROCK STAR IS BEST-KNOWN FOR THE SONG "BECAUSE THE 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SH  SP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TAGE NAME OF VICTORIA BECKHAM IN THE BEST-SELLING GIRL GROUP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INTER  SI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66680" y="758880"/>
            <a:ext cx="70106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JUMP" AND "I'M SO EXCIT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TY  SMY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04920" y="762120"/>
            <a:ext cx="85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SCANDAL, AND IS MARRIED TO TENNIS STAR JOHN MCENRO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RTIST'S ALBUM "GRACELAND" SOLD 14 MILLION COP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98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RCY  SLE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19320" y="762120"/>
            <a:ext cx="67053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1966 HIT SONG "WHEN A MAN LOVES A WO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  SP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CH RECORD PRODUCER MANAGED THE RONETTES, THE CRYSTALS, JOHN LENNON, AND GEORGE HARRISON, AND WAS CONVICTED OF MURDER IN 2008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SHAF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04920" y="762120"/>
            <a:ext cx="85341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DAVID LETTERMAN'S MUSICAL DIRECTOR, BAND LEADER, AND SIDEKI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LK SINGER AND SONGWRITER WROTE "TURN, TURN, TURN", "WHERE HAVE ALL THE FLOWERS GONE?", AND "IF I HAD A HAMM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SONG "WHERE HAVE ALL THE FLOWERS GONE?" WITH PETER AND M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FEMALE PUNK ROCK STAR IS BEST-KNOWN FOR THE SONG "BECAUSE THE 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2396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TAGE NAME OF VICTORIA BECKHAM IN THE BEST-SELLING GIRL GROUP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JUMP" AND "I'M SO EXCIT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SCANDAL, AND IS MARRIED TO TENNIS STAR JOHN MCENRO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1966 HIT SONG "WHEN A MAN LOVES A WO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6:55:10Z</dcterms:created>
  <dc:creator>Jennifer Budzinski</dc:creator>
  <dc:description/>
  <dc:language>en-US</dc:language>
  <cp:lastModifiedBy>Erich Friedman</cp:lastModifiedBy>
  <dcterms:modified xsi:type="dcterms:W3CDTF">2020-08-23T22:03:55Z</dcterms:modified>
  <cp:revision>321</cp:revision>
  <dc:subject/>
  <dc:title>Slide 1</dc:title>
</cp:coreProperties>
</file>