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C499-F34B-4FED-AEF7-3077F2263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054A-B1FB-4CDF-B83B-66CB12E75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791D-E91E-463A-940C-9B4CBDA46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2E31-CD4F-4BF1-A29D-3126278FA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4170-E907-46DB-9780-6CAE0B8CF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21A1-3426-40A3-9DF0-D42EBEC1B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D2AF-DA9F-4F1B-BA5D-577F5D24C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4EC6-7081-40D3-9748-89F09207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72D6-7056-41F9-9CB5-41C9C5AA3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49DC-91AA-46E1-990C-9C770F5F1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497B-CA7D-4864-A4A7-7D72850CC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C017-1980-43AE-ABB4-0DA10EAE4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B337-1E8A-462E-832D-3C6A4D14B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BDC1-9132-4B25-95EC-75CC073F2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88B8-8679-40C5-B339-E46E42B1F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BFF4-4730-43B9-9CB6-F012C3EAB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E022-2B66-401F-803C-CEC3C62AE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5BDF4-55D8-4EA4-B520-9E4FD1530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B5FE-79FA-4638-9E77-F7564F52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2A53-4BF0-4E9B-8A7C-DBAEE79E9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A8F3-C898-437A-B31B-16D5A013A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7403-EB09-4D91-9020-9F396A02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B9DC-DF79-402A-AD7B-B0BB96441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RECORD PRODUCER MANAGED THE RONETTES, THE CRYSTALS, JOHN LENNON, AND GEORGE HARRISON, AND WAS CONVICTED OF MURDER IN 2008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VID LETTERMAN'S MUSICAL DIRECTOR, BAND LEADER, AND SIDEK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'S ALBUM "GRACELAND" SOLD 14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SE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5888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TOO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"WHERE HAVE ALL THE FLOWERS GONE?" WITH PETER AND M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I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049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PUNK ROCK STAR IS BEST-KNOWN FOR THE SONG "BECAUSE THE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H  SP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VICTORIA BECKHAM IN THE BEST-SELLING GIRL GROUP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INTER  S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58880"/>
            <a:ext cx="7010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UMP" AND "I'M SO EXCI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TY  SMY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SCANDAL, AND IS MARRIED TO TENNIS STAR JOHN MCE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ARTIST'S ALBUM "GRACELAND" SOLD 14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CY  SLE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66 HIT SONG "WHEN A MAN LOVES A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P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RECORD PRODUCER MANAGED THE RONETTES, THE CRYSTALS, JOHN LENNON, AND GEORGE HARRISON, AND WAS CONVICTED OF MURDER IN 2008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HAF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DAVID LETTERMAN'S MUSICAL DIRECTOR, BAND LEADER, AND SIDEKI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SONG "WHERE HAVE ALL THE FLOWERS GONE?" WITH PETER AND M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FEMALE PUNK ROCK STAR IS BEST-KNOWN FOR THE SONG "BECAUSE THE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2396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VICTORIA BECKHAM IN THE BEST-SELLING GIRL GROUP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JUMP" AND "I'M SO EXCI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SCANDAL, AND IS MARRIED TO TENNIS STAR JOHN MCENR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66 HIT SONG "WHEN A MAN LOVES A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6:55:10Z</dcterms:created>
  <dc:creator>Jennifer Budzinski</dc:creator>
  <dc:description/>
  <dc:language>en-US</dc:language>
  <cp:lastModifiedBy>Erich Friedman</cp:lastModifiedBy>
  <dcterms:modified xsi:type="dcterms:W3CDTF">2020-08-23T22:03:55Z</dcterms:modified>
  <cp:revision>321</cp:revision>
  <dc:subject/>
  <dc:title>Slide 1</dc:title>
</cp:coreProperties>
</file>