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94A-0A9B-4025-9DA3-550939CF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2236-AC1A-4F47-BB5B-EAA4D980B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E18-2AB6-4565-B9CD-1CC68021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D29-CEF1-43D6-9A1E-6FE37210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155C-BC3D-4CFA-865E-20AA6885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AAF-E4E9-4A2D-B081-AC92EF60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4C1C-FD03-40D8-BFCF-BA712F70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386E-6B13-4C5F-B68A-5811C08B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1C2F-B99E-4726-B146-E006919B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E40-E98C-48DC-80F6-91E07C7A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34B0-6FA9-4F27-A6AE-71034017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DF0-5826-4845-ABBA-8865178C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5B89-AAAD-4590-93A0-F5F60873B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4685-94C7-4F70-BB6B-23DD1B72F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87C-3858-4D2F-8D79-35B2A962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7FAB-1B01-418D-AFA3-22D9982F4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97A-1AF0-4729-A2E8-7A34D0A29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C34B-D4E9-4509-A190-9D4C748D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E375-2D13-4FAA-9951-4AB39C32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50AE-CCF7-4549-899D-1E1DDB8A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191E-DF1D-4C6E-BBB4-5289B674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A819-41E1-4F39-ABEC-A1D7F8668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1AD4-1CCA-4402-BE9E-8E0AE16C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AND ACTRESS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7080" y="761760"/>
            <a:ext cx="870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HE HAS WON MULTIPLE EMMYS, TONYS, AND GRAMMYS, WHO IS BEST-KNOWN FOR PLAYING THE FATHER ON TV'S "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CK FROM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4960" y="762120"/>
            <a:ext cx="807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OST FAMOUS SCENE IS BEING STABBED IN A SHOWER IN "PSYC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-GROSSING ACTION HEROINE OF ALL TIME, AFTER PLAYING THE LEAD IN "THE HUNGER GAMES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  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STARRED IN "KISS OF THE DRAGON", "ROMEO MUST DIE", ALL 3 "EXPENDABLES" FILMS, AND "THE FORBIDDEN KING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14 FILMS WITH HIS COMEDIC PARTNER, DEAN MAR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LE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2120"/>
            <a:ext cx="851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        8 OSCARS, WINNING BEST SUPPORTING ACTOR FOR "MISTER ROBERTS" AND BEST ACTOR FOR "SAVE THE 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 LOCK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OTHER ON BOTH "LASSIE" AND "LOST IN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RED  L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3600" y="762120"/>
            <a:ext cx="839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 THE FILMS "URBAN LEGEND",  "CHAPTER 27", "MR. NOBODY", AND "REQUIEM FOR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47880" y="762120"/>
            <a:ext cx="724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02, WHO BECAME THE FIRST WOMAN TO HAVE A #1 ALBUM AND STAR IN A #1 FILM THE SAME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-GROSSING ACTION HEROINE OF ALL TIME, AFTER PLAYING THE LEAD IN "THE HUNGER GAM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L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6480" y="762120"/>
            <a:ext cx="7869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RESS FOR "TOOTSIE" AND BEST ACTRESS FOR "BLUE S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ITHG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17440" y="762120"/>
            <a:ext cx="870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HE HAS WON MULTIPLE EMMYS, TONYS, AND GRAMMYS, WHO IS BEST-KNOWN FOR PLAYING THE FATHER ON TV'S "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CK FROM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4960" y="762120"/>
            <a:ext cx="807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OST FAMOUS SCENE IS BEING STABBED IN A SHOWER IN "PSYC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STARRED IN "KISS OF THE DRAGON", "ROMEO MUST DIE", ALL 3 "EXPENDABLES" FILMS, AND "THE FORBIDDEN KING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14 FILMS WITH HIS COMEDIC PARTNER, DEAN MAR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4680" y="762120"/>
            <a:ext cx="85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        8 OSCARS, WINNING BEST SUPPORTING ACTOR FOR "MISTER ROBERTS" AND BEST ACTOR FOR "SAVE THE 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83800" y="761760"/>
            <a:ext cx="7373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OTHER ON BOTH "LASSIE" AND "LOST IN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  THE FILMS "URBAN LEGEND",  "CHAPTER 27", "MR. NOBODY", AND "REQUIEM FOR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0720" y="761760"/>
            <a:ext cx="7520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02, WHO BECAME THE FIRST WOMAN TO HAVE A #1 ALBUM AND STAR IN A #1 FILM THE SAME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RESS FOR "TOOTSIE" AND BEST ACTRESS FOR "BLUE S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7-15T00:15:49Z</dcterms:modified>
  <cp:revision>409</cp:revision>
  <dc:subject/>
  <dc:title>Slide 1</dc:title>
</cp:coreProperties>
</file>