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82FBC-5716-4487-90E5-A70BB3AB3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BAD7-F87F-4A2E-81BD-54B63A818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D014-D2EE-4FEF-94A2-D9404FE72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33D6-E589-4315-BD18-C00BA3FDB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64B6-C9E7-4453-9BBE-56FE7D478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B098-27AF-4AC7-8B18-1C9035AA0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78BC-375D-4BDD-9964-5D8EEF0BC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8AEF-E236-433E-8FB8-6BC9EBCCD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5F5A-97D7-4478-BE16-C0E6203E6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451C-8021-4433-B761-1F5959CAA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98C5-8618-4C85-AAA8-5DD57023C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A857-AFD0-42C1-A6B6-809D0513B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23F9-8495-416F-A14B-8B3705987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7B3F-FFA0-4089-921C-E316C56E7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B31A-0945-4002-A646-E383EEFBC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D0E2-FDB5-4631-BBBA-225BF3F80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C3CD6-C09E-421D-8869-CBE914FAF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D9C6-B48A-4580-86A7-2784792AC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3C16-B501-415C-8216-8154522D4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4CC5-42C6-43F7-A4ED-73C042AAA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9DBA-D3DA-4CDF-8A5F-20EB55AAC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3EEAC-0264-4AC4-B478-0771A0468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76C2-2A8D-4E61-B440-39BA4F4DF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CTOR AND ACTRESS 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17080" y="761760"/>
            <a:ext cx="870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HE HAS WON MULTIPLE EMMYS, TONYS, AND GRAMMYS, WHO IS BEST-KNOWN FOR PLAYING THE FATHER ON TV'S "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OCK FROM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4960" y="762120"/>
            <a:ext cx="8072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MOST FAMOUS SCENE IS BEING STABBED IN A SHOWER IN "PSYCH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LAW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IGHEST-GROSSING ACTION HEROINE OF ALL TIME, AFTER PLAYING THE LEAD IN "THE HUNGER GAMES" FRANCH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T  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43080" y="76212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STARRED IN "KISS OF THE DRAGON", "ROMEO MUST DIE", ALL 3 "EXPENDABLES" FILMS, AND "THE FORBIDDEN KINGDO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RRY 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14 FILMS WITH HIS COMEDIC PARTNER, DEAN MAR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LE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04920" y="762120"/>
            <a:ext cx="851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        8 OSCARS, WINNING BEST SUPPORTING ACTOR FOR "MISTER ROBERTS" AND BEST ACTOR FOR "SAVE THE TIG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NE  LOCK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OTHER ON BOTH "LASSIE" AND "LOST IN SP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RED  LE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3600" y="762120"/>
            <a:ext cx="8399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    THE FILMS "URBAN LEGEND",  "CHAPTER 27", "MR. NOBODY", AND "REQUIEM FOR A DR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NNIFER  LOP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947880" y="762120"/>
            <a:ext cx="7248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02, WHO BECAME THE FIRST WOMAN TO HAVE A #1 ALBUM AND STAR IN A #1 FILM THE SAME WEE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HIGHEST-GROSSING ACTION HEROINE OF ALL TIME, AFTER PLAYING THE LEAD IN "THE HUNGER GAMES" FRANCHI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SICA  L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36480" y="762120"/>
            <a:ext cx="7869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SUPPORTING ACTRESS FOR "TOOTSIE" AND BEST ACTRESS FOR "BLUE SK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LITHG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217440" y="762120"/>
            <a:ext cx="87073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LE HE HAS WON MULTIPLE EMMYS, TONYS, AND GRAMMYS, WHO IS BEST-KNOWN FOR PLAYING THE FATHER ON TV'S "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ROCK FROM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T  LE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4960" y="762120"/>
            <a:ext cx="8074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SE MOST FAMOUS SCENE IS BEING STABBED IN A SHOWER IN "PSYCH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RTIAL ARTIST STARRED IN "KISS OF THE DRAGON", "ROMEO MUST DIE", ALL 3 "EXPENDABLES" FILMS, AND "THE FORBIDDEN KINGDO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95240" y="762120"/>
            <a:ext cx="755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14 FILMS WITH HIS COMEDIC PARTNER, DEAN MAR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74680" y="762120"/>
            <a:ext cx="859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        8 OSCARS, WINNING BEST SUPPORTING ACTOR FOR "MISTER ROBERTS" AND BEST ACTOR FOR "SAVE THE TIG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883800" y="761760"/>
            <a:ext cx="7373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MOTHER ON BOTH "LASSIE" AND "LOST IN SP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62080" y="761760"/>
            <a:ext cx="8619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IN      THE FILMS "URBAN LEGEND",  "CHAPTER 27", "MR. NOBODY", AND "REQUIEM FOR A DRE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10720" y="761760"/>
            <a:ext cx="7520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2002, WHO BECAME THE FIRST WOMAN TO HAVE A #1 ALBUM AND STAR IN A #1 FILM THE SAME WEE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33440" y="761760"/>
            <a:ext cx="8275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OSCARS FOR BEST SUPPORTING ACTRESS FOR "TOOTSIE" AND BEST ACTRESS FOR "BLUE SK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7-15T00:15:49Z</dcterms:modified>
  <cp:revision>409</cp:revision>
  <dc:subject/>
  <dc:title>Slide 1</dc:title>
</cp:coreProperties>
</file>