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0EF2-471D-4496-83CF-A78CCA93B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EEA8-2C14-4A0F-801D-74688E3C7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6121-D961-42FA-A46A-7A903786D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B8BB-5305-4725-805A-A86E20C70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B5AB-B100-4FF1-8D17-63C411A78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EDBD-BF01-4516-8D08-3856C64AF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E408-AD11-42D9-8AEA-146F4CDFA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AB51-D732-46A8-A869-DD25BAE01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FE35-9C27-41FA-A6CF-CF34642D7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88A4-076F-4501-9B1D-E8ED998E8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AFAE-B632-4DB8-A243-EFAB7942D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BA22-B829-4F8F-A685-6E850E263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3FFB-5361-41AB-8523-6D74B7667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CB72-7622-4CCB-95B0-A8E5ABF12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81E9-4152-4404-AD44-1C8AAC4C0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CE0B-A55E-459B-B42D-0C8F0C777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8222-5EF0-41E9-8F65-D3992549D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03C9-805F-47EF-9231-606EE6165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A0C6-2CDF-4DD5-8939-176B05FB6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F2E8-6DB4-4EAA-9109-E1B479C6C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8ED2-0C84-4D7F-B90F-40465CD45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58E3-A8BC-47A6-ABD1-37ABA868D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F5EE-2ADB-40E3-BCE6-F9E6DA6CA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721C-E40C-45D6-A128-2F79BE367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5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MANTIC POET AND ILLUSTRATOR LAID OUT HIS IDIOSYNCRATIC MYTHOLOGY IN HIS "PROPHETIC WOR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ARY FIGURE OF "THE BEAT GENERATION" WROTE THE NOVELS "JUNKIE" AND "NAKED LUN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COME AND GET IT" (1936), "KENTUCKY" (1938), AND  "THE WESTERNER" (194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REN  BUFF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73280" y="762120"/>
            <a:ext cx="75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STOR, ONE OF THE RICHEST PEOPLE IN THE WORLD FOR DECADES, IS THE CEO OF BERKSHIRE HATH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  BLIT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01760" y="762120"/>
            <a:ext cx="8300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POLITICAL ANCHOR AT C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BALD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85720" y="762120"/>
            <a:ext cx="797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AS BROTHERS ALEC, DANIEL, AND STEPHEN WHO ARE ALSO AC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FORD  BRIM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96720" y="762120"/>
            <a:ext cx="837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TACHED ACTOR IN "THE NATURAL" AND "COCOON" WAS THE LONG-TIME TV SPOKESMAN FOR THE QUAKER OATS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DE  BO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STON RED SOX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EMAN HAS THE HIGHEST CAREER BATTING AVERAGE AMONG LIVING PL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F.  BUCKL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23920" y="762120"/>
            <a:ext cx="8696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AUTHOR FOUNDED THE INFLUENTIAL MAGAZINE "NATIONAL REVIE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REN  BEA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885960" y="762120"/>
            <a:ext cx="7372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OSCARS FOR PRODUCING, DIRECTING, WRITING, AND ACTING FOR BOTH "REDS" AND "HEAVEN CAN WA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B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93640" y="762120"/>
            <a:ext cx="7956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MANTIC POET AND ILLUSTRATOR LAID OUT HIS IDIOSYNCRATIC MYTHOLOGY IN HIS "PROPHETIC WOR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S.  BURROUG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23800" y="762120"/>
            <a:ext cx="8096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ARY FIGURE OF "THE BEAT GENERATION" WROTE THE NOVELS "JUNKIE" AND "NAKED LUN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BREN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895320" y="762120"/>
            <a:ext cx="7353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COME AND GET IT" (1936), "KENTUCKY" (1938), AND  "THE WESTERNER" (194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3280" y="762120"/>
            <a:ext cx="759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STOR, ONE OF THE RICHEST PEOPLE IN THE WORLD FOR DECADES, IS THE CEO OF BERKSHIRE HATHAW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POLITICAL ANCHOR AT C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35040" y="762120"/>
            <a:ext cx="787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HAS BROTHERS ALEC, DANIEL, AND STEPHEN WHO ARE ALSO AC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TACHED ACTOR IN "THE NATURAL" AND "COCOON" WAS THE LONG-TIME TV SPOKESMAN FOR THE  QUAKER OATS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27040" y="761760"/>
            <a:ext cx="8089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STON RED SOX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EMAN HAS THE HIGHEST CAREER BATTING AVERAGE AMONG LIVING PLAY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43000" y="761760"/>
            <a:ext cx="86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AUTHOR FOUNDED THE INFLUENTIAL MAGAZINE "NATIONAL REVIE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OSCARS FOR PRODUCING, DIRECTING, WRITING, AND ACTING FOR BOTH "REDS" AND "HEAVEN CAN WA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0-14T12:41:43Z</dcterms:modified>
  <cp:revision>368</cp:revision>
  <dc:subject/>
  <dc:title>Slide 1</dc:title>
</cp:coreProperties>
</file>