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4161D-604F-4932-A615-817CA2C2E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398CE-F2E9-4E93-91F7-6FECA01F7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162EE-149B-4066-93D9-47E1081A0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AE5D7-ECF9-43E6-89B1-6B59BBD0F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736E0-2352-46BC-87D4-3B12C6264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9E917-4E24-4381-8167-0D342EF2E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042C7-61ED-4D34-A52B-4E08B7B29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9A1E7-F138-4987-AC75-E00FEC0D2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D9CF1-083E-403F-97CD-C426547B0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E8D03-9C48-4AFE-BB2D-7288F0494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78B86-4EA4-4BD5-BB6D-734047419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EC922-FBCB-4D5E-9610-9DA30217E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EA8E7-0A62-4547-BA09-3E51FB25A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38C63-C491-4423-B3AD-246DDC3A4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4788F-BF43-49F5-A475-6B90FD7A2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229BF-0F99-4242-909B-D6B5B5C76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C0DB4-29E4-49A0-A66D-D867A3503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DADD9-47D0-4D42-B43F-F2DFDE617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479D9-DAC8-41B7-B363-D5519EA08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CB4CF-5C7A-4A06-BDE5-C8E56DFCF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F80F9-20B3-4AE0-BE49-6B1790191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04F46-CA4E-4DA3-9CC6-1BDA28EA3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63B8C-BF46-4876-B2CE-A0067CFB3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2E75A-4F41-4D36-B924-00D1C759A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4960" y="761760"/>
            <a:ext cx="8075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ROMANTIC POET AND ILLUSTRATOR LAID OUT HIS IDIOSYNCRATIC MYTHOLOGY IN HIS "PROPHETIC WORK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IMARY FIGURE OF "THE BEAT GENERATION" WROTE THE NOVELS "JUNKIE" AND "NAKED LUNC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781200" y="762120"/>
            <a:ext cx="7581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SUPPORTING ACTOR FOR "COME AND GET IT" (1936), "KENTUCKY" (1938), AND  "THE WESTERNER" (1940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1066680" y="495288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RREN  BUFF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773280" y="762120"/>
            <a:ext cx="7596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VESTOR, ONE OF THE RICHEST PEOPLE IN THE WORLD FOR DECADES, IS THE CEO OF BERKSHIRE HATHAW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LF  BLITZ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401760" y="762120"/>
            <a:ext cx="83008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LEAD POLITICAL ANCHOR AT CN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IAM  BALDW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585720" y="762120"/>
            <a:ext cx="797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HAS BROTHERS ALEC, DANIEL, AND STEPHEN WHO ARE ALSO ACTO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FORD  BRIM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396720" y="762120"/>
            <a:ext cx="8374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TACHED ACTOR IN "THE NATURAL" AND "COCOON" WAS THE LONG-TIME TV SPOKESMAN FOR THE QUAKER OATS COMPAN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DE  BOG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STON RED SOX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ASEMAN HAS THE HIGHEST CAREER BATTING AVERAGE AMONG LIVING PLAY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IAM  F.  BUCKLEY  J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223920" y="762120"/>
            <a:ext cx="86961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NSERVATIVE AUTHOR FOUNDED THE INFLUENTIAL MAGAZINE "NATIONAL REVIEW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RREN  BEAT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885960" y="762120"/>
            <a:ext cx="7372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OSCARS FOR PRODUCING, DIRECTING, WRITING, AND ACTING FOR BOTH "REDS" AND "HEAVEN CAN WAI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IAM  BL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593640" y="762120"/>
            <a:ext cx="7956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ROMANTIC POET AND ILLUSTRATOR LAID OUT HIS IDIOSYNCRATIC MYTHOLOGY IN HIS "PROPHETIC WORK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IAM  S.  BURROUG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523800" y="762120"/>
            <a:ext cx="8096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IMARY FIGURE OF "THE BEAT GENERATION" WROTE THE NOVELS "JUNKIE" AND "NAKED LUNC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LTER  BRENN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895320" y="762120"/>
            <a:ext cx="73533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SUPPORTING ACTOR FOR "COME AND GET IT" (1936), "KENTUCKY" (1938), AND  "THE WESTERNER" (1940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73280" y="762120"/>
            <a:ext cx="7596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VESTOR, ONE OF THE RICHEST PEOPLE IN THE WORLD FOR DECADES, IS THE CEO OF BERKSHIRE HATHAW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49280" y="761760"/>
            <a:ext cx="824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LEAD POLITICAL ANCHOR AT CN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635040" y="762120"/>
            <a:ext cx="7873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HAS BROTHERS ALEC, DANIEL, AND STEPHEN WHO ARE ALSO ACTO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38040" y="762120"/>
            <a:ext cx="8467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TACHED ACTOR IN "THE NATURAL" AND "COCOON" WAS THE LONG-TIME TV SPOKESMAN FOR THE  QUAKER OATS COMPAN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27040" y="761760"/>
            <a:ext cx="8089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STON RED SOX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ASEMAN HAS THE HIGHEST CAREER BATTING AVERAGE AMONG LIVING PLAY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43000" y="761760"/>
            <a:ext cx="8658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NSERVATIVE AUTHOR FOUNDED THE INFLUENTIAL MAGAZINE "NATIONAL REVIEW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19000" y="761760"/>
            <a:ext cx="7506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OSCARS FOR PRODUCING, DIRECTING, WRITING, AND ACTING FOR BOTH "REDS" AND "HEAVEN CAN WAI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1-10-14T12:41:43Z</dcterms:modified>
  <cp:revision>368</cp:revision>
  <dc:subject/>
  <dc:title>Slide 1</dc:title>
</cp:coreProperties>
</file>