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0448-9323-448A-A41B-CB5FBCF45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B79C-42B2-47A8-A7CC-072A5EAAE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C5D6-72AD-495D-AB4A-FD57FF365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E7D3-DF61-45D4-9E35-7C78856C6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0442-2DF7-4D16-AA34-AF358E7ED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53CB-EF6A-4C07-8CEE-A83E5E860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AE0F-EFF1-4F7D-B66B-2E4AD005C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61E4-2692-48F7-9F91-7A5D59C4B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AE0C-8665-4D96-87F9-7C077444D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D337-97A2-4896-A414-F2D1DAEC5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9527-25E3-4599-BF9E-9FFFCF3FB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2F3B-F0D0-4B14-A980-E8AE4DA35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A49E-BC81-4D80-9191-EE572C603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E076-9C14-4A0C-8A84-FAD4806AF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5C1C-A05C-490F-94BC-82AE9FA79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B2AE-C7A3-4F72-9BE1-27B20FB30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03B2-8CE3-49DF-B4A0-E944A676F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D107-83E7-4D56-B8E4-22B096C3C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7A73-3EED-4AAD-9E87-E0894F533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12D7-0EAF-4837-8083-5DAC35A39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D75C-9483-49A3-AB72-670258879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A1AD-9157-4E85-AF2B-3036767FC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2F1C-404A-42F5-BECD-8C6BCC30F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51AF-7548-4296-9188-45EB466D8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EVER WINNER OF BEST SUPPORTING ACTOR, FOR "ORDINARY PEOP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FAR FROM THE MADDING CROWD" AND "TESS OF THE D'URBERVIL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SHION DESIGNER'S COMPANY THAT DESIGNED PREPPY CLOTHES SOLD FOR $3 BILLION IN 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A  HAR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WON THE 1991 AND 1994 U.S. SKATING CHAMPIONSHIPS BEFORE BEING BANNED FOR LIFE FROM SK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IN 1993 AND 1994, BECOMING ONLY THE SECOND ACTOR TO WIN IN CONSECUTIVE YEARS, AFTER SPENCER TRA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HIDDLE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LOKI IN 5 MARVEL SUPERHERO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I  HAT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1904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USAN MAYER ON "DESPERATE HOUSEWIVES" AND LOIS ON "LOIS &amp; CLARK: THE NEW ADVENTURES OF SUPER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HOBB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ER OF MODERN POLITICAL PHILOSOPHY HAS A FAMOUS STUFFED TIGER NAMED AFTER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HAW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28880" y="762120"/>
            <a:ext cx="7086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KATEBOARDER DOMINATED THE SPORT IN THE 80'S AND 9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HARD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AT THE MIAMI HEAT RECORD FOR 3-POINT SHOTS AFTER PLAYING WITH THEM FOR ONLY 5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OTHY  HU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EVER WINNER OF BEST SUPPORTING ACTOR, FOR "ORDINARY PEOP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HAR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FAR FROM THE MADDING CROWD" AND "TESS OF THE D'URBERVILL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MY  HILF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SHION DESIGNER'S COMPANY THAT DESIGNED PREPPY CLOTHES SOLD FOR $3 BILLION IN 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WON THE 1991 AND 1994 U.S. SKATING CHAMPIONSHIPS BEFORE BEING BANNED FOR LIFE FROM SKA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IN 1993 AND 1994, BECOMING ONLY THE SECOND ACTOR TO WIN IN CONSECUTIVE YEARS, AFTER SPENCER TRAC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LOKI IN 5 MARVEL SUPERHERO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USAN MAYER ON "DESPERATE HOUSEWIVES" AND LOIS ON "LOIS &amp; CLARK: THE NEW ADVENTURES OF SUPER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ER OF MODERN POLITICAL PHILOSOPHY HAS A FAMOUS STUFFED TIGER NAMED AFTER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KATEBOARDER DOMINATED THE SPORT IN THE 80'S AND 9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1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AT THE MIAMI HEAT RECORD FOR 3-POINT SHOTS AFTER PLAYING WITH THEM FOR ONLY 5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0T14:08:18Z</dcterms:created>
  <dc:creator>Jennifer Budzinski</dc:creator>
  <dc:description/>
  <dc:language>en-US</dc:language>
  <cp:lastModifiedBy>Erich Friedman</cp:lastModifiedBy>
  <dcterms:modified xsi:type="dcterms:W3CDTF">2021-12-18T12:51:14Z</dcterms:modified>
  <cp:revision>346</cp:revision>
  <dc:subject/>
  <dc:title>Slide 1</dc:title>
</cp:coreProperties>
</file>