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FB72-96FD-4A34-84AC-9AE5B9956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DDF8-7A3B-4A08-9BB3-66CA5961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45E0-B44E-49B0-820B-90AD06484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9FD2-1D34-4F13-8514-65576B0B8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D6F5-5EF0-464F-8772-C0AC737BD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F7F0-9D84-4CF4-A7AD-8FB15F12E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1518-6DAC-472C-8DA7-331D3BE53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742A-4650-48F7-8694-11790137D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055D-020A-43E6-A53D-70D85084D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61C3-9F59-4E48-86BF-4CA1034EB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D55D-F118-4A61-91CF-58F002494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3BB2-4F5B-4940-A533-3FC8DF647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06B2-D0D1-4398-952D-0AD58C01D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7F2F-99DA-44C9-8991-B79275D99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953C-50F3-4F5F-BC48-7D71B798D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B8B7-A30D-4C03-99D9-551AEB180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C650D-AB16-4C80-A5F7-B63F8577F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7E39-4F08-44CE-96E8-C1F35A985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72B32-2163-42A1-A37C-06EC84EAD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E4C5-F23E-474C-BB04-199E4AC8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6C7F-93BA-4EBA-9C9D-A1BB80B3A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AF50-5F63-4150-8C43-637B51316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B245-5E2D-4F9D-A819-CAFBE47BF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763F-A9CA-4054-BE1A-87B3334FF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EVER WINNER OF BEST SUPPORTING ACTOR, FOR "ORDINARY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R FROM THE MADDING CROWD" AND "TESS OF THE D'URBERVIL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HION DESIGNER'S COMPANY THAT DESIGNED PREPPY CLOTHES SOLD FOR $3 BILLION IN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A  H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WON THE 1991 AND 1994 U.S. SKATING CHAMPIONSHIPS BEFORE BEING BANNED FOR LIFE FROM SK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IN 1993 AND 1994, BECOMING ONLY THE SECOND ACTOR TO WIN IN CONSECUTIVE YEARS, AFTER SPENCER T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HIDDLE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LOKI IN 5 MARVEL SUPERHERO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I  HA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1904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SAN MAYER ON "DESPERATE HOUSEWIVES" AND LOIS ON "LOIS &amp; CLARK: THE NEW ADVENTURES OF SUPER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HOB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ER OF MODERN POLITICAL PHILOSOPHY HAS A FAMOUS STUFFED TIGER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HAW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28880" y="762120"/>
            <a:ext cx="7086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KATEBOARDER DOMINATED THE SPORT IN THE 80'S AND 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HARD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AT THE MIAMI HEAT RECORD FOR 3-POINT SHOTS AFTER PLAYING WITH THEM FOR ONLY 5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THY  H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EVER WINNER OF BEST SUPPORTING ACTOR, FOR "ORDINARY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H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R FROM THE MADDING CROWD" AND "TESS OF THE D'URBERVIL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MY  HILF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SHION DESIGNER'S COMPANY THAT DESIGNED PREPPY CLOTHES SOLD FOR $3 BILLION IN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WON THE 1991 AND 1994 U.S. SKATING CHAMPIONSHIPS BEFORE BEING BANNED FOR LIFE FROM SK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IN 1993 AND 1994, BECOMING ONLY THE SECOND ACTOR TO WIN IN CONSECUTIVE YEARS, AFTER SPENCER TRA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PLAYED LOKI IN 5 MARVEL SUPERHERO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SAN MAYER ON "DESPERATE HOUSEWIVES" AND LOIS ON "LOIS &amp; CLARK: THE NEW ADVENTURES OF SUPER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ER OF MODERN POLITICAL PHILOSOPHY HAS A FAMOUS STUFFED TIGER NAMED AFTE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KATEBOARDER DOMINATED THE SPORT IN THE 80'S AND 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AT THE MIAMI HEAT RECORD FOR 3-POINT SHOTS AFTER PLAYING WITH THEM FOR ONLY 5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0T14:08:18Z</dcterms:created>
  <dc:creator>Jennifer Budzinski</dc:creator>
  <dc:description/>
  <dc:language>en-US</dc:language>
  <cp:lastModifiedBy>Erich Friedman</cp:lastModifiedBy>
  <dcterms:modified xsi:type="dcterms:W3CDTF">2021-12-18T12:51:14Z</dcterms:modified>
  <cp:revision>346</cp:revision>
  <dc:subject/>
  <dc:title>Slide 1</dc:title>
</cp:coreProperties>
</file>