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551E-CDA9-4A36-9BE2-92EFAFE97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947F-57A0-4748-94D2-0BEE5F860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0455-6B61-45A0-8168-C4CAF45C2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BB4F-4DB4-43EF-8E66-D25F4EAAB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3A64-3DC9-4649-8B54-A7DFB8CB6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E313-67CE-4AC7-A6F7-A0EE693D4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D08A-E948-4F4E-8911-2E4D35FB8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4FAE-49ED-4EBB-BBBF-2A938EE8B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EC12-72EF-4B9D-A22F-40F200B42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38BD-3FF3-499F-B6C8-23BB21E71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CDF5-76E1-4317-ADF8-7AD121404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D473-B5B7-4C44-8F0D-87B4EFA2F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C785-4B39-47AA-8B1C-8D0FD77B5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1807-31B2-4C03-B2FE-12B34D679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B24E-738D-4BCE-AA8A-EA9C7179D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DECF-E35C-47C1-84BB-718AC31E2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D224-33B3-4642-A0CF-966CF14DA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FC2A-0663-4AA3-B5C6-F656B779C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FA78-E127-42F7-90BF-9556AFEA3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D15B-21F3-496E-A226-E5217B94F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D4A6-E736-4655-A8BD-557E3A5E1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7E25-2D72-460A-A055-EE0163A21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CE8A-E845-4F53-A55D-261926E0E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3D84-FA05-4D5C-8BC4-3AB283FB2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ROLLING STONES, BUT WAS KICKED OUT IN 1969 AND DIED SHORTLY AFTERW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ELIVERED THE KEYNOTE ADDRESS AT THE 1976 DEMOCRATIC NATIONAL CONVENTION, THE FIRST WOMAN OR BLACK TO DO S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WRITER, STATISTICIAN, AND HISTORIAN COINED THE PHRASE "SABERMETRIC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JE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76 OLYMPIC DECATHLON, BUT HAS SINCE CHANGED GEN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JO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390680" y="762120"/>
            <a:ext cx="6362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IT'S STILL ROCK AND ROLL TO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THLETE NAMED AN ALL-STAR IN BOTH MLB AND NF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IS 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166760" y="762120"/>
            <a:ext cx="68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YOR OF LONDON 2008-2016, AND PRIME MINISTER OF THE U.K. STARTING IN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  JIND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GOVERNOR OF LOUISIANA 2008-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ANCA  JA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838080" y="762120"/>
            <a:ext cx="7467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IFE OF THE LEAD SINGER OF THE ROLLING 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JO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GENERALLY REGARDED AS THE SECOND MOST IMPORTANT ENGLISH PLAYWRIGHT DURING SHAKESPEARE'S LIFE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87836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AN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62120" y="838080"/>
            <a:ext cx="76197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ROLLING STONES, BUT WAS KICKED OUT IN 1969 AND DIED SHORTLY AFTER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95360" y="7621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ELIVERED THE KEYNOTE ADDRESS AT THE 1976 DEMOCRATIC NATIONAL CONVENTION, THE FIRST WOMAN OR BLACK TO DO 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J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68580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WRITER, STATISTICIAN, AND HISTORIAN COINED THE PHRASE "SABERMETRIC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76 OLYMPIC DECATHLON, BUT HAS SINCE CHANGED GEN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352520" y="761760"/>
            <a:ext cx="6438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IT'S STILL ROCK AND ROLL TO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THLETE NAMED AN ALL-STAR IN BOTH MLB AND NF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YOR OF LONDON 2008-2016, AND PRIME MINISTER OF THE U.K. STARTING IN 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09800" y="838080"/>
            <a:ext cx="7124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GOVERNOR OF LOUISIANA 2008-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IFE OF THE LEAD SINGER OF THE ROLLING 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GENERALLY REGARDED AS THE SECOND MOST IMPORTANT ENGLISH PLAYWRIGHT DURING SHAKESPEARE'S LIFE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1-12-18T19:24:33Z</dcterms:modified>
  <cp:revision>358</cp:revision>
  <dc:subject/>
  <dc:title>Slide 1</dc:title>
</cp:coreProperties>
</file>