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D576-DC61-4114-84E3-AF694CF6C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1F1D-EB97-4E2B-9537-46475A9F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27E-3913-445C-A1CA-0D6A642D5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47A0-5B71-481A-B865-1F760BB79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29A5-C126-40B8-96B7-9740A642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6042-35D4-4CAA-9406-EE78C9B2D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0938-FC93-4376-AC4C-02F6263B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D6EB-587F-4742-BA76-D8A9716BC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56C3-FDEC-41B0-B2F7-2024465C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9C8F-8CE1-4FE8-8567-5DF44EBAF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FD28-E1D0-40C1-91F8-1726D1B71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1F92C-A0D1-4E31-B704-9CCED085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BC94-ADFD-45C9-ACFE-E43589CBD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24BB-E65C-4C47-A249-930817941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9D12-0681-483E-A890-D5EFF92A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79F59-6D81-4F90-919F-FD1C7DD4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88D4-CCDE-4513-8380-7BF32FA7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86B-FDE7-4984-A074-C652FB31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33C-7F81-4015-97EA-C78FE2F4C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0316-00DC-4553-BB0F-979940A7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2711-707F-42C7-996B-C1160B5FF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6A1D-A3FA-4B5D-8121-8632D8E46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F59-7E38-4904-99F2-91B08CF77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F8B-D995-43A7-9EDE-2FA90390F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ROLLING STONES, BUT WAS KICKED OUT IN 1969 AND DIED SHORTLY AFTER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LIVERED THE KEYNOTE ADDRESS AT THE 1976 DEMOCRATIC NATIONAL CONVENTION, THE FIRST WOMAN OR BLACK TO DO S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WRITER, STATISTICIAN, AND HISTORIAN COINED THE PHRASE "SABERMETR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J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6 OLYMPIC DECATHLON, BUT HAS SINCE CHANGED GE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IT'S STILL ROCK AND ROLL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THLETE NAMED AN ALL-STAR IN BOTH MLB AND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66760" y="762120"/>
            <a:ext cx="68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LONDON 2008-2016, AND PRIME MINISTER OF THE U.K. STARTING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JIND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LOUISIANA 2008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ANCA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38080" y="76212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THE LEAD SINGER OF 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J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ENERALLY REGARDED AS THE SECOND MOST IMPORTANT ENGLISH PLAYWRIGHT DURING SHAKESPEARE'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78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62120" y="838080"/>
            <a:ext cx="7619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ROLLING STONES, BUT WAS KICKED OUT IN 1969 AND DIED SHORTLY AFTE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LIVERED THE KEYNOTE ADDRESS AT THE 1976 DEMOCRATIC NATIONAL CONVENTION, THE FIRST WOMAN OR BLACK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68580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WRITER, STATISTICIAN, AND HISTORIAN COINED THE PHRASE "SABERMETR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76 OLYMPIC DECATHLON, BUT HAS SINCE CHANGED GEN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IT'S STILL ROCK AND ROLL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ATHLETE NAMED AN ALL-STAR IN BOTH MLB AND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LONDON 2008-2016, AND PRIME MINISTER OF THE U.K. STARTING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09800" y="838080"/>
            <a:ext cx="7124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LOUISIANA 2008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THE LEAD SINGER OF 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GENERALLY REGARDED AS THE SECOND MOST IMPORTANT ENGLISH PLAYWRIGHT DURING SHAKESPEARE'S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1-12-18T19:24:33Z</dcterms:modified>
  <cp:revision>358</cp:revision>
  <dc:subject/>
  <dc:title>Slide 1</dc:title>
</cp:coreProperties>
</file>