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854C-02D1-4DDA-8EBF-877F27607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C49E-3908-4757-BA61-0F1CE5B7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E831-3203-46AF-BDCD-C0A9C8A0D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B12E-C7D8-4B46-AB68-E5234AD9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6324-BAB5-40E8-820A-2C8C4E877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6D97-7F2A-4BB7-8883-63FED4C3D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4348-4ABC-4073-9C1B-89C8ADF84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3144-B409-40B2-9D9C-7DADFEF28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32C3-ED5C-40B6-9C05-F2616BB6F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E432-982A-42DF-B0EC-1CF53658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D344-07FD-4698-A60A-2C52DBFE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0DC9-1572-4C39-8B47-F884BD56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B84A-3137-4B1A-A3E4-94CEFF69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56A5-CD58-4388-8267-9A68D583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68B-12F7-4B25-9BCF-3317B647A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A838-0176-437B-ABEA-1FF6CD66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2D49-36A4-486C-AEEC-761414122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6082-5F39-4FF7-9CE7-523B356D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76DA-47E8-49D3-9A1D-DB476A6EC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8E45-F518-465A-8734-8A162178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D452-342F-4160-BFA8-4AB4DAB8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4EFF-128B-4A96-BA33-A6CD66762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A06B-5362-411D-AEC2-FB9AD9D95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TV PROGRAMS "CHEERS", "CSI" (SEASONS 12-15) AND "THE GOOD PL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BROWN SUGAR", "THE BEST MAN", AND "HOW STELLA GOT HER GROOV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D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96920" y="762120"/>
            <a:ext cx="701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OR PLAYED JAMES BOND IN "THE LIVING DAYLIGHTS" AND "LICENSE TO KI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DUN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0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19 SEASONS FOR THE SAN ANTONIO SPURS AND IS WIDELY CONSIDERED THE BEST POWER FORWARD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D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NY BANZA ON "TAXI", TONY MICELLI ON "WHO'S THE BOSS?", AND TONY DIMEO ON A SHOW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3380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D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11080" y="762120"/>
            <a:ext cx="75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"WINGS", "PRIVATE PRACTICE", AND "MADAM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DOL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05080" y="762120"/>
            <a:ext cx="6333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S "SHE BLINDED ME WITH SCIENCE" AND "HYPERACT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14440" y="762120"/>
            <a:ext cx="8115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P HOUSE MAJORITY LEADER 2003-2005 RESIGNED AFTER HE WAS INDICTED FOR VIOLATING ELECTION L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DREI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1276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S "SISTER CARRIE" (1900) AND "AN AMERICAN TRAGEDY" (192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OR PLAYED JAMES BOND IN "THE LIVING DAYLIGHTS" AND "LICENSE TO KI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DEW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838080"/>
            <a:ext cx="7619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HARRY TRUMAN IN ONE OF THE GREATEST PRESIDENTIAL UPSET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D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85760" y="762120"/>
            <a:ext cx="697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TV PROGRAMS "CHEERS", "CSI" (SEASONS 12-15) AND "THE GOOD PL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E  DI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BROWN SUGAR", "THE BEST MAN", AND "HOW STELLA GOT HER GROOV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19 SEASONS FOR THE SAN ANTONIO SPURS AND IS WIDELY CONSIDERED THE BEST POWER FORWARD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NY BANZA ON "TAXI", TONY MICELLI ON "WHO'S THE BOSS?", AND TONY DIMEO ON A SHOW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"WINGS", "PRIVATE PRACTICE", AND "MADAM SECRE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19120" y="762120"/>
            <a:ext cx="630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S "SHE BLINDED ME WITH SCIENCE" AND "HYPERACT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P HOUSE MAJORITY LEADER 2003-2005 RESIGNED AFTER HE WAS INDICTED FOR VIOLATING ELECTION L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S "SISTER CARRIE" (1900) AND "AN AMERICAN TRAGEDY" (192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HARRY TRUMAN IN ONE OF THE GREATEST PRESIDENTIAL UPSET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1-30T19:19:31Z</dcterms:modified>
  <cp:revision>361</cp:revision>
  <dc:subject/>
  <dc:title>Slide 1</dc:title>
</cp:coreProperties>
</file>