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3B2F-8E77-4DB4-A2C4-C36BDCD6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6A5F-BB29-41E1-9BA3-ECEB41FB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6756-3065-4553-8BDD-A0B4AA12B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20CF-D7DD-4FBC-B40A-15CD62D5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BCFD-8491-476D-82B0-4BFE04926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7836-F570-40CB-AAC0-1F1C4B011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E6E2-0C5A-4961-89E1-407666A4B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5E92-17BB-4BC4-9BD4-B9F7B73D1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2384-82E3-46A2-9FC6-2E0343DC9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00EA-2975-46F2-9DA2-6B7E199E6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DB28-4551-47B0-B8BE-D797591EC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FFDF-60BC-4779-BB48-364B77030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6BF0-B520-45C4-9519-9084B9BEB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D4F2-3B14-45E9-B7B8-914C58936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5F21-30AB-47DA-9569-ABE3901F5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BF8A-18B5-415D-88C1-C123BECE7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BDF1-C67F-4002-A897-446ACA8D6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64AB-4609-4C93-92DD-D9791FDBE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C261-B0B5-4503-BFE4-35C56EA7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DDA7-E7A2-40F0-8B0F-E658D5A2E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135D-B15D-4E77-9525-23CEF2040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126E-3A35-4C3C-90FE-AE2631AB4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59FC-E4EB-46C8-B322-696A15AAA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TV PROGRAMS "CHEERS", "CSI" (SEASONS 12-15) AND "THE GOOD PL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BROWN SUGAR", "THE BEST MAN", AND "HOW STELLA GOT HER GROOVE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THY  DA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96920" y="762120"/>
            <a:ext cx="7010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OR PLAYED JAMES BOND IN "THE LIVING DAYLIGHTS" AND "LICENSE TO KI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DUN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0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19 SEASONS FOR THE SAN ANTONIO SPURS AND IS WIDELY CONSIDERED THE BEST POWER FORWARD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D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NY BANZA ON "TAXI", TONY MICELLI ON "WHO'S THE BOSS?", AND TONY DIMEO ON A SHOW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3380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D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11080" y="762120"/>
            <a:ext cx="75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N "WINGS", "PRIVATE PRACTICE", AND "MADAM SECRE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DOL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05080" y="762120"/>
            <a:ext cx="6333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S "SHE BLINDED ME WITH SCIENCE" AND "HYPERACT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DE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14440" y="762120"/>
            <a:ext cx="81151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P HOUSE MAJORITY LEADER 2003-2005 RESIGNED AFTER HE WAS INDICTED FOR VIOLATING ELECTION L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E  DREI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1276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S "SISTER CARRIE" (1900) AND "AN AMERICAN TRAGEDY" (192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23920" y="762120"/>
            <a:ext cx="6896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OR PLAYED JAMES BOND IN "THE LIVING DAYLIGHTS" AND "LICENSE TO KI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DEW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62120" y="838080"/>
            <a:ext cx="7619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OST TO HARRY TRUMAN IN ONE OF THE GREATEST PRESIDENTIAL UPSET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D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85760" y="762120"/>
            <a:ext cx="6972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TV PROGRAMS "CHEERS", "CSI" (SEASONS 12-15) AND "THE GOOD PL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E  DI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BROWN SUGAR", "THE BEST MAN", AND "HOW STELLA GOT HER GROOVE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19 SEASONS FOR THE SAN ANTONIO SPURS AND IS WIDELY CONSIDERED THE BEST POWER FORWARD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NY BANZA ON "TAXI", TONY MICELLI ON "WHO'S THE BOSS?", AND TONY DIMEO ON A SHOW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N "WINGS", "PRIVATE PRACTICE", AND "MADAM SECRE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19120" y="762120"/>
            <a:ext cx="6305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S "SHE BLINDED ME WITH SCIENCE" AND "HYPERACT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P HOUSE MAJORITY LEADER 2003-2005 RESIGNED AFTER HE WAS INDICTED FOR VIOLATING ELECTION LA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S "SISTER CARRIE" (1900) AND "AN AMERICAN TRAGEDY" (192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OST TO HARRY TRUMAN IN ONE OF THE GREATEST PRESIDENTIAL UPSET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1-30T19:19:31Z</dcterms:modified>
  <cp:revision>361</cp:revision>
  <dc:subject/>
  <dc:title>Slide 1</dc:title>
</cp:coreProperties>
</file>