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3AA1-3644-4BD4-9AA1-FC80D5B78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9D97-0935-49E7-82B9-D527BCBD1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C947-90B9-482F-AD88-949ED5131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6193-029C-4E05-9CFA-74049015A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9D22-CCF6-497C-B46A-0FE4771DF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0535-5078-48E1-8A7E-98658A658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70D7-EBF4-43C5-A2C2-279572681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F458-E2FD-4782-ACDA-1CB28F674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98B4-A925-4C44-A049-CA1509453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4032-D719-4CBF-87E2-547769F6E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78A1-73C5-458B-A0D4-E5BAFB05E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213E-05DD-4718-90D5-D1B53A917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ED42-158D-49E8-9E81-3BC241F46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FB91-8566-48D8-83FA-B3317B79B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A926-9143-4322-BC09-9678F225B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7680-FACD-47F5-9590-F40A90E57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357B-A518-4960-A947-6C709E340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C68D-B38B-41A8-879A-772732F44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257B-20AE-41EF-B535-1F364E64B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5C2E-9BE4-4940-BE96-EEC5D0706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B7E0-7084-48A4-8DA0-C196F8271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5B2E-57AF-4F92-B6BB-F0C79C3C5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B922-B8A1-4EAA-8B9D-07713C142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SPENT 20 YEARS IN PRISON FOR A MURDER HE DID NOT COMMIT, AS TOLD BY THE FILM "THE HURRIC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ING ROLES ON THE TV SHOWS "THE WILD WILD WEST" AND "BAA BAA BLACK SHEE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ELL  CR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576440" y="762120"/>
            <a:ext cx="5989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GLADI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CHAR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04840" y="76212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HIT THE ROAD J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ANNE  C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8640" y="774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COUNTRY MUSIC #1 HIT WAS "SEVEN YEAR ACHE", 16 YEARS AFTER HER FATHER'S FIRST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ALYNN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509840" y="762120"/>
            <a:ext cx="6122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IRST LADY IMMEDIATELY AFTER BETTY 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CLE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405080" y="762120"/>
            <a:ext cx="6333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ITCHER WON A RECORD 7 CY YOUNG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  CL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71440" y="762120"/>
            <a:ext cx="6801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HEE HAW" WITH BUCK OW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5092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  CO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1276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A SLIDE GUITARIST PRODUCED THE ALBUM "BUENA VISTA SOCIAL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90840" y="762120"/>
            <a:ext cx="596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GLADI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MARY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BING CROSBY, DANNY KAYE, AND VERA-ELLEN IN THE 1954 FILM "WHITE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IN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42880" y="762120"/>
            <a:ext cx="8058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SPENT 20 YEARS IN PRISON FOR A MURDER HE DID NOT COMMIT, AS TOLD BY THE FILM "THE HURRIC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CON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ING ROLES ON THE TV SHOWS "THE WILD WILD WEST" AND "BAA BAA BLACK SHEE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HIT THE ROAD J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80960" y="762120"/>
            <a:ext cx="8182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COUNTRY MUSIC #1 HIT WAS "SEVEN YEAR ACHE", 16 YEARS AFTER HER FATHER'S FIRST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57280" y="762120"/>
            <a:ext cx="622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IRST LADY IMMEDIATELY AFTER BETTY F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419120" y="762120"/>
            <a:ext cx="6305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ITCHER WON A RECORD 7 CY YOUNG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05040" y="761760"/>
            <a:ext cx="7333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HEE HAW" WITH BUCK OWE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A SLIDE GUITARIST PRODUCED THE ALBUM "BUENA VISTA SOCIAL CLU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BING CROSBY, DANNY KAYE, AND VERA-ELLEN IN THE 1954 FILM "WHITE CHRIST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1-30T19:38:12Z</dcterms:modified>
  <cp:revision>364</cp:revision>
  <dc:subject/>
  <dc:title>Slide 1</dc:title>
</cp:coreProperties>
</file>