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066C-ED37-456B-B99E-70B0BCA72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91B6-5208-4770-92C7-71805C841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0309-4807-4F73-A17C-D2D1FA5EC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043E-54CE-43DC-AB05-7FC1E484C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0E57-E0B9-41A5-A410-90E898B9E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F690-BDCA-459A-835B-6A4A034EF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B011-F1DF-4889-B7FD-132BB541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DE7-8A05-404E-9E1C-09DCABB01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8F80-8316-4AD6-8621-7A8A8D75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10F-C365-4838-B176-5D35EB50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69B3-DCE4-4C6B-8652-6BF66DDD5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F7F1-2B23-4841-8D77-E349AB77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0977-DB3D-4412-9A0E-576DE02C2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E907-43BC-4C72-AB91-86C57ABF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8E89-3F1B-4763-AC54-9C1F770D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6ED8-5BEC-4FBB-BA1C-04151BBD8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6EE-00F4-4730-9C9E-0BEEBBD5E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D7C-126F-4921-9E81-CB0F71C5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97EA-3188-41CA-AD42-D3A6D4A62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3240-61C9-4C4C-9916-03629C9DE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E0C7-EC49-49E5-8A9C-0244A82A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D503-8E00-4354-BFA2-12D9A4473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8BDD-D636-44CB-9363-678A5698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PENT 20 YEARS IN PRISON FOR A MURDER HE DID NOT COMMIT, AS TOLD BY THE FILM "THE HURRIC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ING ROLES ON THE TV SHOWS "THE WILD WILD WEST" AND "BAA BAA BLACK SHEE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76440" y="762120"/>
            <a:ext cx="5989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GLAD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HIT THE ROAD J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ANNE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8640" y="774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COUNTRY MUSIC #1 HIT WAS "SEVEN YEAR ACHE", 16 YEARS AFTER HER FATH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LYNN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09840" y="762120"/>
            <a:ext cx="612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IMMEDIATELY AFTER BETTY 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CLEM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05080" y="762120"/>
            <a:ext cx="633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ON A RECORD 7 CY YOUNG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71440" y="762120"/>
            <a:ext cx="6801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HEE HAW" WITH BUCK OW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5092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  CO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1276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SLIDE GUITARIST PRODUCED THE ALBUM "BUENA VISTA SOCIAL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90840" y="762120"/>
            <a:ext cx="596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GLAD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MARY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ING CROSBY, DANNY KAYE, AND VERA-ELLEN IN THE 1954 FILM "WHIT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IN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42880" y="762120"/>
            <a:ext cx="805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PENT 20 YEARS IN PRISON FOR A MURDER HE DID NOT COMMIT, AS TOLD BY THE FILM "THE HURRIC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ING ROLES ON THE TV SHOWS "THE WILD WILD WEST" AND "BAA BAA BLACK SHEE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HIT THE ROAD J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0960" y="762120"/>
            <a:ext cx="818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COUNTRY MUSIC #1 HIT WAS "SEVEN YEAR ACHE", 16 YEARS AFTER HER FATHER'S FIRST #1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57280" y="762120"/>
            <a:ext cx="622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IMMEDIATELY AFTER BETTY 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ITCHER WON A RECORD 7 CY YOUNG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HEE HAW" WITH BUCK OW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SLIDE GUITARIST PRODUCED THE ALBUM "BUENA VISTA SOCIAL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BING CROSBY, DANNY KAYE, AND VERA-ELLEN IN THE 1954 FILM "WHIT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1-30T19:38:12Z</dcterms:modified>
  <cp:revision>364</cp:revision>
  <dc:subject/>
  <dc:title>Slide 1</dc:title>
</cp:coreProperties>
</file>