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95D2-2309-44A6-9901-FE1850DC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520-8E08-4049-BDE1-0BA5A888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BCA6-520C-4112-B080-10B47091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22A-0724-440F-ABBB-15E32780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A79-0CB7-41C4-B700-18F01161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EC3-DC99-4D5A-81FC-27D22BB6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CFD-55AD-46DD-9C43-79973ACA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AF6-1461-425C-8CD4-9B749107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29A-C00C-490C-93E3-86EBDE1B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F03-3807-494E-B605-692878F8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94E-72C7-45AC-8B7A-36754E60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644-4415-46A5-BD54-E830D352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1570-9DEC-4D7C-9F19-95D4AF02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BA68-A4BE-4F83-AD85-EB4C4669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62CD-4667-42EA-9A10-2AB6E2F5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2CB-636A-429C-BD88-156C20C7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984-0F53-42BE-92D7-1DD972F6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8990-0FE6-49E8-9D7B-A1D870A9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8F9-AF8A-4599-BF33-D606BFC1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C0B-5364-42B6-B0C1-BEAF2EC2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F41-69E5-479E-9675-5F1AFB058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FA4-E0B9-42AB-B560-E57979D6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721-2A9D-47DD-BE7E-071869C6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EF5-746F-4EE5-A739-92E0B6ED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I WANNA DO" AND "MY FAVORITE MIST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GOLDEN STATE WARRIORS POINT GUARD KEEPS BREAKING HIS OWN RECORD FOR 3-POINT SHOT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NATOR FROM MAINE IS KNOWN      AS ONE OF THE MOST MODERATE GOP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  7 FILMS, AND WAS VOT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'S "SEXIEST MAN OF THE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RAPPER WHO GOES BY PUFF DADDY AND P. DI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CA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6320" y="76212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40-YEAR-OLD VIRG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JUDGE ON "POP IDOL", "THE X FACTOR", "BRITAIN'S GOT TALENT", "AMERICAN IDOL", AND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O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'S "THE LATE SHOW" ON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19240" y="762120"/>
            <a:ext cx="6905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HAIN GANG" AND "A CHANGE IS A GONNA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ANNE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UNGER GAMES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I WANNA DO" AND "MY FAVORITE MIST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GOLDEN STATE WARRIORS POINT GUARD KEEPS BREAKING HIS OWN RECORD FOR 3-POINT SHOT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NATOR FROM MAINE IS KNOWN      AS ONE OF THE MOST MODERATE GOP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  7 FILMS, AND WAS VOT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'S "SEXIEST MAN OF THE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RAPPER WHO GOES BY PUFF DADDY AND P. DI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40-YEAR-OLD VIRG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JUDGE ON "POP IDOL", "THE X FACTOR", "BRITAIN'S GOT TALENT", "AMERICAN IDOL", AND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'S "THE LATE SHOW" ON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HAIN GANG" AND "A CHANGE IS A GONNA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UNGER GAMES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2T12:42:46Z</dcterms:modified>
  <cp:revision>367</cp:revision>
  <dc:subject/>
  <dc:title>Slide 1</dc:title>
</cp:coreProperties>
</file>