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2280-7B3C-42AD-AA30-52A53F45B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2337-7C26-4280-A6CF-F9E5B61A0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98E8-74B7-4816-97FF-761F21DD7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A936-B044-4F10-B7E9-03E907FF8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D7E2-ADB2-47E9-BDF6-2BC9DBBD8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B2A8-4E2D-449F-BB84-9AD6A5556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8D7C-5790-4AEC-B9C2-0A02839AE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62CF-CDD9-4F50-BAF4-22FBBCA26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98A5-4FAB-4F16-8C08-1DBFFC6E8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5C4E-C34C-411E-928E-9FF97FA6D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3E23-6573-40D1-BC0B-46181EEC1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DAB3-B544-452E-B5DE-F5195DD18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08DB-33B6-4ECD-B6A4-18A071141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3DC6-9232-480B-A8EE-1B8A16D3D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D21F-1D6D-4BC4-81DE-284D48B8F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08DA-49E6-4F69-88AE-42061AA66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AEBE6-11DC-4959-8016-FD22A0418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BC00-32F6-4D12-B4BA-250FE5B68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2CC4-3540-4517-967F-9EC6C6205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3C7C-2881-421D-A879-AC292410B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4A56-01CD-42CE-B201-7DABE24CE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69A7-9565-4775-9C8D-51437FCC6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A4CF-CB43-43D8-BCB9-EE55EDA5A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4BCD-82C7-4572-9642-EF050AE13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LL I WANNA DO" AND "MY FAVORITE MISTAK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GOLDEN STATE WARRIORS POINT GUARD KEEPS BREAKING HIS OWN RECORD FOR 3-POINT SHOTS IN A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SENATOR FROM MAINE IS KNOWN      AS ONE OF THE MOST MODERATE GOP SENA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N  CONN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31640" y="762120"/>
            <a:ext cx="828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MES BOND IN   7 FILMS, AND WAS VOTE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EOPL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'S "SEXIEST MAN OF THE CENTU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N  CO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43040" y="762120"/>
            <a:ext cx="7657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THE RAPPER WHO GOES BY PUFF DADDY AND P. DID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CAR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76320" y="762120"/>
            <a:ext cx="7191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THE 40-YEAR-OLD VIRG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C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77960" y="762120"/>
            <a:ext cx="758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 JUDGE ON "POP IDOL", "THE X FACTOR", "BRITAIN'S GOT TALENT", "AMERICAN IDOL", AND "AMERICA'S GOT TAL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COL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05080" y="762120"/>
            <a:ext cx="6333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'S "THE LATE SHOW" ON C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CO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119240" y="762120"/>
            <a:ext cx="69055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HAIN GANG" AND "A CHANGE IS A GONNA C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ZANNE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824040" y="762120"/>
            <a:ext cx="749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"HUNGER GAMES" TRI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3352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YL  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LL I WANNA DO" AND "MY FAVORITE MISTAK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CU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42880" y="762120"/>
            <a:ext cx="8058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GOLDEN STATE WARRIORS POINT GUARD KEEPS BREAKING HIS OWN RECORD FOR 3-POINT SHOTS IN A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SAN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28560" y="762120"/>
            <a:ext cx="7886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SENATOR FROM MAINE IS KNOWN      AS ONE OF THE MOST MODERATE GOP SENA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5440" y="762120"/>
            <a:ext cx="831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MES BOND IN   7 FILMS, AND WAS VOTE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EOPL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'S "SEXIEST MAN OF THE CENTU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THE RAPPER WHO GOES BY PUFF DADDY AND P. DID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357200" y="762120"/>
            <a:ext cx="64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THE 40-YEAR-OLD VIRG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6800" y="762120"/>
            <a:ext cx="7610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 JUDGE ON "POP IDOL", "THE X FACTOR", "BRITAIN'S GOT TALENT", "AMERICAN IDOL", AND "AMERICA'S GOT TAL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419120" y="762120"/>
            <a:ext cx="6305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'S "THE LATE SHOW" ON C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05040" y="761760"/>
            <a:ext cx="7333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HAIN GANG" AND "A CHANGE IS A GONNA C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"HUNGER GAMES" TRI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2-03-02T12:42:46Z</dcterms:modified>
  <cp:revision>367</cp:revision>
  <dc:subject/>
  <dc:title>Slide 1</dc:title>
</cp:coreProperties>
</file>