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105-5620-417D-A4D4-14B96D58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E0BE-9D1C-4285-A615-D4ECDE94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EDC-52AD-480D-B207-3E5D177C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DFE3-1C90-4188-A035-BE986F15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852D-36AA-4F3D-9120-4CD01F52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0F63-FF67-4EF8-96A9-55B43B23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7D82-82E9-49ED-9B0F-FBED1E7EC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7EB-C8EF-4413-9F52-70781A5A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E9DF-E96F-4A35-BF7D-11478B50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8E20-21B5-46A0-9144-CAEAA12A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369-7EB8-45C0-A828-15BA81C4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663B-4C9A-4959-9AB4-FB472038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D7B-B5E4-4410-8A57-B8CACB074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312D-38D9-43A1-A246-F89DAEB6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E77D-475D-463B-8B0D-73E37A75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569C-DFB6-4473-BC85-61554202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06B0-415A-4B58-BF44-A80A9965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50A2-9255-43A5-930C-E5C1114B8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78C3-04D2-44B2-8B92-AD20A40B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EE2-564F-4EC8-8ABE-34E2726BF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70D-DF44-469D-9959-BD820B89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5F0-A9C7-406C-B667-EC225237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2CD5-D43B-4D32-9CB5-877CB11A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HIS PORTRAYAL OF A SERIAL KILLER IN      "THE LOVELY B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RRIED TO DIRECTOR ROMAN POLANSKI WHEN SHE WAS KILLED BY MEMBERS OF THE MANSON FAMILY IN 196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ED JUST 17 DAYS AFTER HIS LAST FILM "GUESS WHO'S COMING TO DINNER" WAS COM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JOURNER  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OLITIONIST TRIED UNSUCCESSFULLY TO GET      "40 ACRES AND A MULE" FOR FORMER SLAVES AFTER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OM  THUR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6320" y="762120"/>
            <a:ext cx="71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CAROLINA SENATOR TURNED 100 YEARS OLD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7960" y="7621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NIA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1997 ALBUM "COME ON OVER" IS THE BEST-SELLING ALBUM OF ALL TIME BY A FEMALE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7628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OX-OFFICE DRAW AS A CHILD ACTRESS IN THE LATE 1930'S LATER BECAME THE U.S. AMBASSADOR TO GHANA AND CZECHOSLOVAK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TI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RESIDENTIAL CANDIDATE TO WIN THE POPULAR VOTE BUT LOSE THE ELECTION, IN 18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ED JUST 17 DAYS AFTER HIS LAST FILM "GUESS WHO'S COMING TO DINNER" WAS COMPLE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DS  TE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ULITZER PRIZE IN 1985 FOR "THE GOOD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 T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42880" y="762120"/>
            <a:ext cx="805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HIS PORTRAYAL OF A SERIAL KILLER IN      "THE LOVELY B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ON  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42880" y="762120"/>
            <a:ext cx="8058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RRIED TO DIRECTOR ROMAN POLANSKI WHEN SHE WAS KILLED BY MEMBERS OF THE MANSON FAMILY IN 196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OLITIONIST TRIED UNSUCCESSFULLY TO GET      "40 ACRES AND A MULE" FOR FORMER SLAVES AFTER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57200" y="762120"/>
            <a:ext cx="64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CAROLINA SENATOR TURNED 100 YEARS OLD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2160" y="762120"/>
            <a:ext cx="71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AEROSM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1997 ALBUM "COME ON OVER" IS THE BEST-SELLING ALBUM OF ALL TIME BY A FEMALE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OX-OFFICE DRAW AS A CHILD ACTRESS IN THE LATE 1930'S LATER BECAME THE U.S. AMBASSADOR TO GHANA AND CZECHOSLOVAK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RESIDENTIAL CANDIDATE TO WIN THE POPULAR VOTE BUT LOSE THE ELECTION, IN 18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ULITZER PRIZE IN 1985 FOR "THE GOOD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02T13:14:20Z</dcterms:modified>
  <cp:revision>371</cp:revision>
  <dc:subject/>
  <dc:title>Slide 1</dc:title>
</cp:coreProperties>
</file>