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D648-958D-477A-8C00-B03B691DF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BF71-6D10-4EBB-91E6-3CF99149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13EC-D811-49DD-9FB2-4F7B088B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1A47-5B91-4F29-99A6-BFAB40E25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97EF-B431-4468-94D6-9C92927B8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A717-DE13-45F8-A043-435DDF7D0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5BE3-34B7-4139-9239-A0048E6AC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8FD-A4A1-4049-A75F-28BC2932B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308C-6298-4F46-9507-750F8639A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ED61-C99D-48F5-A8A9-83282A9DF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9C7F-FF08-4C93-9C46-19C8EEFE0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24F7-01E4-47FA-9624-2CFB17176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C23A-04C8-4850-96E6-34477F93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39BB-F87C-43E7-8FBE-4CF79353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FC7B-8DA7-4506-B663-67A43EE6B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134E-9EAC-49FB-A9E4-B9A6C7671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82FC-9971-4FA3-B279-48656E7DA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15C2-CBCE-4726-B35E-0464168A4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EB64-F518-46DD-89F6-4EE65F60B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B02AE-ABE4-4760-AE2F-6E0274EEF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2510-C618-4A2C-ADCA-993E8CFF8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0E8F-B582-43D6-8C18-6B7549D75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B167-84C9-430B-906B-5D184808B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 FOR HIS PORTRAYAL OF A SERIAL KILLER IN      "THE LOVELY BON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RRIED TO DIRECTOR ROMAN POLANSKI WHEN SHE WAS KILLED BY MEMBERS OF THE MANSON FAMILY IN 196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31640" y="762120"/>
            <a:ext cx="828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DIED JUST 17 DAYS AFTER HIS LAST FILM "GUESS WHO'S COMING TO DINNER" WAS COMPLE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JOURNER  T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43040" y="762120"/>
            <a:ext cx="7657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OLITIONIST TRIED UNSUCCESSFULLY TO GET      "40 ACRES AND A MULE" FOR FORMER SLAVES AFTER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OM  THUR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6320" y="762120"/>
            <a:ext cx="71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CAROLINA SENATOR TURNED 100 YEARS OLD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7960" y="762120"/>
            <a:ext cx="758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AEROSM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NIA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55720" y="762120"/>
            <a:ext cx="743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1997 ALBUM "COME ON OVER" IS THE BEST-SELLING ALBUM OF ALL TIME BY A FEMALE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7628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  TE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BOX-OFFICE DRAW AS A CHILD ACTRESS IN THE LATE 1930'S LATER BECAME THE U.S. AMBASSADOR TO GHANA AND CZECHOSLOVAK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TIL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RESIDENTIAL CANDIDATE TO WIN THE POPULAR VOTE BUT LOSE THE ELECTION, IN 18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DIED JUST 17 DAYS AFTER HIS LAST FILM "GUESS WHO'S COMING TO DINNER" WAS COMPLE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DS  TER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PULITZER PRIZE IN 1985 FOR "THE GOOD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LEY  TUC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42880" y="762120"/>
            <a:ext cx="8058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 FOR HIS PORTRAYAL OF A SERIAL KILLER IN      "THE LOVELY BON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ON  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42880" y="762120"/>
            <a:ext cx="8058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RRIED TO DIRECTOR ROMAN POLANSKI WHEN SHE WAS KILLED BY MEMBERS OF THE MANSON FAMILY IN 196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OLITIONIST TRIED UNSUCCESSFULLY TO GET      "40 ACRES AND A MULE" FOR FORMER SLAVES AFTER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57200" y="762120"/>
            <a:ext cx="64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CAROLINA SENATOR TURNED 100 YEARS OLD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2160" y="762120"/>
            <a:ext cx="71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AEROSM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24040" y="762120"/>
            <a:ext cx="7495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1997 ALBUM "COME ON OVER" IS THE BEST-SELLING ALBUM OF ALL TIME BY A FEMALE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BOX-OFFICE DRAW AS A CHILD ACTRESS IN THE LATE 1930'S LATER BECAME THE U.S. AMBASSADOR TO GHANA AND CZECHOSLOVAK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RESIDENTIAL CANDIDATE TO WIN THE POPULAR VOTE BUT LOSE THE ELECTION, IN 18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PULITZER PRIZE IN 1985 FOR "THE GOOD W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3-02T13:14:20Z</dcterms:modified>
  <cp:revision>371</cp:revision>
  <dc:subject/>
  <dc:title>Slide 1</dc:title>
</cp:coreProperties>
</file>