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E226-6EC6-45D5-9D74-83D5362D0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4BE8-101A-4D5A-8880-EAAEE7567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2BB-CA60-48B1-92F7-6908CB4CC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E61E-8791-47B4-BD9C-FC66D2CE1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0BD-72F5-439A-90CA-6760CCBAD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439-7B22-400C-91CC-E89CDD958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466-8AE3-4680-AB0A-E461D178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D46B-1B62-4C94-88E4-715D2F6D1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354-4227-4D7B-ACAC-34CC5606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D76B-4D9B-44AD-9942-1A1D6796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A6B24-C848-4D29-AC15-25CB734D0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FD98-C956-4A22-BA57-E8E0B748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91F-01AD-4970-8EAD-30AA43B1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1A58-E6BD-46BE-B3B3-59985B62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1112-5E68-426C-9F44-60A8D8CBC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0868-B978-43C9-87C4-B58B14425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E56F-CFEE-41DF-9BB2-FF9375ADF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8384-E885-4E9E-9616-BD5578F64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1CA3-6DC9-442C-B555-9EED1A005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23EE-6556-45F8-923E-0ACF414F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688-3836-4B9A-9D71-86A5695BF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1434-F706-47F7-A642-8443A522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3CF6-FCF7-4994-ABE3-E0E5393D4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B30C-29E9-4826-855B-F32AB7D39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ZI WAS KNOWN AS "THE ANGEL OF DEATH" FOR HIS MEDICAL EXPERIMENTS AT CONCENTRATION CA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6040" y="761760"/>
            <a:ext cx="77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WAS THE FIRST PRESIDENT OF THE SIERRA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4520" y="762120"/>
            <a:ext cx="7914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IME MINISTER OF THE U.K. WHEN MARGARET THATCHER RESIGNED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31640" y="762120"/>
            <a:ext cx="828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A  MARGU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42960" y="762120"/>
            <a:ext cx="7858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576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NE  MANS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52480" y="762120"/>
            <a:ext cx="743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THE FILMS "THE GIRL CAN'T HELP IT" AND "TOO HOT TO HAN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CAV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01760" y="762120"/>
            <a:ext cx="834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XAVIER, THE LEADER OF THE X-MEN,  IN 5 FILMS AFTER PATRICK STEWART DID THE S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N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417680" y="762120"/>
            <a:ext cx="6307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ELLENC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INK HOUSES" AND "JACK AND DI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AX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PHYSICIST UNIFIED THE CONCEPTS OF ELECTRICITY, LIGHT, AND MAGNET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F  MENG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23800" y="762120"/>
            <a:ext cx="8096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ZI WAS KNOWN AS "THE ANGEL OF DEATH" FOR HIS MEDICAL EXPERIMENTS AT CONCENTRATION CA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62120" y="7621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WAS THE FIRST PRESIDENT OF THE SIERRA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PRIME MINISTER OF THE U.K. WHEN MARGARET THATCHER RESIGNED IN 199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LEAVE IT TO B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ON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789120" y="762120"/>
            <a:ext cx="756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THE FILMS "THE GIRL CAN'T HELP IT" AND "TOO HOT TO HAN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01760" y="762120"/>
            <a:ext cx="8340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HARLES XAVIER, THE LEADER OF THE X-MEN,  IN 5 FILMS AFTER PATRICK STEWART DID THE S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48840" y="762120"/>
            <a:ext cx="66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STILL AL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2640" y="761760"/>
            <a:ext cx="81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INK HOUSES" AND "JACK AND DI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PHYSICIST UNIFIED THE CONCEPTS OF ELECTRICITY, LIGHT, AND MAGNET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3-06T10:53:27Z</dcterms:modified>
  <cp:revision>379</cp:revision>
  <dc:subject/>
  <dc:title>Slide 1</dc:title>
</cp:coreProperties>
</file>