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E8F0-9FD0-40ED-9F35-F29067078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7852-01AE-4EB0-8E21-08CD70432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D971-C488-4ABD-9AC2-EA955EE9F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8804-5671-4CD1-B2E4-9E912A8A7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25A3-8563-40A1-8D06-44E16C240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4A80-EEDE-4623-BB50-1CE1AAE36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370E-A664-4EEE-A8AE-3BBF93C4E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E384-3B1C-4615-B1FA-63983728C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0AF2-27E6-4EFB-996A-6F268AA26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A9C1-9B0D-4C3B-87B5-619DE1695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1F9B-D567-432C-A27D-F2D1A4C97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1ABF-ACEA-4CC0-A9CC-1CFE633AB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14B8-7072-4891-AAFC-BA78F1404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395D-EB3E-4A0C-AD97-EE8DC2B17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4B01-AF3A-47AD-97C0-BA3A7B31B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3003-EF6B-44CE-B060-9E892DE47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3121-9035-4D39-B20E-0FAF0CA43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BBC9-E2C8-4E32-BC2B-34FCC43D8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7269-C5DE-4920-A118-49D1B925B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3C8E-65BA-494F-80B4-967BF5AE7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96F9-F6A9-40E4-B5BA-8764F6075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B9D6-00D8-47F4-8857-09B798B75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FAA7-36B1-4F39-A3C0-E49F89FE1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C9E1-B9EC-4E50-8974-02963E7C6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ZI WAS KNOWN AS "THE ANGEL OF DEATH" FOR HIS MEDICAL EXPERIMENTS AT CONCENTRATION CAM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16040" y="761760"/>
            <a:ext cx="77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VIRONMENTALIST WAS THE FIRST PRESIDENT OF THE SIERRA CL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14520" y="762120"/>
            <a:ext cx="7914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PRIME MINISTER OF THE U.K. WHEN MARGARET THATCHER RESIGNED IN 199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MA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31640" y="762120"/>
            <a:ext cx="828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ON "LEAVE IT TO BEA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NNA  MARGU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42960" y="762120"/>
            <a:ext cx="7858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ON "THE GOOD W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576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YNE  MANS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52480" y="762120"/>
            <a:ext cx="7437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THE FILMS "THE GIRL CAN'T HELP IT" AND "TOO HOT TO HAND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MCAV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01760" y="762120"/>
            <a:ext cx="834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ARLES XAVIER, THE LEADER OF THE X-MEN,  IN 5 FILMS AFTER PATRICK STEWART DID THE S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NNE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17680" y="762120"/>
            <a:ext cx="6307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STILL AL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ELLENC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INK HOUSES" AND "JACK AND DI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MAX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824040" y="762120"/>
            <a:ext cx="749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PHYSICIST UNIFIED THE CONCEPTS OF ELECTRICITY, LIGHT, AND MAGNET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3352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F  MENG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23800" y="762120"/>
            <a:ext cx="8096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ZI WAS KNOWN AS "THE ANGEL OF DEATH" FOR HIS MEDICAL EXPERIMENTS AT CONCENTRATION CAM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U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762120" y="762120"/>
            <a:ext cx="7619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VIRONMENTALIST WAS THE FIRST PRESIDENT OF THE SIERRA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AJ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49440" y="762120"/>
            <a:ext cx="7843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PRIME MINISTER OF THE U.K. WHEN MARGARET THATCHER RESIGNED IN 199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5440" y="762120"/>
            <a:ext cx="831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ON "LEAVE IT TO BEA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ON "THE GOOD W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89120" y="762120"/>
            <a:ext cx="7565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THE FILMS "THE GIRL CAN'T HELP IT" AND "TOO HOT TO HAND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01760" y="762120"/>
            <a:ext cx="834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ARLES XAVIER, THE LEADER OF THE X-MEN,  IN 5 FILMS AFTER PATRICK STEWART DID THE S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48840" y="762120"/>
            <a:ext cx="66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STILL AL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2640" y="761760"/>
            <a:ext cx="811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INK HOUSES" AND "JACK AND DIA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PHYSICIST UNIFIED THE CONCEPTS OF ELECTRICITY, LIGHT, AND MAGNETIS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2-03-06T10:53:27Z</dcterms:modified>
  <cp:revision>379</cp:revision>
  <dc:subject/>
  <dc:title>Slide 1</dc:title>
</cp:coreProperties>
</file>