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AB02-54DA-4D48-B394-52D77D797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9BE0-9013-4F88-8DC1-685F7A5E2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B629-06B0-45F0-90D3-ADFA97B93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B106-0793-4AE3-B5A2-FEA8024B7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8F991-D90B-4B0B-BE6E-B8E38167A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BC98-D4E4-4836-939B-5EDFC7E7E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0C18-886A-4735-AC19-3C6409197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C043-B184-4ECF-B8FF-1AA402105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2822-1591-464B-B016-0F4A429FD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CACA-74D6-45D5-A483-83EFEAFED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52E5-61CE-42F0-9FC0-16C04CBFA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05515-4331-47CA-A7A0-9F6AFF16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7501-63BD-4D9E-A72A-CA4FADB57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F986-6212-4918-A8B3-5D0C24984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30E3-CA98-4C17-9756-FB393FEC6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6C8C-8516-46F9-B76B-4F5C8A5F5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0FA4-53D8-440B-9D36-E0A2B7600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C43A-7468-4847-8891-90E1CB663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BC46-C6C6-4519-B9FA-EA4967CC0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510E-9CD2-4D4A-82A1-707E202CD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5D74-C78B-4673-9ABB-E44C123C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88D2-872D-4410-A5EB-7C117ADBF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EB72-C54F-4D1F-BE05-E644F1BB0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RACE CAR DRIVER TO WIN CHAMPIONSHIPS IN BOTH INDYCAR AND NA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LUENTIAL RAPPER WAS SHOT AND KILLED IN A DRIVE-BY SHOOTING IN SEPTEMBER OF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L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S POLICE COMMISSIONER FRANK REAGAN ON "BLUE BLOO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SHALHO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, 2 SCREEN ACTORS GUILD AWARDS, AND 3 PRIMETIME EMMYS FOR PLAYING DETECTIVE ADRIAN MO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AW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IN MARK TWAIN'S BEST-SELLING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S ALBUMS ENTITLED "RED",  "FEARLESS", "SPEAK NOW", "1989", AND "REPUT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SOPR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CHARACTER OF THE SHOW THAT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V GUID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TED AS THE BEST TV SERIE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NY METS PITCHER TO HAVE HIS JERSEY NUMBER RETI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ST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RVEL UNIVERSE, WHAT BILLIONAIRE INDUSTRIALIST BECOMES IRON 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S POLICE COMMISSIONER FRANK REAGAN ON "BLUE BLOO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CHOL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MUSIC GROUP "BOST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RACE CAR DRIVER TO WIN CHAMPIONSHIPS IN BOTH INDYCAR AND NA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PAC  SHAK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FLUENTIAL RAPPER WAS SHOT AND KILLED IN A DRIVE-BY SHOOTING IN SEPTEMBER OF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GOLDEN GLOBE, 2 SCREEN ACTORS GUILD AWARDS, AND 3 PRIMETIME EMMYS FOR PLAYING DETECTIVE ADRIAN MO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IN MARK TWAIN'S BEST-SELLING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HAS ALBUMS ENTITLED "RED",  "FEARLESS", "SPEAK NOW", "1989", AND "REPUT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CHARACTER OF THE SHOW THAT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V GUID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OTED AS THE BEST TV SERIE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NY METS PITCHER TO HAVE HIS JERSEY NUMBER RETI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91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RVEL UNIVERSE, WHAT BILLIONAIRE INDUSTRIALIST BECOMES IRON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MUSIC GROUP "BOST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3-07T14:39:30Z</dcterms:modified>
  <cp:revision>345</cp:revision>
  <dc:subject/>
  <dc:title>Slide 1</dc:title>
</cp:coreProperties>
</file>