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F45-4ACE-4E55-8452-08CF98F8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DA3-4E3E-41E1-BA8D-91D1CB7C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02B4-DC0F-4861-85CB-665F6E58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F07-4950-4A1B-9D83-94B9F0850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75F7-425C-49BC-B55B-615A6DDF1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E3D5-5808-4049-A128-82860A88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7AE3-1CE2-40EC-8A0A-90192AA6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7019-517E-465A-9130-7D3FF1F7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6AD-944D-4821-ACEF-CA4BE241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E24-18B2-466F-AAA4-42773A58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4FD-60AB-421B-9F2F-C9DCE0CE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D6C-8D73-43CD-8D1F-B0769BF8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BEBF-63E3-4C88-BC6E-822250864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53C-3FE9-4FFA-81C3-3E558686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D02F-F6F8-4498-A050-1C96210F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0A3-4363-4808-AF5E-00678270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B1B-3F6E-44E1-92DF-B498BAAA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F03B-7B91-4E81-8C59-39148442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11C6-6A01-4083-99B7-105CACD3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98EF-7B2C-46A3-BFD8-18FE35C9A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F0BE-1BF8-4A3E-A5C7-5C9CCA67A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7855-DE1F-4655-9422-117CF0582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8178-E139-4C60-9003-A5E5EAFB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RACE CAR DRIVER TO WIN CHAMPIONSHIPS IN BOTH INDYCAR AND N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SHOT AND KILLED IN A DRIVE-BY SHOOTING IN SEPTEMBER OF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L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S POLICE COMMISSIONER FRANK REAGAN ON "BLUE BLOO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HALHO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2 SCREEN ACTORS GUILD AWARDS, AND 3 PRIMETIME EMMYS FOR PLAYING DETECTIVE ADRIAN MO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MARK TWAIN'S BEST-SELLING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ALBUMS ENTITLED "RED",  "FEARLESS", "SPEAK NOW", "1989", AND "REPU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CHARACTER OF THE SHOW T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TED AS THE BEST TV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NY METS PITCHER TO HAVE HIS JERSEY NUMBER RET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T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UNIVERSE, WHAT BILLIONAIRE INDUSTRIALIST BECOMES IRON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S POLICE COMMISSIONER FRANK REAGAN ON "BLUE BLOO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CHOL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MUSIC GROUP "BOS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RACE CAR DRIVER TO WIN CHAMPIONSHIPS IN BOTH INDYCAR AND N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SHOT AND KILLED IN A DRIVE-BY SHOOTING IN SEPTEMBER OF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2 SCREEN ACTORS GUILD AWARDS, AND 3 PRIMETIME EMMYS FOR PLAYING DETECTIVE ADRIAN MO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MARK TWAIN'S BEST-SELLING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ALBUMS ENTITLED "RED",  "FEARLESS", "SPEAK NOW", "1989", AND "REPUT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CHARACTER OF THE SHOW T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TED AS THE BEST TV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NY METS PITCHER TO HAVE HIS JERSEY NUMBER RET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UNIVERSE, WHAT BILLIONAIRE INDUSTRIALIST BECOMES IRON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MUSIC GROUP "BOST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3-07T14:39:30Z</dcterms:modified>
  <cp:revision>345</cp:revision>
  <dc:subject/>
  <dc:title>Slide 1</dc:title>
</cp:coreProperties>
</file>