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A87-95C1-4649-B49D-721F057B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371-73D1-4211-8DB9-EE4A0616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177-CBD4-4A64-AFF7-C99E6B1A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27B-A234-4495-B234-AEE992A9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6B8-2A53-47A4-B939-79411F53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0CE-8E66-49A4-80C9-383A8FD30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3D3-7734-4661-BC83-AA418DE5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B2B-64AA-4FF3-8E3E-BD92CCDD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73C-3128-4FFE-AD02-5878160D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A41-DCE4-47CD-B197-17531E4C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995-3DE1-4A7F-89AF-DEF1147E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E08-1CAA-4AFE-8B88-B182B137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83F3-6E05-4B82-A6D3-5C3C31AF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219-5195-4FC8-82D0-2306A32B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5D9-9865-4CBD-8331-B324EF4E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6FDB-8B56-4D7C-8E00-54B639C7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B83-CF8B-451B-85FA-59D1EDE7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EFAC-29F6-422B-AE29-C7285E08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84D-7027-45E3-A4CE-B5F9468B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15C-188C-44B2-883C-B2AD9137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758-475C-4B65-B438-F89E9EEF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64FA-9AD8-4411-B8ED-094613BD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69B-8F80-4D23-9A6A-6221AA4C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47840" y="7603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ICK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604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S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49:05Z</dcterms:created>
  <dc:creator>Jennifer Budzinski</dc:creator>
  <dc:description/>
  <dc:language>en-US</dc:language>
  <cp:lastModifiedBy>Erich Friedman</cp:lastModifiedBy>
  <dcterms:modified xsi:type="dcterms:W3CDTF">2020-08-23T22:48:37Z</dcterms:modified>
  <cp:revision>322</cp:revision>
  <dc:subject/>
  <dc:title>Slide 1</dc:title>
</cp:coreProperties>
</file>