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D43B-5A59-4C93-A992-6D614A203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562F-73EA-45F1-8AAB-1AAFAD45F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A0A5-941C-48A1-9D32-8BBF6259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CFB8-A5E5-4D92-BA4E-5D8813D8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ABA-460F-4990-AF12-D41E0009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FF2C-2124-4DFC-8DEF-59303967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A183-588E-4B13-ABDF-303A9A326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3640-A1EF-4D68-877A-D233B42F9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3888-0B35-43F7-974B-5763D0CD9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4914-7730-496A-B840-8EDA22B7E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5445-D6C8-4B6E-9521-62CCD9693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9711-7D24-4DFA-B90F-B1803B6E8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C3B-2E0F-4413-B371-A7C8C4F1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8B4E-F3A6-4340-BFCB-58D5520C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7F0F-055E-4065-AB3F-66C5C27EC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00DD-BCF7-47B6-9A81-06E2BED2A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7D76-EC13-4463-B276-BE4980DB8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6BCE-6260-4EA3-919E-35BBBF964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B76F-2906-496E-BCD0-0D1D920B4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6FFD-C73A-43E6-AB99-F2F9577DD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B279-E837-448B-803A-7F641857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44F3-63BD-403F-9BE9-3CBEB9EC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13AE-5DCF-4BBD-84F0-43BB0558D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ACTOR STARRED IN "MONA LISA", "PENNIES FROM HEAVEN", AND "WHO FRAMED ROGER RABBI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MEDIAN AND ACTOR HAD HIS OWN POPULAR SHOW, A COLLECTION OF SLAPSTICK AND BURLE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THANKS FOR THE MEMORIES", APPEARED IN MORE THAN 70 FILMS, AND HOSTED THE OSCARS MORE THAN ANY OTHER HO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47840" y="7603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JAZZ SINGER FROM HARLEM WAS POPULAR IN THE 30'S AND 40'S, AND RECEIVED 4 POSTHUMOUS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HICK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IN THE OLD WEST FOR BEING A LAWMAN, GUNFIGHTER, GAMBLER, AND SH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, AND THE GRANDSON OF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H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 GOLFER WON 9 MAJOR TOURNAMENTS, INCLUDING THE MASTERS, THE BRITISH OPEN, THE U.S. OPEN, AND THE PGA CHAMPIONSHIP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ROCK LEGEND SANG "THAT'LL BE THE DAY" AND "PEGGY S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WAY IT IS" AND "MANDOLIN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SANG "THANKS FOR THE MEMORIES", APPEARED IN MORE THAN 70 FILMS, AND HOSTED THE OSCARS MORE THAN ANY OTHER HO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6044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 AROUND THE CLOCK", "SHAKE, RATTLE AND ROLL", AND "SEE YOU LATER, ALLIG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S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ACTOR STARRED IN "MONA LISA", "PENNIES FROM HEAVEN", AND "WHO FRAMED ROGER RABBI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NY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MEDIAN AND ACTOR HAD HIS OWN POPULAR SHOW, A COLLECTION OF SLAPSTICK AND BURLESQ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JAZZ SINGER FROM HARLEM WAS POPULAR IN THE 30'S AND 40'S, AND RECEIVED 4 POSTHUMOUS GRA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IN THE OLD WEST FOR BEING A LAWMAN, GUNFIGHTER, GAMBLER, AND SHOW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, AND THE GRANDSON OF THE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 GOLFER WON 9 MAJOR TOURNAMENTS, INCLUDING THE MASTERS, THE BRITISH OPEN, THE U.S. OPEN, AND THE PGA CHAMPIONSHIP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ROCK LEGEND SANG "THAT'LL BE THE DAY" AND "PEGGY S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WAY IT IS" AND "MANDOLIN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 AROUND THE CLOCK", "SHAKE, RATTLE AND ROLL", AND "SEE YOU LATER, ALLIG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7:49:05Z</dcterms:created>
  <dc:creator>Jennifer Budzinski</dc:creator>
  <dc:description/>
  <dc:language>en-US</dc:language>
  <cp:lastModifiedBy>Erich Friedman</cp:lastModifiedBy>
  <dcterms:modified xsi:type="dcterms:W3CDTF">2020-08-23T22:48:37Z</dcterms:modified>
  <cp:revision>322</cp:revision>
  <dc:subject/>
  <dc:title>Slide 1</dc:title>
</cp:coreProperties>
</file>