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95B-C1C9-4257-A769-25C847989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A0F-F469-4E29-91DA-F998A121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15B-0E3F-4C3B-BD94-1C263C61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19BB-D9C7-42EF-AB6E-A37ABCE7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F43-F904-4F88-81F0-E905F85D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1452-C072-4F29-9534-AD97F199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C172-DF0A-443C-8215-301AAD17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91D6-B39F-450A-A621-D205ED27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434-80C5-4922-BF60-B18B9EA3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D0EE-F93C-40E3-8666-05C1511E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BDB-0A26-4E16-B469-EA68653F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150F-9486-445B-BDED-EBDAF427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A0F9-5B07-4E13-8C8F-F22FC6CC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8A3-D2FE-4019-919D-8C46C9C8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04D2-DF6E-480A-9FA7-F464CECD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2255-935D-4AAC-98EF-B141D478B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06A9-EA39-4EFF-AD22-B6DE541E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8C41-019F-48A3-A4FC-490D8B1B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8FCB-75EC-4782-AC14-46567FE9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9018-2617-4B18-BC1E-2C5D4ADA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840-6276-4846-AAB5-5A691533E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55CA-09BF-4986-A71E-AC9CFFDE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CD3C-8D59-4458-84AF-A3AA0FE0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47840" y="7603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ICK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604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S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49:05Z</dcterms:created>
  <dc:creator>Jennifer Budzinski</dc:creator>
  <dc:description/>
  <dc:language>en-US</dc:language>
  <cp:lastModifiedBy>Erich Friedman</cp:lastModifiedBy>
  <dcterms:modified xsi:type="dcterms:W3CDTF">2020-08-23T22:48:37Z</dcterms:modified>
  <cp:revision>322</cp:revision>
  <dc:subject/>
  <dc:title>Slide 1</dc:title>
</cp:coreProperties>
</file>