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020A-6636-4EE3-91C4-B5DA20129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E287-9D9E-4540-AD7F-756B6BFB0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5A28-BFBA-4510-9A76-26204EBC1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2D41-0150-4F21-84CC-1F458A516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8E77-F2A4-4E4A-81DC-267558F1A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F285-AA71-4B60-9934-CFC8B6C4A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5CDD-8771-40ED-A764-1A10CEAB4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99A3-390E-4553-AEF7-9DDE6B069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91CC-DCDA-4500-A9B5-5361443B9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266E-CAF9-4248-84CF-12F73A30F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761E-8B78-4BB3-B52C-2918FFDC0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0743-962D-42FB-B4DA-3AA9B0403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9ED1-7FA2-488A-8DA3-48B71ADD3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0DB8-DABA-475F-8A9C-2DBCAE1BE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935C-36C9-469C-8AB6-4F13B521E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235A-350C-4C4D-B128-6CE528B53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26B4-6D19-4B97-BABB-89831F5AA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A7E1-2498-4C8C-90C2-D47655824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B796-73D8-4763-BCB2-67DDB706B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8BBC-4571-4DA7-AC7E-C6E74B58A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A029-71B6-4642-8E08-890DF50EC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FF2B-2656-4F1E-ACD9-24D8D8626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2A9C-FB47-4F61-8A7E-928036081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2E3F-7CD3-4055-8B6B-F98D5BB82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GREEN LANTERN" AND 2 "DEADPOOL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GET SHORTY", "RANSOM", "OUTBREAK", AND "THE THOMAS CROWN AFFAI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523880" y="762120"/>
            <a:ext cx="6096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ATHER MIKE BRADY ON   "THE BRADY BUN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NALD  REA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33520" y="762120"/>
            <a:ext cx="8076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CAME PRESIDENT BY WINNING THE ELECTORAL VOTES OF 49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RED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71680" y="7621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WAS NOMINATED FOR BEST DIRECTOR FOR "ORDINARY PEOPLE" AND "QUIZ SH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  ROM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BEST KNOWN FOR PLAYING THE TITLE CHARACTER IN A SITCOM WHOSE NAME BEGINS "EVERYONE LOVES..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Y  RO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STERN STAR HAD A HORSE NAMED TRIGGER AND A DOG NAMED BULL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RE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57200" y="838080"/>
            <a:ext cx="83059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CONOMIST SERVED     AS SECRETARY OF LABOR DURING CLINTON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E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  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NNING BACK FOR THE BALTIMORE RAVENS WAS LET GO AFTER HE PUNCHED AND KNOCKED OUT HIS FIANCÉE IN AN ELEVA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  REI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STAND BY ME", "WHEN HARRY MET SALLY", "THE PRINCESS BRIDE", AND "THIS IS SPINAL TA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YAN  REYNO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181160" y="762120"/>
            <a:ext cx="6781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GREEN LANTERN" AND 2 "DEADPOOL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NE  RUS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800280" y="762120"/>
            <a:ext cx="7543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GET SHORTY", "RANSOM", "OUTBREAK", AND "THE THOMAS CROWN AFFAI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R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523880" y="762120"/>
            <a:ext cx="6096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ATHER MIKE BRADY ON   "THE BRADY BUN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CAME PRESIDENT BY WINNING THE ELECTORAL VOTES OF 49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WAS NOMINATED FOR BEST DIRECTOR FOR "ORDINARY PEOPLE" AND "QUIZ SH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BEST KNOWN FOR PLAYING THE TITLE CHARACTER IN A SITCOM WHOSE NAME BEGINS "EVERYONE LOVES..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STERN STAR HAD A HORSE NAMED TRIGGER AND A DOG NAMED BULL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560" y="7621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CONOMIST SERVED     AS SECRETARY OF LABOR DURING CLINTON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ER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NNING BACK FOR THE BALTIMORE RAVENS WAS LET GO AFTER HE PUNCHED AND KNOCKED OUT HIS FIANCÉE IN AN ELEVA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STAND BY ME", "WHEN HARRY MET SALLY", "THE PRINCESS BRIDE", AND "THIS IS SPINAL TA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4-27T13:51:42Z</dcterms:modified>
  <cp:revision>346</cp:revision>
  <dc:subject/>
  <dc:title>Slide 1</dc:title>
</cp:coreProperties>
</file>