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75D9-0075-4DF8-8DC1-4E066153F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28AD-AC86-45BA-9D4A-4D58AF7BE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ABD5-58A5-4D65-ABDE-BE0F788CC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8D83-1AF9-4B75-9D6C-D8C9972D0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8B80-24EE-4209-8B10-3222FF715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D6F9-C58C-4236-B9B1-C853D723E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58C2-73AB-4748-BF71-28A3591A1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3F17-28D8-4FC6-BE2D-38797C6CA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3342-3D46-4845-A707-844B5BC54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172D-40FD-464F-9522-6E392636A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A5D7-3C14-4A03-943B-B418ECD9F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2F4E-983C-4D9E-9F26-F45CC16FD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C9C8-80BB-43B1-BA6A-A5CDCCE35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A14D-CED9-4247-A2C8-AC6F63070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F75E-8DE5-43AB-AC49-A745C5456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E3F5-6A18-4164-BFA4-8839BFD1A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AB39-3896-4E3A-B3D8-AC4EB839F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0AE1-2A97-4DCB-8154-6710C09A8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A5A7-195D-48D1-ABB6-15E686C81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8E11-9562-4EB6-9DEB-6CB54E076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3160-BB65-474B-A0AD-B8A7ACA18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5541-68B6-499F-B30D-D35C862E2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C6DA-5BB1-4FC0-AF8F-8B44011E0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58D1-91F6-44A0-AED7-6A7C529B1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S IN "GREEN LANTERN" AND 2 "DEADPOOL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GET SHORTY", "RANSOM", "OUTBREAK", AND "THE THOMAS CROWN AFFAI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523880" y="762120"/>
            <a:ext cx="6096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FATHER MIKE BRADY ON   "THE BRADY BUN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NALD  REA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33520" y="762120"/>
            <a:ext cx="8076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ECAME PRESIDENT BY WINNING THE ELECTORAL VOTES OF 49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RED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571680" y="7621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WAS NOMINATED FOR BEST DIRECTOR FOR "ORDINARY PEOPLE" AND "QUIZ SH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Y  ROM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BEST KNOWN FOR PLAYING THE TITLE CHARACTER IN A SITCOM WHOSE NAME BEGINS "EVERYONE LOVES..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Y  RO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STERN STAR HAD A HORSE NAMED TRIGGER AND A DOG NAMED BULL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RE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57200" y="838080"/>
            <a:ext cx="83059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CONOMIST SERVED     AS SECRETARY OF LABOR DURING CLINTON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ER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Y  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NNING BACK FOR THE BALTIMORE RAVENS WAS LET GO AFTER HE PUNCHED AND KNOCKED OUT HIS FIANCÉE IN AN ELEVA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  REI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STAND BY ME", "WHEN HARRY MET SALLY", "THE PRINCESS BRIDE", AND "THIS IS SPINAL TA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YAN  REYNO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181160" y="762120"/>
            <a:ext cx="6781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S IN "GREEN LANTERN" AND 2 "DEADPOOL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NE  RUS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800280" y="762120"/>
            <a:ext cx="7543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GET SHORTY", "RANSOM", "OUTBREAK", AND "THE THOMAS CROWN AFFAI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R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523880" y="762120"/>
            <a:ext cx="6096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FATHER MIKE BRADY ON   "THE BRADY BUN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ECAME PRESIDENT BY WINNING THE ELECTORAL VOTES OF 49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WAS NOMINATED FOR BEST DIRECTOR FOR "ORDINARY PEOPLE" AND "QUIZ SH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BEST KNOWN FOR PLAYING THE TITLE CHARACTER IN A SITCOM WHOSE NAME BEGINS "EVERYONE LOVES..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STERN STAR HAD A HORSE NAMED TRIGGER AND A DOG NAMED BULL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560" y="7621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CONOMIST SERVED     AS SECRETARY OF LABOR DURING CLINTON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ER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NNING BACK FOR THE BALTIMORE RAVENS WAS LET GO AFTER HE PUNCHED AND KNOCKED OUT HIS FIANCÉE IN AN ELEVA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STAND BY ME", "WHEN HARRY MET SALLY", "THE PRINCESS BRIDE", AND "THIS IS SPINAL TA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4-27T13:51:42Z</dcterms:modified>
  <cp:revision>346</cp:revision>
  <dc:subject/>
  <dc:title>Slide 1</dc:title>
</cp:coreProperties>
</file>