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6827-2EF5-4B01-9718-63ECED499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3464-FFD7-43B4-BCB7-0DE0FF01B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7B83-E47F-4929-B549-F44C04995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5298-01A9-40A5-BA3D-01D91D0A1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C7F8-88CE-4703-A885-6AB168227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A00B-7949-4BC7-991B-4E5C9D6EB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B007-82D8-4397-AC7D-0EE2A1991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E931-3E82-47BA-AE72-6BB0885A9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7BEF-C150-482E-AF12-CB705C3EE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5F9E-8766-4A49-AC86-B273AD347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1D65-4D30-4A8A-8F72-BA81C2E8E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22F0-4C97-4F1C-A218-5704D76FF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99A7-C353-4D65-8827-426A480AD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D6A3-D126-4C78-93C6-B00E1A6EE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A5CE-A341-4B70-9E63-8D31DFDE1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EA66-F9A7-4F61-B7CD-E828F9D4F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B2C06-F8B8-4DE9-8E7E-D8F2205D2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AB87-8BAE-4D9B-87EE-116DE2E0D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7D54-CE31-4BDE-B311-2DBD4CABE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3CFB-C454-41CC-B283-568C0934B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0D28-F27A-46A2-A73A-40F409CC3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D442-DC47-4EB8-942E-792DCD1B5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599A-0AA5-4D7A-9EB0-05B74DF9E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1B52-6F05-4B56-ADC2-C0E937A15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NOMINATED FOR 7 OSCARS, INCLUDING FOR "FATAL ATTRACTION" AND "DANGEROUS LIAISONS", BUT NEVER W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VIL WAR GENERAL WAS KILLED, ALONG WITH EVERY MAN IN HIS COMMAND, AT THE BATTLE OF THE LITTLE BIGH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90400" y="762120"/>
            <a:ext cx="7963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ITALIAN WAS SO FAMOUS FOR HIS AFFAIRS THAT HIS LAST NAME IS NOW SYNONYMOUS WITH WOMANIZ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43040" y="762120"/>
            <a:ext cx="7657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SUPPORTING ACTOR FOR "SYRIANNA" AND FOR CO-PRODUCING "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VER  CLEV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123920" y="762120"/>
            <a:ext cx="6896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TO SERVE TWO NON-CONSECUTIVE TER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A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FAMOUS FOR HIS ROUTINE ABOUT "SEVEN DIRTY WO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COLE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HOOD ACTOR STARRED IN "DIFF'RENT STROK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FFREY  CHAU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CANTERBURY TA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  CAMP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COUNTRY HITS "UNIVERSAL SOLDIER", "WICHITA LINEMAN", AND "RHINESTONE COWBO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OSCARS FOR "HIGH NOON" AND "SERGEANT YO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N  CL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71440" y="762120"/>
            <a:ext cx="8601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NOMINATED FOR 7 OSCARS, INCLUDING FOR "FATAL ATTRACTION" AND "DANGEROUS LIAISONS", BUT NEVER W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U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800280" y="76212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VIL WAR GENERAL WAS KILLED, ALONG WITH EVERY MAN IN HIS COMMAND, AT THE BATTLE OF THE LITTLE BIGH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ACOMO  CASANO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38280" y="762120"/>
            <a:ext cx="7867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ITALIAN WAS SO FAMOUS FOR HIS AFFAIRS THAT HIS LAST NAME IS NOW SYNONYMOUS WITH WOMANIZ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95240" y="762120"/>
            <a:ext cx="755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SUPPORTING ACTOR FOR "SYRIANNA" AND FOR CO-PRODUCING "AR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U.S. PRESIDENT TO SERVE TWO NON-CONSECUTIVE TER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71640" y="76212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FAMOUS FOR HIS ROUTINE ABOUT "SEVEN DIRTY WO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HOOD ACTOR STARRED IN "DIFF'RENT STROK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CANTERBURY TA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COUNTRY HITS "UNIVERSAL SOLDIER", "WICHITA LINEMAN", AND "RHINESTONE COWBO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OSCARS FOR "HIGH NOON" AND "SERGEANT YO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5-19T16:16:38Z</dcterms:modified>
  <cp:revision>353</cp:revision>
  <dc:subject/>
  <dc:title>Slide 1</dc:title>
</cp:coreProperties>
</file>