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0AAA-F170-4AE3-93EB-4072CAAB9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C44A-3510-44AC-90C1-ABB491DEA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5C75-769D-4065-9C0C-0A6FA7B83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68CE-2A40-48F1-B044-1F2490E04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B4C5-071D-4B9B-8202-1E152BE80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1ED9-2F34-4F3C-93E8-62D27D611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56BC-723D-41BF-ADBE-C40997E67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B4BA-8024-4DF4-9C6E-5F59D6FAC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DB83-B09E-4002-AC03-F6F08C508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70C7-2689-48B6-BF43-0864F6A37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CD0E-5754-4F91-9FFA-10F05D7A3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935A-1B79-49DA-AB0E-368671468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8769-DB64-4A4E-AD4A-AFEB7C087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F4F8-9B78-4D0A-89E5-DD39BAE6B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BCE0-6059-40EF-A5E5-7C9871A9D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7AC8-9E9B-4F0E-8DAC-DEC14C651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C62B-03F6-4F16-9DD6-0814E5A9B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6F14-1A72-4AD0-BC06-8F3D9A858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96A1-0980-4448-BEC5-7AF744D49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1B36-11D7-40D7-AF2E-0B68DC467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7825-060A-4985-8363-48031BC90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7A2C-DE4B-44E8-9049-B0A30ADE2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52AB-E99D-471D-BDD7-C691C90DB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FD56-6B58-4CC8-AB03-35E90B6DE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AS NOMINATED FOR 7 OSCARS, INCLUDING FOR "FATAL ATTRACTION" AND "DANGEROUS LIAISONS", BUT NEVER W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VIL WAR GENERAL WAS KILLED, ALONG WITH EVERY MAN IN HIS COMMAND, AT THE BATTLE OF THE LITTLE BIGHOR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90400" y="762120"/>
            <a:ext cx="7963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ITALIAN WAS SO FAMOUS FOR HIS AFFAIRS THAT HIS LAST NAME IS NOW SYNONYMOUS WITH WOMANIZ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CLO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743040" y="762120"/>
            <a:ext cx="7657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OSCARS FOR BEST SUPPORTING ACTOR FOR "SYRIANNA" AND FOR CO-PRODUCING "ARG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OVER  CLEVE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123920" y="762120"/>
            <a:ext cx="68961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U.S. PRESIDENT TO SERVE TWO NON-CONSECUTIVE TER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CAR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WAS FAMOUS FOR HIS ROUTINE ABOUT "SEVEN DIRTY WOR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RY  COLE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LDHOOD ACTOR STARRED IN "DIFF'RENT STROK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FFREY  CHAU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CANTERBURY TAL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EN  CAMPB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COUNTRY HITS "UNIVERSAL SOLDIER", "WICHITA LINEMAN", AND "RHINESTONE COWBO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RY  COO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438120" y="762120"/>
            <a:ext cx="8267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OSCARS FOR "HIGH NOON" AND "SERGEANT YOR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ENN  CL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271440" y="762120"/>
            <a:ext cx="8601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AS NOMINATED FOR 7 OSCARS, INCLUDING FOR "FATAL ATTRACTION" AND "DANGEROUS LIAISONS", BUT NEVER W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CU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800280" y="762120"/>
            <a:ext cx="7543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VIL WAR GENERAL WAS KILLED, ALONG WITH EVERY MAN IN HIS COMMAND, AT THE BATTLE OF THE LITTLE BIGHOR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ACOMO  CASANO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38280" y="762120"/>
            <a:ext cx="7867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ITALIAN WAS SO FAMOUS FOR HIS AFFAIRS THAT HIS LAST NAME IS NOW SYNONYMOUS WITH WOMANIZ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95240" y="762120"/>
            <a:ext cx="7553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OSCARS FOR BEST SUPPORTING ACTOR FOR "SYRIANNA" AND FOR CO-PRODUCING "ARG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933480" y="761760"/>
            <a:ext cx="7277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U.S. PRESIDENT TO SERVE TWO NON-CONSECUTIVE TER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971640" y="762120"/>
            <a:ext cx="720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WAS FAMOUS FOR HIS ROUTINE ABOUT "SEVEN DIRTY WOR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LDHOOD ACTOR STARRED IN "DIFF'RENT STROK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CANTERBURY TAL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0120" y="761760"/>
            <a:ext cx="7943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COUNTRY HITS "UNIVERSAL SOLDIER", "WICHITA LINEMAN", AND "RHINESTONE COWBO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04720" y="761760"/>
            <a:ext cx="8134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OSCARS FOR "HIGH NOON" AND "SERGEANT YOR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5-19T16:16:38Z</dcterms:modified>
  <cp:revision>353</cp:revision>
  <dc:subject/>
  <dc:title>Slide 1</dc:title>
</cp:coreProperties>
</file>