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A53-BB74-4D52-8A83-35BBB8DE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E56D-E512-46BC-94F7-88C7A920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916-C518-4B93-9E3D-E7083A69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5B75-B68E-4FAE-8C5D-5E84855E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4F4-226C-4230-A578-0D41B7F2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C97-0AEF-4665-9FF7-EEBD5F4B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9EE-E451-4601-9684-BDCC53CD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716-FB05-4CBA-BEEE-5395DC36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C79D-16FE-4C23-B6E5-42D2A7B6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D78D-9AB5-44ED-9DF8-042256E6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AA0-09CE-42F5-993B-DDED54A7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DE87-579E-498D-9BAB-247D6C7B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CA6-79ED-48D0-9C32-4946FA43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DEE5-50E3-4155-902D-88D66A32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E118-4F2B-4F5D-8B4F-B75245EC7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B93A-1A8B-46C1-AEDE-6AE8FA8D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F69-4287-4613-9F4A-F0198E97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DE8-A481-4B7A-80E0-62C9D218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EC1-0799-496C-AC5B-05264467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1D2D-E9AF-422F-973F-CF455689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3E93-2170-4B0D-9BB2-695CBD43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CF62-4FF1-4AA6-AF5A-17B7BB1E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51B7-5E1A-4D19-B89E-6EE0EC0A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S "SNOWBIRD", "DANNY'S SONG", "YOU WON'T SEE ME", AND "YOU NEEDE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23760" y="762120"/>
            <a:ext cx="729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BEST KNOWN FOR HIS "HIERARCHY OF NEE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M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NCELLOR OF GERMANY 2005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IS  MORISS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1000" y="762120"/>
            <a:ext cx="718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HAND IN MY POCKET" WAS CALLED "THE QUEEN OF ALT-ROCK ANGST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IE  MA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4800" y="78120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LDEN GLOBE-NOMINATED FOR HER ROLES IN "SEX, LIES, AND VIDEOTAPE", "GREEN CARD", AND "FOUR WEDDINGS AND A FUN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45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45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 SINGLES TITLES IN 2013 AND 2016, BECOMING THE FIRST BRITISH MAN TO DO SO SINCE 193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LAYS "DEATH OF A SALESMAN" AND "THE CRUCIB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IE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QUARTERBACK WAS THE FATHER OF 2 OTHER NFL QUARTERBACKS, WHO BOTH WON 2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NAH  M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BLACK VELV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08000" y="762120"/>
            <a:ext cx="712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NCELLOR OF GERMANY 2005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A  MC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6 TONY AWARDS, MORE THAN  ANY OTHER PERFOR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S "SNOWBIRD", "DANNY'S SONG", "YOU WON'T SEE ME", AND "YOU NEEDE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MA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BEST KNOWN FOR HIS "HIERARCHY OF NEE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HAND IN MY POCKET" WAS CALLED "THE QUEEN OF ALT-ROCK ANGST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8920" y="762120"/>
            <a:ext cx="842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LDEN GLOBE-NOMINATED FOR HER ROLES IN "SEX, LIES, AND VIDEOTAPE", "GREEN CARD", AND "FOUR WEDDINGS AND A FUN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 SINGLES TITLES IN 2013 AND 2016, BECOMING THE FIRST BRITISH MAN TO DO SO SINCE 193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LAYS "DEATH OF A SALESMAN" AND "THE CRUCIB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QUARTERBACK WAS THE FATHER OF 2 OTHER NFL QUARTERBACKS, WHO BOTH WON 2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BLACK VELV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6 TONY AWARDS, MORE THAN ANY OTHER PERFOR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6T12:57:12Z</dcterms:modified>
  <cp:revision>376</cp:revision>
  <dc:subject/>
  <dc:title>Slide 1</dc:title>
</cp:coreProperties>
</file>