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4D07-8534-4F79-9443-75FA1ED2B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E1F9-8B37-4D31-ADD4-28E94B0AA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960A-3DFE-4275-A07C-684511CCE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44C6-E731-4E2D-83B9-08A5FD0C3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5483E-894F-4BEA-B311-0673B145F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5366-219B-45BB-ABFB-B6A41C2AA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7B16-B23B-4C2F-962A-4B393A0C9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BA27-F02A-4BBB-9770-1A93A4134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C6D3-31DB-4A91-A380-15F803C65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7E09-2FD4-4820-8C4A-565727B95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C5C3-0CB6-4B7B-A359-5066129BE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1529-2B0D-44AB-8C9D-9925F8495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E797-1DED-4551-A16E-CF960C0FA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7D50-0466-4093-8FC7-BFFE13B17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354A-C0D3-446D-B9AE-78F050C5B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E2531-66C6-44B3-AC15-D4A792F35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9A26-3B1C-46AF-891D-F796DB4EE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E966-F6A8-4604-9C2C-E33DD5552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2324-0CFB-47B6-B570-D4409A377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9A8F-8233-41FE-872E-A1A076D4A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EBD2-84C6-4BBB-9B9E-B12D6D829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5D3A-21DC-46A1-A822-913529061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8800-7C45-4FFA-B35A-A34EA6DBB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66840" y="761760"/>
            <a:ext cx="8410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TOP-10 HITS "SNOWBIRD", "DANNY'S SONG", "YOU WON'T SEE ME", AND "YOU NEEDED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923760" y="762120"/>
            <a:ext cx="7296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SYCHOLOGIST IS BEST KNOWN FOR HIS "HIERARCHY OF NEE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GELA  MERK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066680" y="762120"/>
            <a:ext cx="70106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HANCELLOR OF GERMANY 2005-202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NIS  MORISSE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81000" y="762120"/>
            <a:ext cx="7182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OF "HAND IN MY POCKET" WAS CALLED "THE QUEEN OF ALT-ROCK ANGST"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LLING STONE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GAZ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IE  MACDO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34800" y="781200"/>
            <a:ext cx="8472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GOLDEN GLOBE-NOMINATED FOR HER ROLES IN "SEX, LIES, AND VIDEOTAPE", "GREEN CARD", AND "FOUR WEDDINGS AND A FUNER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4520" y="495288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Y  MUR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4452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WIMBLEDON SINGLES TITLES IN 2013 AND 2016, BECOMING THE FIRST BRITISH MAN TO DO SO SINCE 193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THUR  MI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55720" y="762120"/>
            <a:ext cx="743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PLAYS "DEATH OF A SALESMAN" AND "THE CRUCIB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CHIE  M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QUARTERBACK WAS THE FATHER OF 2 OTHER NFL QUARTERBACKS, WHO BOTH WON 2 SUPER BOW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NNAH  MY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24040" y="762120"/>
            <a:ext cx="749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SONG "BLACK VELV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08000" y="762120"/>
            <a:ext cx="712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HANCELLOR OF GERMANY 2005-202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DRA  MCDONA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71640" y="762120"/>
            <a:ext cx="7200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WON 6 TONY AWARDS, MORE THAN  ANY OTHER PERFORM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E  MUR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80880" y="762120"/>
            <a:ext cx="8382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TOP-10 HITS "SNOWBIRD", "DANNY'S SONG", "YOU WON'T SEE ME", AND "YOU NEEDED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RAHAM  MAS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43120" y="762120"/>
            <a:ext cx="7457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SYCHOLOGIST IS BEST KNOWN FOR HIS "HIERARCHY OF NEE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OF "HAND IN MY POCKET" WAS CALLED "THE QUEEN OF ALT-ROCK ANGST"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LLING STONE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GAZ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58920" y="762120"/>
            <a:ext cx="8426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GOLDEN GLOBE-NOMINATED FOR HER ROLES IN "SEX, LIES, AND VIDEOTAPE", "GREEN CARD", AND "FOUR WEDDINGS AND A FUNER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44520" y="762120"/>
            <a:ext cx="8454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WIMBLEDON SINGLES TITLES IN 2013 AND 2016, BECOMING THE FIRST BRITISH MAN TO DO SO SINCE 193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24040" y="762120"/>
            <a:ext cx="7495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PLAYS "DEATH OF A SALESMAN" AND "THE CRUCIB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12640" y="761760"/>
            <a:ext cx="811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QUARTERBACK WAS THE FATHER OF 2 OTHER NFL QUARTERBACKS, WHO BOTH WON 2 SUPER BOW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SONG "BLACK VELV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WON 6 TONY AWARDS, MORE THAN ANY OTHER PERFORM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2-05-06T12:57:12Z</dcterms:modified>
  <cp:revision>376</cp:revision>
  <dc:subject/>
  <dc:title>Slide 1</dc:title>
</cp:coreProperties>
</file>