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D951-2021-44B9-A347-05D8088E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082-7A94-4F69-9714-0F916F78E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5962-4057-4A01-ABDF-CD291991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3E40-548A-41F3-9136-AE4A9B79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98E1-041E-4217-AE27-422CE150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6AFA-A7EA-41C0-A0BA-9754FE746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14BF-0484-48A1-8E6E-E921C696F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87C9-84CC-4D37-AB6E-A36EFA72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39BF-03A3-4041-B39F-0430A32E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7FA-9969-470C-A8C1-CCE09728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D7D9-2E06-4D43-877D-FD021196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1F9F-FA8C-4315-8A63-6BECB4D6F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9BAE-308C-4154-A4BD-042FF51A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5027-B9B3-48C9-B19B-C4E0B16F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D00F-8374-414E-B96D-94AAEB0C6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6C53-7FAA-4546-8D77-0D4310362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BB6D-F109-4B2D-8645-E9735A633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49B3-287C-46F0-949A-299C9345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AF14-751E-48E1-AD23-23906275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0F03-2B27-42FA-AC4D-80305506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3F6E-CE8D-4503-B13B-8D64FA0EE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F120-EBA6-4C1F-8194-8606E0DA6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A654-B544-4DB1-8203-B4DA760C1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KING OF COUNTRY" HAS BEEN NOMINATED FOR MORE CMA AND ACM AWARD AND HAS MORE WINS IN BOTH THAN ANY OTHER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38280" y="762120"/>
            <a:ext cx="786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ONALD REAGAN'S SECRETARY OF STATE AFTER HOLDING 3 OTHER CABINET POSITIONS IN THE NIXO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SIN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24080" y="762120"/>
            <a:ext cx="6495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AD DETECTIVE MAC TAYLOR ON "CSI: 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EN  STEF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NO DOUB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SI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ASS PLAYER OF THE BAND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TRUDE  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ET PENNED THE FAMOUS PHRASE "THERE IS NO THERE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S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EMALE VOCALIST IN JEFFERSON AIRPLANE AND JEFFERSON STAR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TEPHANOPOU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UNICATIONS DIRECTOR IN THE CLINTON WHITE HOUSE IS NOW       CO-ANCHOR OF ABC'S        "GOOD MORNING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SIS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8720" y="762120"/>
            <a:ext cx="748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VARIOUS MOVIE REVIEW PROGRAMS WITH PARTNER ROGER EBERT FOR 2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AD DETECTIVE MAC TAYLOR ON "CSI: 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TEINBRE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58960" y="762120"/>
            <a:ext cx="74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NEW YORK YANKEES 1973-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TR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KING OF COUNTRY" HAS BEEN NOMINATED FOR MORE CMA AND ACM AWARD AND HAS MORE WINS IN BOTH THAN ANY OTHER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HUL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ONALD REAGAN'S SECRETARY OF STATE AFTER HOLDING 3 OTHER CABINET POSITIONS IN THE NIXO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NO DOUB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0560" y="76212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ASS PLAYER OF THE BAND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ET PENNED THE FAMOUS PHRASE "THERE IS NO THERE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EMALE VOCALIST IN JEFFERSON AIRPLANE AND JEFFERSON STAR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3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UNICATIONS DIRECTOR IN THE CLINTON WHITE HOUSE IS NOW       CO-ANCHOR OF ABC'S        "GOOD MORNING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5200" y="761760"/>
            <a:ext cx="7473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VARIOUS MOVIE REVIEW PROGRAMS WITH PARTNER ROGER EBERT FOR 2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NEW YORK YANKEES 1973-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5-06T17:40:39Z</dcterms:modified>
  <cp:revision>356</cp:revision>
  <dc:subject/>
  <dc:title>Slide 1</dc:title>
</cp:coreProperties>
</file>