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00F8-DF6D-4EA3-A55F-C1FF3F34D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90D61-7AB9-4EF1-A14E-5A8B85C1F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869B-CFBE-494B-A1A0-09BEBFA35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EC85-F496-4E19-81AF-96266346D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62F71-7C9B-4662-8285-0F571BA3C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AE68-F821-4C6D-875D-2BC4B4158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F9A9E-B017-4F1B-920A-39B294F3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A4768-F12A-449F-98FB-E4991D8CE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36BFF-D179-484C-A48B-7F772A18E0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71C2-074B-46D9-836E-B78B5448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4EC4-581D-48C8-9D84-944125C0C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93D6-42F4-44C9-A2B3-38CEE8217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D3E-C467-49E1-9385-BCF4DFF687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E2EB5-3562-4A44-BCEE-7023E0B05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B8757-2083-4BE1-9CA1-9C129366D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57F5-7A05-4772-A261-140571242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57CCB-280E-4B79-B1B3-DE7CF3E97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E1263-CE35-4EF8-8FBD-698A5283C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25B9-4146-4ECF-9BD7-71393E49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D5170-FCCF-4C9E-89C0-D6F1209B0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BDCE-0E0B-4478-BACB-A7D6E83C2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0703-E234-4BA6-8715-D6A671551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C4A9-A635-4CC5-896D-7DA95AC87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KING OF COUNTRY" HAS BEEN NOMINATED FOR MORE CMA AND ACM AWARD AND HAS MORE WINS IN BOTH THAN ANY OTHER ARTIS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638280" y="762120"/>
            <a:ext cx="7867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ONALD REAGAN'S SECRETARY OF STATE AFTER HOLDING 3 OTHER CABINET POSITIONS IN THE NIXO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ARY  SIN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1324080" y="762120"/>
            <a:ext cx="649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AD DETECTIVE MAC TAYLOR ON "CSI: NY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WEN  STEFAN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123920" y="762120"/>
            <a:ext cx="68961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NO DOUB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SIMM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781200" y="762120"/>
            <a:ext cx="7581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ASS PLAYER OF THE BAND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RTRUDE  STE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857160" y="762120"/>
            <a:ext cx="7429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ET PENNED THE FAMOUS PHRASE "THERE IS NO THERE THERE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RACE  SL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EMALE VOCALIST IN JEFFERSON AIRPLANE AND JEFFERSON STARSHI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EPHANOPOU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UNICATIONS DIRECTOR IN THE CLINTON WHITE HOUSE IS NOW       CO-ANCHOR OF ABC'S        "GOOD MORNING AMERICA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NE  SISK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828720" y="762120"/>
            <a:ext cx="7486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VARIOUS MOVIE REVIEW PROGRAMS WITH PARTNER ROGER EBERT FOR 24 YEA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LEAD DETECTIVE MAC TAYLOR ON "CSI: N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EINBRE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858960" y="762120"/>
            <a:ext cx="74246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NEW YORK YANKEES 1973-201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TRA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438120" y="762120"/>
            <a:ext cx="82677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KING OF COUNTRY" HAS BEEN NOMINATED FOR MORE CMA AND ACM AWARD AND HAS MORE WINS IN BOTH THAN ANY OTHER ART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SHULT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638280" y="762120"/>
            <a:ext cx="7867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RONALD REAGAN'S SECRETARY OF STATE AFTER HOLDING 3 OTHER CABINET POSITIONS IN THE NIXON WHITE HOU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933480" y="761760"/>
            <a:ext cx="7277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OF "NO DOUB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790560" y="762120"/>
            <a:ext cx="7562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BASS PLAYER OF THE BAND KIS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876240" y="762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OET PENNED THE FAMOUS PHRASE "THERE IS NO THERE THERE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FEMALE VOCALIST IN JEFFERSON AIRPLANE AND JEFFERSON STARSHI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34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OMMUNICATIONS DIRECTOR IN THE CLINTON WHITE HOUSE IS NOW       CO-ANCHOR OF ABC'S        "GOOD MORNING AMERICA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835200" y="761760"/>
            <a:ext cx="7473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ED VARIOUS MOVIE REVIEW PROGRAMS WITH PARTNER ROGER EBERT FOR 24 YEA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57160" y="761760"/>
            <a:ext cx="74296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OWNED THE NEW YORK YANKEES 1973-201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5-06T17:40:39Z</dcterms:modified>
  <cp:revision>356</cp:revision>
  <dc:subject/>
  <dc:title>Slide 1</dc:title>
</cp:coreProperties>
</file>