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39C9-2C7D-4B95-A1FC-7F3901918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BBA9-85DA-4722-8EF8-45BFB0A2C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1E1D-CD4C-4378-84B0-6CB8572B1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5B31-4B9B-4FC3-A630-4B633D6B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2D52-8D9C-48A0-92C9-8135419B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7A4-E4AD-43E2-B90B-5779BAF3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062A-F9CA-4750-A8E0-35287AD25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0A34-E565-41F9-B788-00766625C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8354-482F-4A0F-BD73-B4B723D2D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04FA-4615-40AB-9DFC-6B22CD389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F805-8842-4E45-AD5F-256277EB3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BE81-01A3-4668-AA18-73416B6D5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501C-A1DD-4EF1-B3A2-4CC006366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ADA49-A179-4E73-A391-BE0D8C17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1D944-1319-4BAC-98F3-810A3DF1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27E9-3A35-460F-87BE-E9265EA17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842C-23BD-45A4-A55A-2CA976E81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973D-EDBF-430F-93D6-E03431C5D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47DA-BC24-4D6F-A843-F83CB8F02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B1CE-DA07-452B-8DD0-D90F8B8DC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650A-4D24-43DE-810D-19E006556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3E70-FA91-470E-8D1C-46C12415C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75E-0945-4250-816C-41C26B57D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ERRONEOUSLY SAID "I AM IN CONTROL HERE" AFTER REAGAN WAS S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OLF  HI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0640" y="762120"/>
            <a:ext cx="7362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CHANCELLOR OF GERMANY IN 193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REY  HEP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68440" y="762120"/>
            <a:ext cx="8005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AFI, 2 OF THE TOP 3 FEMALE FILM STARS OF ALL TIME HAVE THE SAME LAST NAME, BUT ARE NOT RELATED.  WHO WAS THE YOUNGER ON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FRED  HITCHC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14200" y="762120"/>
            <a:ext cx="8715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5 OSCARS FOR BEST DIRECTOR BUT NEVER WON, AND HAS HAD 8 OF HIS FILMS INDUCTED INTO THE NATIONAL FILM REG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NE  HATH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INTERN" AND "INTERSTELLAR" HAS THE SAME NAME AS SHAKESPEARE'S W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HOPK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SILENCE OF THE LAMB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DOUS  HUX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76200" y="762120"/>
            <a:ext cx="659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BRAVE NEW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O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1989-1994 AND 2013-2014, AND WON SEASON 5 OF "CELEBRITY APPRENT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31880" y="762120"/>
            <a:ext cx="767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CHANCELLOR OF GERMANY IN 193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JELICA  H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14480" y="762120"/>
            <a:ext cx="8915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RTICIA IN THE 2 "ADDAMS FAMILY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HA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900080" y="762120"/>
            <a:ext cx="5343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AUTOBIOGRAPHY OF MALCOLM X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HAI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26920" y="762120"/>
            <a:ext cx="7490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ECRETARY OF STATE ERRONEOUSLY SAID "I AM IN CONTROL HERE" AFTER REAGAN WAS SH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CCORDING TO THE AFI, 2 OF THE TOP 3 FEMALE FILM STARS OF ALL TIME HAVE THE SAME LAST NAME, BUT ARE NOT RELATED.  WHO WAS THE YOUNGER ON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70000" y="762120"/>
            <a:ext cx="860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5 OSCARS FOR BEST DIRECTOR BUT NEVER WON, AND HAS HAD 8 OF HIS FILMS INDUCTED INTO THE NATIONAL FILM REGIS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INTERN" AND "INTERSTELLAR" HAS THE SAME NAME AS SHAKESPEARE'S W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FOR "SILENCE OF THE LAMB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1240" y="761760"/>
            <a:ext cx="766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NOVEL "BRAVE NEW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HIS OWN TALK SHOW 1989-1994 AND 2013-2014, AND WON SEASON 5 OF "CELEBRITY APPRENT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4960" y="761760"/>
            <a:ext cx="807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RTICIA IN THE 2 "ADDAMS FAMILY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9-11T18:18:29Z</dcterms:modified>
  <cp:revision>366</cp:revision>
  <dc:subject/>
  <dc:title>Slide 1</dc:title>
</cp:coreProperties>
</file>