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35E2-F5BA-48B8-85A4-6BC758743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CA04-FFCB-4C0A-B81E-10D1A72D2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7244-0C09-4228-8F3B-F87A23639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CFD7-BDC1-4A91-8611-2433F907A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7656-9FDB-46BA-86E0-5906B6965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224D-8794-4A09-858D-CA84D943C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A117-5CDF-4DCE-ADC7-A399C06BA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FCE1-A943-4096-B85E-C1F39DA6A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28E9-7166-4FA5-A7AD-F90442A93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4B5C-2FA0-4299-BA6A-9568944C5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C2D3-7646-45A4-88E6-66A738B46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1D8F-9187-41AA-94EA-60DE320AB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7B4B-F6C2-43D1-9E7C-2E0287E96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1733-B632-4BEC-B980-FD38B2D31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6ACC-1D2B-41B5-B338-E4E6F838D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3FAC-7292-40FA-8DB6-309A2E1EC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6B9C-CCDC-45D7-B02B-0B82E0C39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F458-5AAD-4C99-A091-68E028241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0514-25A3-4BD4-BA41-42A806F35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4E6A-22E8-4AD8-B7F7-B7492D843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3289-9FBF-464F-A9C3-6B06FFD4D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2BC7-4565-40BA-A58A-94CA8B267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DEDF-1FA0-4AA5-BE52-AC65F9B0B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AUTOBIOGRAPHY OF MALCOLM X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89120" y="762120"/>
            <a:ext cx="756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CRETARY OF STATE ERRONEOUSLY SAID "I AM IN CONTROL HERE" AFTER REAGAN WAS SH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OLF  HIT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90640" y="762120"/>
            <a:ext cx="7362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CHANCELLOR OF GERMANY IN 193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REY  HEP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68440" y="762120"/>
            <a:ext cx="8005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ORDING TO THE AFI, 2 OF THE TOP 3 FEMALE FILM STARS OF ALL TIME HAVE THE SAME LAST NAME, BUT ARE NOT RELATED.  WHO WAS THE YOUNGER 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  HITCH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14200" y="762120"/>
            <a:ext cx="871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5 OSCARS FOR BEST DIRECTOR BUT NEVER WON, AND HAS HAD 8 OF HIS FILMS INDUCTED INTO THE NATIONAL FILM REGI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HATH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52440" y="76212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FROM "THE INTERN" AND "INTERSTELLAR" HAS THE SAME NAME AS SHAKESPEARE'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HONY  HOP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SILENCE OF THE LAM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DOUS  HUX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276200" y="762120"/>
            <a:ext cx="659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 "BRAVE NEW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SENIO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90680" y="762120"/>
            <a:ext cx="8162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HIS OWN TALK SHOW 1989-1994 AND 2013-2014, AND WON SEASON 5 OF "CELEBRITY APPRENT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31880" y="762120"/>
            <a:ext cx="767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CHANCELLOR OF GERMANY IN 193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JELICA  HU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4480" y="762120"/>
            <a:ext cx="8915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ORTICIA IN THE 2 "ADDAMS FAMILY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HA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900080" y="762120"/>
            <a:ext cx="5343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AUTOBIOGRAPHY OF MALCOLM X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HA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26920" y="762120"/>
            <a:ext cx="7490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CRETARY OF STATE ERRONEOUSLY SAID "I AM IN CONTROL HERE" AFTER REAGAN WAS SH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ORDING TO THE AFI, 2 OF THE TOP 3 FEMALE FILM STARS OF ALL TIME HAVE THE SAME LAST NAME, BUT ARE NOT RELATED.  WHO WAS THE YOUNGER ON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70000" y="762120"/>
            <a:ext cx="860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5 OSCARS FOR BEST DIRECTOR BUT NEVER WON, AND HAS HAD 8 OF HIS FILMS INDUCTED INTO THE NATIONAL FILM REGI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FROM "THE INTERN" AND "INTERSTELLAR" HAS THE SAME NAME AS SHAKESPEARE'S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SILENCE OF THE LAMB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41240" y="761760"/>
            <a:ext cx="766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 "BRAVE NEW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1720" y="761760"/>
            <a:ext cx="8080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HIS OWN TALK SHOW 1989-1994 AND 2013-2014, AND WON SEASON 5 OF "CELEBRITY APPRENT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2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ORTICIA IN THE 2 "ADDAMS FAMILY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9-11T18:18:29Z</dcterms:modified>
  <cp:revision>366</cp:revision>
  <dc:subject/>
  <dc:title>Slide 1</dc:title>
</cp:coreProperties>
</file>