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97D2-5975-4A27-B909-CFAF1FE19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8F2D-42D6-4230-98AE-58F0060CE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781F-F1E2-4474-903E-9ECC0EE68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DDC2-35E1-457F-9948-CE059CD8D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C006-3582-4585-81A9-46644E4EA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601F-D16D-4241-BC50-C74EED35EF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9E601-8386-4440-BC7E-EC32B2DD7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55F8-E4BA-4029-9EFC-264D4AB26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1400-C54F-4429-83EB-183BF755D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E8B74-9A06-4AFE-826A-806F448E2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1300-A708-4EEA-B109-EC675D946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2080-7DD0-4E27-B8C8-8B5C1D9EB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5381-7874-40BE-A36D-A302208F95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B3F3F-C0A6-4A05-B3FD-032D5C457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BF43B-708E-4C7A-9CDB-3AFBFACE2A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C5C9-7AE0-4C71-9B29-9333693B5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21AA-BDCC-46F3-A71D-4F9E87274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CD23-EB82-47EF-B489-1B94A1F8D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281C0-A5C1-48BE-9FE1-F3B5678106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6A69D-C46B-4E09-B20C-47886E870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0822D-BC21-4054-BD3A-A61F57BC0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D91E-6A6D-41F7-B746-B5EA07E103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E4D6-2755-4AE3-B1F6-CB50A5CAB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43C01-0961-4242-B202-424EBC051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-214920" y="1666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99920" y="68580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LCOME TO THURSDAY NIGHT TRIVIA AT THE ELUSIVE GRAP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71480" y="761760"/>
            <a:ext cx="7601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A AGENT WAS CONVICTED OF SPYING FOR RUSSIA IN 1994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480" y="7617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IRST LADY OF THE U.S., AND MOTHER OF THE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789120" y="762120"/>
            <a:ext cx="7565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ATHER ON "BLACK-ISH", AND NOW PLAYS A DETECTIVE ON "LAW &amp; ORDER" AND HOSTS "TO TELL THE TRU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swers will be provided short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3"/>
          <p:cNvSpPr/>
          <p:nvPr/>
        </p:nvSpPr>
        <p:spPr>
          <a:xfrm>
            <a:off x="1066680" y="4952880"/>
            <a:ext cx="70106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  AL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324080" y="762120"/>
            <a:ext cx="64958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ENJAMIN "HAWKEYE" PIERC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457200" y="4952880"/>
            <a:ext cx="8229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AN  ARK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600120" y="762120"/>
            <a:ext cx="794376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THE RUSSIANS ARE COMING, THE RUSSIANS ARE COMING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DRE  AGAS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504720" y="762120"/>
            <a:ext cx="8134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AMERICAN TENNIS PLAYER TO WIN BOTH THE FRENCH OPEN AND THE AUSTRALIAN O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30492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SEL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352440" y="762120"/>
            <a:ext cx="8439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OTOGRAPHER FAMOUS FOR HIS PHOTOS OF THE OLD WEST AND NATIONAL PARKS WAS GIVEN A PRESIDENTIAL MEDAL OF FREEDOM IN 1980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MY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838080" y="762120"/>
            <a:ext cx="74678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RINCESS IN "ENCHANTED" AND LOIS LANE IN 3 RECENT FILM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RTHUR  AS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266760" y="762120"/>
            <a:ext cx="861048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TENNIS STADIUM IN THE WORLD IS NAMED AFTER WHAT BLACK TENNIS ST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33440" y="1523880"/>
            <a:ext cx="6477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ME INIT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143000" y="4952880"/>
            <a:ext cx="6858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DAM  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490680" y="762120"/>
            <a:ext cx="8162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WAVE SINGER HAD THE TOP-10 HITS "GOODY TWO SHOES", "WONDERFUL", AND "ROOM AT THE TOP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LDRICH  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773280" y="762120"/>
            <a:ext cx="75974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CIA AGENT WAS CONVICTED OF SPYING FOR RUSSIA IN 1994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BIGAIL  AD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642960" y="762120"/>
            <a:ext cx="785808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2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FIRST LADY OF THE U.S., AND MOTHER OF THE 6</a:t>
            </a:r>
            <a:r>
              <a:rPr b="0" lang="en-US" sz="40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U.S. PRESID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ANTHONY  AND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757080" y="762120"/>
            <a:ext cx="7629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FATHER ON "BLACK-ISH", AND NOW PLAYS A DETECTIVE ON "LAW &amp; ORDER" AND HOSTS "TO TELL THE TRUTH"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36600" y="762120"/>
            <a:ext cx="6670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BENJAMIN "HAWKEYE" PIERC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542880" y="761760"/>
            <a:ext cx="80582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NOMINATED FOR BEST ACTOR FOR "THE RUSSIANS ARE COMING, THE RUSSIANS ARE COMING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547560" y="762120"/>
            <a:ext cx="8048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WAS THE LAST AMERICAN TENNIS PLAYER TO WIN BOTH THE FRENCH OPEN AND THE AUSTRALIAN OPE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85840" y="762120"/>
            <a:ext cx="85723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PHOTOGRAPHER FAMOUS FOR HIS PHOTOS OF THE OLD WEST AND NATIONAL PARKS WAS GIVEN A PRESIDENTIAL MEDAL OF FREEDOM IN 1980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43040" y="762120"/>
            <a:ext cx="76579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O PLAYED THE PRINCESS IN "ENCHANTED" AND LOIS LANE IN 3 RECENT FILM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85760" y="761760"/>
            <a:ext cx="8772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LARGEST TENNIS STADIUM IN THE WORLD IS NAMED AFTER WHAT BLACK TENNIS STAR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531720" y="761760"/>
            <a:ext cx="80805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NEW WAVE SINGER HAD THE TOP-10 HITS "GOODY TWO SHOES", "WONDERFUL", AND "ROOM AT THE TOP"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2T15:54:55Z</dcterms:created>
  <dc:creator>Jennifer Budzinski</dc:creator>
  <dc:description/>
  <dc:language>en-US</dc:language>
  <cp:lastModifiedBy>Erich Friedman</cp:lastModifiedBy>
  <dcterms:modified xsi:type="dcterms:W3CDTF">2022-06-20T18:18:52Z</dcterms:modified>
  <cp:revision>362</cp:revision>
  <dc:subject/>
  <dc:title>Slide 1</dc:title>
</cp:coreProperties>
</file>