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2DB2-50F1-449C-B4AA-EEE66089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B94-6053-4B2F-961B-2EF6899F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388-E4EC-4BBA-845F-364AB086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EDC-4B43-476F-98EA-E28ECF1E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B059-D9A6-4811-B4BD-7807670B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EE9B-E236-421D-B860-6E9B1860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2E7-ECF4-41A4-9C7F-BA56E0F6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3D1-9C5A-4272-BC70-2C81DD13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BDA-8CA8-443D-B0AC-54581067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13A-4A84-4DF5-AD1B-DC58ADEE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40B-4328-4A40-B6CF-52ADFA2C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629F-1D7E-4A39-91E7-A2860C02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58F-AAC5-4FD3-8E5C-410371C9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E49-12FC-4563-B642-EDDA6472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D19-8D3B-4767-98D2-50DECCCF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BE3E-7B01-4AF0-A922-4F21FA56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DD3-BE36-4A47-879E-15B8E1AD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4178-9114-44F9-A4D0-F58F2753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7A0-9FB0-4A6D-A20B-3BACA4D6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E920-F17D-44CC-815E-3DABA9494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8E8A-293C-46A5-9849-95999110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9E2-A64C-4D03-9954-E6326597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CAE-2A02-4174-80A5-884BAEE4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8816-3C19-4802-9D48-E8F840A3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A AGENT WAS CONVICTED OF SPYING FOR RUSSIA IN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RST LADY OF THE U.S., AND MOTHER OF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ON "BLACK-ISH", AND NOW PLAYS A DETECTIVE ON "LAW &amp; ORDER" AND HOSTS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24080" y="762120"/>
            <a:ext cx="64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NJAMIN "HAWKEYE" PIE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R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00120" y="762120"/>
            <a:ext cx="7943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RUSSIANS ARE COMING, THE RUSSIANS ARE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  AGAS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TENNIS PLAYER TO WIN BOTH THE FRENCH OPEN AND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S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OTOGRAPHER FAMOUS FOR HIS PHOTOS OF THE OLD WEST AND NATIONAL PARKS WAS GIVEN A PRESIDENTIAL MEDAL OF FREEDOM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INCESS IN "ENCHANTED" AND LOIS LANE IN 3 RECENT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A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66760" y="7621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TENNIS STADIUM IN THE WORLD IS NAMED AFTER WHAT BLACK TENNIS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AVE SINGER HAD THE TOP-10 HITS "GOODY TWO SHOES", "WONDERFUL", AND "ROOM AT THE T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DRICH  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73280" y="762120"/>
            <a:ext cx="759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A AGENT WAS CONVICTED OF SPYING FOR RUSSIA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IGAI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42960" y="762120"/>
            <a:ext cx="7858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RST LADY OF THE U.S., AND MOTHER OF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ON "BLACK-ISH", AND NOW PLAYS A DETECTIVE ON "LAW &amp; ORDER" AND HOSTS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NJAMIN "HAWKEYE" PIE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RUSSIANS ARE COMING, THE RUSSIANS ARE COM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7560" y="762120"/>
            <a:ext cx="804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TENNIS PLAYER TO WIN BOTH THE FRENCH OPEN AND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OTOGRAPHER FAMOUS FOR HIS PHOTOS OF THE OLD WEST AND NATIONAL PARKS WAS GIVEN A PRESIDENTIAL MEDAL OF FREEDOM IN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INCESS IN "ENCHANTED" AND LOIS LANE IN 3 RECENT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TENNIS STADIUM IN THE WORLD IS NAMED AFTER WHAT BLACK TENNIS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AVE SINGER HAD THE TOP-10 HITS "GOODY TWO SHOES", "WONDERFUL", AND "ROOM AT THE T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0T18:18:52Z</dcterms:modified>
  <cp:revision>362</cp:revision>
  <dc:subject/>
  <dc:title>Slide 1</dc:title>
</cp:coreProperties>
</file>