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C118-63CA-4463-AE6F-0FD685665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A4FC-AB90-464B-B872-1B95FCB9F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33DA-1866-4D20-B083-341A1064D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A7B7-A303-4E30-B20A-DF12C54A2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4342-7D75-46E7-A555-EB661642B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7B67-20E7-4121-A9A1-AC32FE6D9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1504-4FDA-4C2C-BC53-FE4F9AE06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FE05-0960-48D9-895A-C8E7B282D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D6C7-A072-4A5E-BB00-32A9D58B4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337B-9A18-4F7F-9AE8-85AF29AB8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EC2A-1A09-49F3-8319-0E8E89C36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7930-F15E-4C20-B608-95FA9619F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86D0-358C-464A-859B-D524CEE1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FC7D-D1E5-4ED6-ABFD-443B9C1B4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BD3E-C8E3-43FD-8504-ADC473799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C584-8FDF-4A3A-BE76-A7388CE2C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B69A-149B-4685-976A-357270CC6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353A-F8F7-4851-B28D-653D32F98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E927-575B-43BF-842F-2B4AC2C28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7602-1747-481E-AC91-588EBCAE6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847A-0560-4507-9D28-83304C9A8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B91A-4133-4A5D-9CD6-F953726AB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7F29-1FDB-41F2-A272-AB32F4CCE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F9E8-6D4E-44D4-9A1D-2C20F4C7B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4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B WHO LED THE RAMS AND CARDINALS TO THE SUPER BOWL IS CONSIDERED TO BE THE BEST UNDRAFTED NFL PLAYER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ALIAN FEMALE PRO GOLFER HAS WON MORE TOURNAMENTS THAN ANY OTHER ACTIVE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CREATED AND HOSTED THE COMEDY TV SERIES "IN LIVING COLOR" AND DIRECTED THE PARODY FILM "SCARY MOV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YE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12800" y="762120"/>
            <a:ext cx="7718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AS MARRIED TO KIM KARDASH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WINS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89120" y="762120"/>
            <a:ext cx="7565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ACTRESS FOR "THE REA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RRY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58840" y="762120"/>
            <a:ext cx="8624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ROTAGONIST OLIVIA POPE IN TV'S "SCANDAL" FOR 6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WALDHE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AUSTRIA 1986-1992, DESPITE BEING AN INTELLIGENCE OFFICER FOR THE NAZ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WI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-CHARTED BRITISH FEMALE SOLO SINGER OF THE 80'S, MOST FAMOUS FOR HER DEBUT SINGLE "KIDS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E  WAL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790560" y="762120"/>
            <a:ext cx="7562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ADDISON MONTGOMERY ON "GREY'S ANATOMY" AND ITS SPIN-OFF "PRIVATE PRACT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ISTEN  WI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84040" y="762120"/>
            <a:ext cx="857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IRL MOST LIKELY", "WELCOME TO ME", AND "BRIDESMAI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W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B WHO LED THE RAMS AND CARDINALS TO THE SUPER BOWL IS CONSIDERED TO BE THE BEST UNDRAFTED NFL PLAYER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RIE  WE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ALIAN FEMALE PRO GOLFER HAS WON MORE TOURNAMENTS THAN ANY OTHER ACTIVE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ENEN  WAY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66640" y="762120"/>
            <a:ext cx="801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CREATED AND HOSTED THE COMEDY TV SERIES "IN LIVING COLOR" AND DIRECTED THE PARODY FILM "SCARY MOV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PPER WAS MARRIED TO KIM KARDASH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ACADEMY AWARD FOR BEST ACTRESS FOR "THE REA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70000" y="762120"/>
            <a:ext cx="860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ROTAGONIST OLIVIA POPE IN TV'S "SCANDAL" FOR 6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AUSTRIA 1986-1992, DESPITE BEING AN INTELLIGENCE OFFICER FOR THE NAZ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OST-CHARTED BRITISH FEMALE SOLO SINGER OF THE 80'S, MOST FAMOUS FOR HER DEBUT SINGLE "KIDS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41240" y="761760"/>
            <a:ext cx="766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ADDISON MONTGOMERY ON "GREY'S ANATOMY" AND ITS SPIN-OFF "PRIVATE PRACT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7160" y="761760"/>
            <a:ext cx="8688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GIRL MOST LIKELY", "WELCOME TO ME", AND "BRIDESMAI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14T22:53:20Z</dcterms:modified>
  <cp:revision>368</cp:revision>
  <dc:subject/>
  <dc:title>Slide 1</dc:title>
</cp:coreProperties>
</file>