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D583-8BB3-410B-9FCC-CBEB4C929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A441-2D71-44F5-974D-37E973639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F42B-BA0F-4DF2-AC4B-ED000C8B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277D-B28A-47F0-AEF2-8EC86519E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0E59-C405-43CB-AFCC-A40010A6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1E47-558C-4EAE-B51D-C02DA4410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17B3-23C3-4BA6-8431-98198A57D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C3F7-23C3-4394-B1FB-6CBC73EEF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8373-C719-44CE-B3A8-0FCB2FD74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5E2C-F806-4BAD-BF84-34A09CA91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6364-F5A1-4678-B8F2-8E096420A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5E40-13E8-4714-AA5F-DD025887E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84A2-BF92-4EA1-9F69-85C53536A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A65F-585A-4C98-A48C-DE8095D44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608A-E75E-48A4-90A8-D1D059357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B222-B573-45F2-871F-7AEF25B2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DC91-EA09-4AAD-AC1A-D4196122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7E9A-C2AF-4BD1-BEC3-190B77C24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0DA-C527-4327-853B-AAFFF2AF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5E8C-968E-4F24-93F4-BEEBAE1B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FC12-830B-4DD9-80A0-4435C3222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975A-3933-46F1-9D97-3AE0FAC8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C9AF-7EC2-466E-8111-1DB08290F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B0F6-64FD-4573-AEE8-A06F534B6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B WHO LED THE RAMS AND CARDINALS TO THE SUPER BOWL IS CONSIDERED TO BE THE BEST UNDRAFTED NFL PLAYER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ALIAN FEMALE PRO GOLFER HAS WON MORE TOURNAMENTS THAN ANY OTHER ACTIVE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CREATED AND HOSTED THE COMEDY TV SERIES "IN LIVING COLOR" AND DIRECTED THE PARODY FILM "SCARY MOV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YE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12800" y="762120"/>
            <a:ext cx="771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AS MARRIED TO KIM KARDASH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WINS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89120" y="762120"/>
            <a:ext cx="7565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ACTRESS FOR "THE REA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RY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58840" y="762120"/>
            <a:ext cx="86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ROTAGONIST OLIVIA POPE IN TV'S "SCANDAL" FOR 6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WALDHE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AUSTRIA 1986-1992, DESPITE BEING AN INTELLIGENCE OFFICER FOR THE NAZ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WI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-CHARTED BRITISH FEMALE SOLO SINGER OF THE 80'S, MOST FAMOUS FOR HER DEBUT SINGLE "KIDS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WAL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90560" y="762120"/>
            <a:ext cx="7562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ADDISON MONTGOMERY ON "GREY'S ANATOMY" AND ITS SPIN-OFF "PRIVATE PRACT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WI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84040" y="762120"/>
            <a:ext cx="857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IRL MOST LIKELY", "WELCOME TO ME", AND "BRIDESMAI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W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B WHO LED THE RAMS AND CARDINALS TO THE SUPER BOWL IS CONSIDERED TO BE THE BEST UNDRAFTED NFL PLAYER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RIE  WE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ALIAN FEMALE PRO GOLFER HAS WON MORE TOURNAMENTS THAN ANY OTHER ACTIVE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ENEN  W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66640" y="762120"/>
            <a:ext cx="801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CREATED AND HOSTED THE COMEDY TV SERIES "IN LIVING COLOR" AND DIRECTED THE PARODY FILM "SCARY MOV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AS MARRIED TO KIM KARDASH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ACTRESS FOR "THE REA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70000" y="762120"/>
            <a:ext cx="860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ROTAGONIST OLIVIA POPE IN TV'S "SCANDAL" FOR 6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AUSTRIA 1986-1992, DESPITE BEING AN INTELLIGENCE OFFICER FOR THE NAZ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-CHARTED BRITISH FEMALE SOLO SINGER OF THE 80'S, MOST FAMOUS FOR HER DEBUT SINGLE "KIDS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41240" y="761760"/>
            <a:ext cx="766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ADDISON MONTGOMERY ON "GREY'S ANATOMY" AND ITS SPIN-OFF "PRIVATE PRACT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7160" y="761760"/>
            <a:ext cx="8688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IRL MOST LIKELY", "WELCOME TO ME", AND "BRIDESMAI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14T22:53:20Z</dcterms:modified>
  <cp:revision>368</cp:revision>
  <dc:subject/>
  <dc:title>Slide 1</dc:title>
</cp:coreProperties>
</file>