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C3D-1C6F-4AB1-8496-07E4D1B9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23A-BEE8-430F-8457-BD4E5B6E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5DA-4800-4761-88B9-A144C973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B8FE-D333-4FA1-A1A7-F62D84F3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A69F-11C0-4844-B00D-0F790AD6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8E8-5713-40D6-A462-094B81EC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715-780B-4EE4-A633-D957A5EF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8789-9B3A-41D2-B2FB-C22C8139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A584-CB5A-4976-8289-D96D3FFF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F0E-D4F7-4936-9726-46D00B7B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36E6-6B53-41AB-8B2F-770F43C8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743-91EA-42D2-964D-A574E2CA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4F61-5365-4DE1-BA67-276D2836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985-1FBD-4568-9066-C127620B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1BC8-EEC5-411E-8C67-2A79DAF5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6BD7-9F47-457E-BE65-FA7FDD91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4C66-7470-43A5-AE3C-17B9F85C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D1C5-9E1B-4D7E-B549-35D281DB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E341-3FA6-4396-9EF1-672CB677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49A-19D3-44C7-9434-57E539BE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206-2F93-4682-B9E3-B69448B22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B493-59B0-48B5-9D30-F6AD0A570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791-7F80-45C0-8BFE-A12BF81A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ANIST ATTENDED STETSON IN THE 1960'S WITHOUT GRADUATING,    BUT WAS AWARDED AN HONORARY DEGRE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760" y="762120"/>
            <a:ext cx="90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OMPANY, WHICH STILL BEARS HIS NAME 120 YEARS LATER, DEVELOPED ALTERNATING CURRENT, IN OPPOSITION OF THOMAS EDISON'S DIRECT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81080" y="762120"/>
            <a:ext cx="698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ORIGINAL "WILLY WONKA &amp; THE CHOCOLATE FAC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0840" y="762120"/>
            <a:ext cx="827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NFLATION-CORRECTED DOLLARS, 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U.S. PRESIDENT, AFTER DONALD TR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EN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ORM PETERSON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2360" y="762120"/>
            <a:ext cx="86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TERM GOVERNOR OF ALABAMA IS THE MOST RECENT THIRD-PARTY CANDIDATE FOR PRESIDENT TO ACTUALLY WIN ELECTORAL V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T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AMERICAN GOTH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CHE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IGNATURE SONG "REDNECK WOMAN", WHICH WON A GRAMMY FOR BEST FEMALE COUNTRY VOCAL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CONSERVATIVE COMMENTATOR VOTED FOR CLINTON AND RECENTLY CALLED THE REPUBLICAN PARTY "A CUL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ORIGINAL "WILLY WONKA &amp; THE CHOCOLATE FAC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REAM W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ANIST ATTENDED STETSON IN THE 1960'S WITHOUT GRADUATING,    BUT WAS AWARDED AN HONORARY DEGRE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ESTING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6080" y="762120"/>
            <a:ext cx="905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OMPANY, WHICH STILL BEARS HIS NAME 120 YEARS LATER, DEVELOPED ALTERNATING CURRENT, IN OPPOSITION OF THOMAS EDISON'S DIRECT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NFLATION-CORRECTED DOLLARS, 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U.S. PRESIDENT, AFTER DONALD TR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ORM PETERSON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TERM GOVERNOR OF ALABAMA IS THE MOST RECENT THIRD-PARTY CANDIDATE FOR PRESIDENT TO ACTUALLY WIN ELECTORAL VO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440" y="762120"/>
            <a:ext cx="6639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AMERICAN GOTH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IGNATURE SONG "REDNECK WOMAN", WHICH WON A GRAMMY FOR BEST FEMALE COUNTRY VOCAL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CONSERVATIVE COMMENTATOR VOTED FOR CLINTON AND RECENTLY CALLED THE REPUBLICAN PARTY "A CUL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REAM W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7T17:58:04Z</dcterms:modified>
  <cp:revision>377</cp:revision>
  <dc:subject/>
  <dc:title>Slide 1</dc:title>
</cp:coreProperties>
</file>