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0575-C3BF-40DD-89EE-63A43B72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CDE9-4258-4C9E-B3AD-F1339B4A2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6547-EDBD-4716-A094-BB172F84A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D437-0519-4DB1-9912-6EB34C7E6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A221-2F95-4F2B-8CDA-FBDF70077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92B4-7AB8-481A-887A-7DBB01DBE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EA43-9594-4CE8-81D4-2EC5F2FD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FE85-9939-4CB7-83C0-0B8B41594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3471-DC73-4693-B30C-C61D97091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D70E-15B0-4593-89FF-21239E86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4F61-B11B-4505-8259-4FB0416E6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CF6C-0734-444A-A505-E70FDCE28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4EA9-5145-4099-9AE1-9F538B656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5869-379C-48F6-8D21-967E2C236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7BB1-05BA-4DC6-9BFB-7BEE6100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2A47-8C02-49A3-AB4E-4014CB33F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0724-AEF3-449C-8E13-4A38C0F96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3B34-7D0E-44A6-9304-020CC6D5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F637-931E-4691-A696-1F6EE1834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F9A2-5584-487C-8E7D-4EB1B826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CD4B-6ED0-4CBC-8C3D-336D2AA9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4F79-7329-4AF2-A5EE-86F65E8E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BABD-AB6C-4C16-9606-16BFF21CA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ANIST ATTENDED STETSON IN THE 1960'S WITHOUT GRADUATING,    BUT WAS AWARDED AN HONORARY DEGREE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0760" y="762120"/>
            <a:ext cx="904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OMPANY, WHICH STILL BEARS HIS NAME 120 YEARS LATER, DEVELOPED ALTERNATING CURRENT, IN OPPOSITION OF THOMAS EDISON'S DIRECT CUR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81080" y="762120"/>
            <a:ext cx="6981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ORIGINAL "WILLY WONKA &amp; THE CHOCOLATE FAC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0840" y="762120"/>
            <a:ext cx="8278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NFLATION-CORRECTED DOLLARS, 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U.S. PRESIDENT, AFTER DONALD TR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EN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90640" y="762120"/>
            <a:ext cx="736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NORM PETERSON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L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52360" y="762120"/>
            <a:ext cx="863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TERM GOVERNOR OF ALABAMA IS THE MOST RECENT THIRD-PARTY CANDIDATE FOR PRESIDENT TO ACTUALLY WIN ELECTORAL V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T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52520" y="762120"/>
            <a:ext cx="6438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AMERICAN GOTH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CHEN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3280" y="762120"/>
            <a:ext cx="813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IGNATURE SONG "REDNECK WOMAN", WHICH WON A GRAMMY FOR BEST FEMALE COUNTRY VOCAL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6680" y="762120"/>
            <a:ext cx="88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CONSERVATIVE COMMENTATOR VOTED FOR CLINTON AND RECENTLY CALLED THE REPUBLICAN PARTY "A CUL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38160" y="762120"/>
            <a:ext cx="7267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Y WONKA IN THE ORIGINAL "WILLY WONKA &amp; THE CHOCOLATE FAC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W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REAM W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ANIST ATTENDED STETSON IN THE 1960'S WITHOUT GRADUATING,    BUT WAS AWARDED AN HONORARY DEGREE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ESTING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6080" y="762120"/>
            <a:ext cx="905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COMPANY, WHICH STILL BEARS HIS NAME 120 YEARS LATER, DEVELOPED ALTERNATING CURRENT, IN OPPOSITION OF THOMAS EDISON'S DIRECT CURR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NFLATION-CORRECTED DOLLARS, 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ICHEST U.S. PRESIDENT, AFTER DONALD TR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NORM PETERSON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TERM GOVERNOR OF ALABAMA IS THE MOST RECENT THIRD-PARTY CANDIDATE FOR PRESIDENT TO ACTUALLY WIN ELECTORAL VO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52440" y="762120"/>
            <a:ext cx="6639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"AMERICAN GOTH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SIGNATURE SONG "REDNECK WOMAN", WHICH WON A GRAMMY FOR BEST FEMALE COUNTRY VOCAL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9000" y="761760"/>
            <a:ext cx="876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LITZER-WINNING CONSERVATIVE COMMENTATOR VOTED FOR CLINTON AND RECENTLY CALLED THE REPUBLICAN PARTY "A CUL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REAM WEA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6-27T17:58:04Z</dcterms:modified>
  <cp:revision>377</cp:revision>
  <dc:subject/>
  <dc:title>Slide 1</dc:title>
</cp:coreProperties>
</file>