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7C27B-D4D2-4826-A3EE-9DEC4F2FF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58C90-2DEC-4539-BD98-0711B5B50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13371-47B6-44FE-B582-74618438B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D99A1-7C89-48EB-9251-CBD360C40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16936-B1F3-42A9-B3F4-05E2BF92D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66478-A23A-4535-AD93-C76F3CE65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9AF7D-DD2E-4242-A142-CC87EA1A3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58DD7-4E9B-49A6-B9A5-DCC054EB5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501FA-8A9E-4156-99C2-D0DEDB769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3D9C4-9866-40F8-9F86-4861B2B06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D066A-BCFF-4129-9603-E3A61287E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AD6E2-B1AB-44B2-ABC1-81F449E90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DF948-2FF4-4DA5-BDB7-D151536A1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DD4C5-EB40-4AC5-9B3D-AD12386C4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C37D3-4BDA-49EC-9F1A-5703B8C22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EDB21-BEE3-48E2-A3DA-505CB9FF0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42281-6D53-45CE-962A-500CC1ACF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88ED6-6E72-472E-AB25-798030135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7EE0C-DD81-49E6-8A92-54C3A0E4E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13B2B-398C-4BF9-93BE-A89CCF2BB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D01AA-7D41-4D3A-89C6-CA9DEF8D5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60080-36C3-42D9-8EE7-6DB7D8A6B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B89FF-F186-4BB1-8207-B87501502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STARRED IN "A STREETCAR NAMED DESIRE", "ON THE WATERFRONT", AND "ONE-EYED JACKS" WITH MARLON BRAND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662040" y="762120"/>
            <a:ext cx="7819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SNL" CAST MEMBER IMPERSONATED KELLYANNE CONWAY, HILLARY CLINTON, ELIZABETH WARREN, AND THERESA M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RL  MAR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789120" y="762120"/>
            <a:ext cx="75657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DAS KAPITA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YLIE  MINOG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789120" y="762120"/>
            <a:ext cx="75657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PRINCESS OF POP" IS THE BEST-SELLING FEMALE AUSTRALIAN MUSICAL ARTIST OF ALL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TE  M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890640" y="762120"/>
            <a:ext cx="7361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ITISH, SIZE-0, 1990'S SUPERMODEL DID A "HEROIN CHIC" CAMPAIGN FOR CALVIN KLE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ITH  M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352440" y="762120"/>
            <a:ext cx="8439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DRUMMER FOR THE WHO BEFORE HE DIED OF A DRUG OVERDOSE IN 197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RL  MAL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WER FORWARD FOR THE UTAH JAZZ HOLDS THE RECORDS FOR MOST FREE THROWS ATTEMPTED AND MOST FREE THROWS MA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YLE  MACLACH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41440" y="762120"/>
            <a:ext cx="8061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LEAD ROLES IN "BLUE VELVET" AND "DUNE", AS WELL AS ROLES ON "SEX IN THE CITY" AND "DESPERATE HOUSEWIV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TE  MULGR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07880" y="762120"/>
            <a:ext cx="83264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CAPTAIN JANEWAY ON "STAR TREK: VOYAGER" AND RED ON "ORANGE IS THE NEW BLAC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31880" y="762120"/>
            <a:ext cx="7678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DAS KAPITA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CEY  MUSGRA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ALBUMS "SAME TRAILER DIFFERENT PARK" AND "GOLDEN HOUR" BOTH WON GRAMMYS FOR BEST COUNTRY ALB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RL  MAL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69880" y="762120"/>
            <a:ext cx="80042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STARRED IN "A STREETCAR NAMED DESIRE", "ON THE WATERFRONT", AND "ONE-EYED JACKS" WITH MARLON BRAN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TE  MCKINN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66640" y="7621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SNL" CAST MEMBER IMPERSONATED KELLYANNE CONWAY, HILLARY CLINTON, ELIZABETH WARREN, AND THERESA M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28640" y="761760"/>
            <a:ext cx="7686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PRINCESS OF POP" IS THE BEST-SELLING FEMALE AUSTRALIAN MUSICAL ARTIST OF ALL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58960" y="762120"/>
            <a:ext cx="742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ITISH, SIZE-0, 1990'S SUPERMODEL DID A "HEROIN CHIC" CAMPAIGN FOR CALVIN KLE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85840" y="762120"/>
            <a:ext cx="8572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DRUMMER FOR THE WHO BEFORE HE DIED OF A DRUG OVERDOSE IN 197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47840" y="762120"/>
            <a:ext cx="8248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WER FORWARD FOR THE UTAH JAZZ HOLDS THE RECORDS FOR MOST FREE THROWS ATTEMPTED AND MOST FREE THROWS MA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09760" y="761760"/>
            <a:ext cx="8124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LEAD ROLES IN "BLUE VELVET" AND "DUNE", AS WELL AS ROLES ON "SEX IN THE CITY" AND "DESPERATE HOUSEWIV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79440" y="761760"/>
            <a:ext cx="8383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CAPTAIN JANEWAY ON "STAR TREK: VOYAGER" AND RED ON "ORANGE IS THE NEW BLAC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34960" y="761760"/>
            <a:ext cx="8074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ALBUMS "SAME TRAILER DIFFERENT PARK" AND "GOLDEN HOUR" BOTH WON GRAMMYS FOR BEST COUNTRY ALBU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2-07-22T05:39:06Z</dcterms:modified>
  <cp:revision>372</cp:revision>
  <dc:subject/>
  <dc:title>Slide 1</dc:title>
</cp:coreProperties>
</file>