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829A-6710-484A-AE47-B0F7AC45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22B-CA74-4BCB-B970-BFDE2217A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B692-06F5-4ECC-9E0B-6CBBBF46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3C87-9CF6-4D52-A4D9-F9073D30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2FEC-7E3C-4EE9-B1BD-FECBD925D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A94F-2AEA-4F5F-A9EE-729776EC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ADEF-B5DD-4B85-B98F-A5C70BE7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A225-F276-400E-A9A2-AACCB27B5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907E-CF7C-4EBB-BA26-DDAEED7B1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9C13-75AC-4382-A349-772C05336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927-F8C8-4068-A1B2-EEA73FE2A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4FDC-3A5B-4039-906F-59E8D35C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D150-2951-4FAB-81D4-559BDBA7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6A4D-BFC6-46BB-A54C-0799192F5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FCF3-F116-44B5-B822-963EF99D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6633-7015-475F-B241-6763A811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AA28-1EEB-4C60-AD5C-8C91015A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CA5B-D622-46AA-B407-6180B9D73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836B-2F01-4185-BDA4-3F83FBE1F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5F20-EFFA-4BE5-8DE8-F21AC6EB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C86A-D29D-48A3-9306-29925FE0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8B7A-67A6-4F8B-83B9-44475F5E1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6A68-5798-41D2-A238-F0CDEE1D2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A STREETCAR NAMED DESIRE", "ON THE WATERFRONT", AND "ONE-EYED JACKS" WITH MARLON BRAN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AST MEMBER IMPERSONATED KELLYANNE CONWAY, HILLARY CLINTON, ELIZABETH WARREN, AND THERESA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9120" y="762120"/>
            <a:ext cx="7565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LIE  MIN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9120" y="762120"/>
            <a:ext cx="7565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SS OF POP" IS THE BEST-SELLING FEMALE AUSTRALIAN MUSICAL ARTIS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M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90640" y="762120"/>
            <a:ext cx="736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, SIZE-0, 1990'S SUPERMODEL DID A "HEROIN CHIC" CAMPAIGN FOR CALVIN KL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THE WHO BEFORE HE DIED OF A DRUG OVERDOSE IN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FOR THE UTAH JAZZ HOLDS THE RECORDS FOR MOST FREE THROWS ATTEMPTED AND MOST FREE THROWS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LE  MACLACH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41440" y="762120"/>
            <a:ext cx="806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ROLES IN "BLUE VELVET" AND "DUNE", AS WELL AS ROLES ON "SEX IN THE CITY" AND "DESPERATE HOUSEWI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MUL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JANEWAY ON "STAR TREK: VOYAGER" AND RED ON "ORANGE IS THE NEW BL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CEY  MUSGR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S "SAME TRAILER DIFFERENT PARK" AND "GOLDEN HOUR" BOTH WON GRAMMYS FOR BEST COUNTRY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A STREETCAR NAMED DESIRE", "ON THE WATERFRONT", AND "ONE-EYED JACKS" WITH MARLON BRA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MCKI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6664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AST MEMBER IMPERSONATED KELLYANNE CONWAY, HILLARY CLINTON, ELIZABETH WARREN, AND THERESA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8640" y="761760"/>
            <a:ext cx="768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SS OF POP" IS THE BEST-SELLING FEMALE AUSTRALIAN MUSICAL ARTIST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, SIZE-0, 1990'S SUPERMODEL DID A "HEROIN CHIC" CAMPAIGN FOR CALVIN KL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THE WHO BEFORE HE DIED OF A DRUG OVERDOSE IN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FOR THE UTAH JAZZ HOLDS THE RECORDS FOR MOST FREE THROWS ATTEMPTED AND MOST FREE THROWS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9760" y="761760"/>
            <a:ext cx="812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ROLES IN "BLUE VELVET" AND "DUNE", AS WELL AS ROLES ON "SEX IN THE CITY" AND "DESPERATE HOUSEWIV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JANEWAY ON "STAR TREK: VOYAGER" AND RED ON "ORANGE IS THE NEW BL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S "SAME TRAILER DIFFERENT PARK" AND "GOLDEN HOUR" BOTH WON GRAMMYS FOR BEST COUNTRY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22T05:39:06Z</dcterms:modified>
  <cp:revision>372</cp:revision>
  <dc:subject/>
  <dc:title>Slide 1</dc:title>
</cp:coreProperties>
</file>