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CEF7-947D-434D-91F0-721C31C2A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0834-3A9B-42F6-99DC-080104D02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707D-484B-4F7E-888D-878A5F55A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543F-C840-449F-BB6C-80B6DCAE8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F659-7A89-44FD-945B-F08FA9A59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10C01-015D-4678-9569-6A0109AC6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B279-A818-4D47-B9EC-9ED36B7C2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3543-235B-453F-B850-2C01152A7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76B0-61C6-4EF6-8F73-66D857C49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A036-8200-4739-8724-4D7E552B4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336E-9CFA-41FA-A1A1-E82D6772D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417E-9669-4B81-A519-5670153F8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B594-72D4-4758-9895-32534FB96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9DF9-6E2F-49A0-916E-FB23A7370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51C6-DB23-4413-BA80-C296E15F9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6E84-DD66-4A2D-90A4-017C33D34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37ED-E825-4FB6-A3BD-FD8BE67ED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C4242-6251-456D-A422-1D4409ED1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49D7-F0BC-4DD0-8A31-A63DFA3D1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5E0C-F2F5-4E3B-8740-BB45B4AD7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A31C-F3E7-4B41-9C10-53EF88753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13E3-F207-4029-B191-CF2339E55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47D1-4DD9-4E0E-B9AF-DA5A001B5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5C5E-3185-452C-B8DF-143165F70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01720" y="761760"/>
            <a:ext cx="7540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D THE VOICES FOR BUGGS BUNNY, DAFFY DUCK, AND PORKY PI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WAS NICKNAMED "SCARY SPI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62040" y="762120"/>
            <a:ext cx="7819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"FAVORITE POP / ROCK MALE ARTIST" AT THE AMERICAN MUSIC AWARDS IN 1992, 1993, AND 199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LON  BRA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49200" y="762120"/>
            <a:ext cx="8445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OSCARS FOR "ON THE WATERFRONT" AND     "THE GODFATHER", AND WAS CHOSEN BY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  AS "ACTOR OF THE CENTU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  BR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789120" y="762120"/>
            <a:ext cx="75657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"BLAZING SADDLES", "SPACEBALLS", YOUNG FRANKENSTEIN", AND "HIGH ANXIE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THEW  BRODER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890640" y="762120"/>
            <a:ext cx="736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PLAYED FERRIS BUEL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BLOOMBE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824040" y="762120"/>
            <a:ext cx="749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MAYOR OF NEW YORK CITY 2002-201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KHAIL  BARYSHNIK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LLET STAR STARRED IN THE FILMS "THE TURNING POINT" AND "WHITE NIGH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UTE  B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318960" y="762120"/>
            <a:ext cx="850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7'6" CENTER WAS THE ONLY NBA PLAYER TO RETIRE WITH MORE BLOCKED SHOTS THAN POINTS SCOR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YIM  BIAL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36480" y="762120"/>
            <a:ext cx="7871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ITH A PH.D. IN NEUROSCIENCE PLAYED AMY FARAH FOWLER ON "THE BIG BANG THEO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  BLAN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D THE VOICES FOR BUGGS BUNNY, DAFFY DUCK, AND PORKY PI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(ANIE)  B(ROW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569880" y="762120"/>
            <a:ext cx="8004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WAS NICKNAMED "SCARY SPI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BO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779400" y="762120"/>
            <a:ext cx="758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"FAVORITE POP / ROCK MALE ARTIST" AT THE AMERICAN MUSIC AWARDS IN 1992, 1993, AND 199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53520" y="762120"/>
            <a:ext cx="8434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OSCARS FOR "ON THE WATERFRONT" AND     "THE GODFATHER", AND WAS CHOSEN BY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 AS "ACTOR OF THE CENTU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28640" y="761760"/>
            <a:ext cx="7686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"BLAZING SADDLES", "SPACEBALLS", YOUNG FRANKENSTEIN", AND "HIGH ANXIE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58960" y="762120"/>
            <a:ext cx="742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PLAYED FERRIS BUEL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23800" y="762120"/>
            <a:ext cx="8096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MAYOR OF NEW YORK CITY 2002-201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47840" y="762120"/>
            <a:ext cx="8248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LLET STAR STARRED IN THE FILMS "THE TURNING POINT" AND "WHITE NIGH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31920" y="761760"/>
            <a:ext cx="847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7'6" CENTER WAS THE ONLY NBA PLAYER TO RETIRE WITH MORE BLOCKED SHOTS THAN POINTS SCOR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57360" y="761760"/>
            <a:ext cx="7829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ITH A PH.D. IN NEUROSCIENCE PLAYED AMY FARAH FOWLER ON "THE BIG BANG THEO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7-11T13:58:05Z</dcterms:modified>
  <cp:revision>373</cp:revision>
  <dc:subject/>
  <dc:title>Slide 1</dc:title>
</cp:coreProperties>
</file>