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362-B018-4A14-9567-A8885012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57E-10E8-4372-AA15-67496A24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3AB-86BB-41C9-BEFD-6BD9B609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D46C-D857-4044-8578-4C2511C8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A75B-0927-424F-9F1E-C7958A19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52CE-63F0-47BE-9AE2-52373B0F3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A88-61DB-4CEF-8F57-60A2C8B1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31CA-AC1C-4723-800E-D2C2C56A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413-86D8-48FA-B84D-DC5E6FB7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5C0C-4039-45DC-A4C6-E97B0C61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6104-2683-4562-B508-B8F3911B3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9103-8F8B-45C1-ACDA-28087CD9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5D9-E862-43D5-883D-586B2CD3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6DA5-C6EC-43D9-87AF-46B9B1DA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157-22BE-4B61-9035-DA70C342B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EA96-3F01-4A07-A119-99F36097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277-4C45-4479-95FF-9272C12D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3219-89A4-45E7-8FB4-B333CF7A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B72-F5DA-444F-A9C8-B34C9DFC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750F-B0CB-4682-A9BA-4BD884C9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A99B-994F-4D60-8922-CDE6CD8C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5A3-14D7-43C3-A5A5-239CBEBB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1E81-0D7E-447D-93E9-670F36F9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AA4-C25A-4D70-918F-054FC3F1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THE VOICES FOR BUGGS BUNNY, DAFFY DUCK, AND PORKY PI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NICKNAMED "SCARY SP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"FAVORITE POP / ROCK MALE ARTIST" AT THE AMERICAN MUSIC AWARDS IN 1992, 1993, AND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9200" y="762120"/>
            <a:ext cx="84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"ON THE WATERFRONT" AND     "THE GODFATHER", AND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 AS "ACTOR OF THE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, "SPACEBALLS", YOUNG FRANKENSTEIN", AND "HIGH ANXIE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BROD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90640" y="762120"/>
            <a:ext cx="736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FERRIS BUE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BLOOM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YOR OF NEW YORK CITY 2002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 BARYSHNIK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ET STAR STARRED IN THE FILMS "THE TURNING POINT" AND "WHITE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UTE  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'6" CENTER WAS THE ONLY NBA PLAYER TO RETIRE WITH MORE BLOCKED SHOTS THAN POINTS SCO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IM  BIA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 PH.D. IN NEUROSCIENCE PLAYED AMY FARAH FOWLER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THE VOICES FOR BUGGS BUNNY, DAFFY DUCK, AND PORKY P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(ANIE)  B(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NICKNAMED "SCARY SP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79400" y="762120"/>
            <a:ext cx="758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"FAVORITE POP / ROCK MALE ARTIST" AT THE AMERICAN MUSIC AWARDS IN 1992, 1993, AND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"ON THE WATERFRONT" AND     "THE GODFATHER", AND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AS "ACTOR OF THE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, "SPACEBALLS", YOUNG FRANKENSTEIN", AND "HIGH ANXIE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FERRIS BUE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YOR OF NEW YORK CITY 2002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ET STAR STARRED IN THE FILMS "THE TURNING POINT" AND "WHITE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'6" CENTER WAS THE ONLY NBA PLAYER TO RETIRE WITH MORE BLOCKED SHOTS THAN POINTS SCO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 PH.D. IN NEUROSCIENCE PLAYED AMY FARAH FOWLER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1T13:58:05Z</dcterms:modified>
  <cp:revision>373</cp:revision>
  <dc:subject/>
  <dc:title>Slide 1</dc:title>
</cp:coreProperties>
</file>