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866D-6659-469C-98B4-37B816236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64CE-F2F7-4C96-AD89-A041311AD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9523-DFAD-480E-A2C0-479A0EF07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4673-0C74-4513-99E4-C2B10CDAF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0B9F-84F9-4398-A20D-F5D1F0ECD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B9DB-58FA-4CD0-B6E2-1229A1337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BBE2-D4AD-47C4-A8B7-E0AC3A59B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8908-5EC2-43C2-83FB-75954575C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2D9E-A67E-4CEC-8A96-59FDB0FCE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6640-A30F-4A97-8D4C-0D89F30CF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BC19-5E23-4910-A95C-6B18F05BF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A56F-1624-42A1-A342-756641136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43D7-16E6-4F92-9A53-71F71F27E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7875-863D-4813-969E-32123933F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107C-7C2C-4C31-B6C5-7F64167F0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DBB7-7943-4055-BD93-3242D7F8D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D48B-CB0D-49D0-92DB-A5069EF03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C68C-09F3-40F4-B3CD-1BBC5EAF0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946A-AAE9-4628-8434-B42BE5B81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D825-04F8-448C-9AC8-74FC5297A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2A4C-5B11-437B-AF6B-DE3C6F127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F871-758F-496E-BCE2-468AA8FDB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3032-8CE9-4792-A9CE-D700B1EFC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19320" y="1676160"/>
            <a:ext cx="6705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NIMAL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2130480" y="1371600"/>
            <a:ext cx="4883040" cy="34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20.jpg"/>
          <p:cNvPicPr/>
          <p:nvPr/>
        </p:nvPicPr>
        <p:blipFill>
          <a:blip r:embed="rId1"/>
          <a:stretch/>
        </p:blipFill>
        <p:spPr>
          <a:xfrm>
            <a:off x="2835360" y="1371600"/>
            <a:ext cx="34718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03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DE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"/>
          <p:cNvPicPr/>
          <p:nvPr/>
        </p:nvPicPr>
        <p:blipFill>
          <a:blip r:embed="rId1"/>
          <a:stretch/>
        </p:blipFill>
        <p:spPr>
          <a:xfrm>
            <a:off x="2687760" y="1371600"/>
            <a:ext cx="37684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65120" y="490680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RILL  LY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4.jpg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2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LD  WILDLIFE  F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7.jpg"/>
          <p:cNvPicPr/>
          <p:nvPr/>
        </p:nvPicPr>
        <p:blipFill>
          <a:blip r:embed="rId1"/>
          <a:stretch/>
        </p:blipFill>
        <p:spPr>
          <a:xfrm>
            <a:off x="3073320" y="1371600"/>
            <a:ext cx="299736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57200" y="4892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RIUS  XM  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16.jpg"/>
          <p:cNvPicPr/>
          <p:nvPr/>
        </p:nvPicPr>
        <p:blipFill>
          <a:blip r:embed="rId1"/>
          <a:stretch/>
        </p:blipFill>
        <p:spPr>
          <a:xfrm>
            <a:off x="3124080" y="1447920"/>
            <a:ext cx="267336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TLE  W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45720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10.jpg"/>
          <p:cNvPicPr/>
          <p:nvPr/>
        </p:nvPicPr>
        <p:blipFill>
          <a:blip r:embed="rId1"/>
          <a:stretch/>
        </p:blipFill>
        <p:spPr>
          <a:xfrm>
            <a:off x="2251080" y="1371600"/>
            <a:ext cx="464184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46656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AR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45252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18.jpg"/>
          <p:cNvPicPr/>
          <p:nvPr/>
        </p:nvPicPr>
        <p:blipFill>
          <a:blip r:embed="rId1"/>
          <a:stretch/>
        </p:blipFill>
        <p:spPr>
          <a:xfrm>
            <a:off x="2894040" y="1371600"/>
            <a:ext cx="3355920" cy="33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42800" y="48672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GM  STUD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446040" y="7524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33.jpg"/>
          <p:cNvPicPr/>
          <p:nvPr/>
        </p:nvPicPr>
        <p:blipFill>
          <a:blip r:embed="rId1"/>
          <a:stretch/>
        </p:blipFill>
        <p:spPr>
          <a:xfrm>
            <a:off x="1839960" y="1371600"/>
            <a:ext cx="54640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687760" y="1371600"/>
            <a:ext cx="37684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UGE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228600" y="762120"/>
            <a:ext cx="8686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30.jpg"/>
          <p:cNvPicPr/>
          <p:nvPr/>
        </p:nvPicPr>
        <p:blipFill>
          <a:blip r:embed="rId1"/>
          <a:stretch/>
        </p:blipFill>
        <p:spPr>
          <a:xfrm>
            <a:off x="2971800" y="1371600"/>
            <a:ext cx="317340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LO  KI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457200" y="717480"/>
            <a:ext cx="822960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2130480" y="1371600"/>
            <a:ext cx="4883040" cy="34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ERCROMBIE  &amp;  F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457200" y="7621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20.jpg"/>
          <p:cNvPicPr/>
          <p:nvPr/>
        </p:nvPicPr>
        <p:blipFill>
          <a:blip r:embed="rId1"/>
          <a:stretch/>
        </p:blipFill>
        <p:spPr>
          <a:xfrm>
            <a:off x="2835360" y="1371600"/>
            <a:ext cx="347184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4.jpg"/>
          <p:cNvPicPr/>
          <p:nvPr/>
        </p:nvPicPr>
        <p:blipFill>
          <a:blip r:embed="rId1"/>
          <a:stretch/>
        </p:blipFill>
        <p:spPr>
          <a:xfrm>
            <a:off x="2819520" y="1447920"/>
            <a:ext cx="3504960" cy="32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7.jpg"/>
          <p:cNvPicPr/>
          <p:nvPr/>
        </p:nvPicPr>
        <p:blipFill>
          <a:blip r:embed="rId1"/>
          <a:stretch/>
        </p:blipFill>
        <p:spPr>
          <a:xfrm>
            <a:off x="2968560" y="1371600"/>
            <a:ext cx="32068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16.jpg"/>
          <p:cNvPicPr/>
          <p:nvPr/>
        </p:nvPicPr>
        <p:blipFill>
          <a:blip r:embed="rId1"/>
          <a:stretch/>
        </p:blipFill>
        <p:spPr>
          <a:xfrm>
            <a:off x="3124080" y="1447920"/>
            <a:ext cx="267336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10.jpg"/>
          <p:cNvPicPr/>
          <p:nvPr/>
        </p:nvPicPr>
        <p:blipFill>
          <a:blip r:embed="rId1"/>
          <a:stretch/>
        </p:blipFill>
        <p:spPr>
          <a:xfrm>
            <a:off x="2251080" y="1417680"/>
            <a:ext cx="46418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18.jpg"/>
          <p:cNvPicPr/>
          <p:nvPr/>
        </p:nvPicPr>
        <p:blipFill>
          <a:blip r:embed="rId1"/>
          <a:stretch/>
        </p:blipFill>
        <p:spPr>
          <a:xfrm>
            <a:off x="2822400" y="1432080"/>
            <a:ext cx="34992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33.jpg"/>
          <p:cNvPicPr/>
          <p:nvPr/>
        </p:nvPicPr>
        <p:blipFill>
          <a:blip r:embed="rId1"/>
          <a:stretch/>
        </p:blipFill>
        <p:spPr>
          <a:xfrm>
            <a:off x="1839960" y="1411200"/>
            <a:ext cx="54640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30.jpg"/>
          <p:cNvPicPr/>
          <p:nvPr/>
        </p:nvPicPr>
        <p:blipFill>
          <a:blip r:embed="rId1"/>
          <a:stretch/>
        </p:blipFill>
        <p:spPr>
          <a:xfrm>
            <a:off x="2971800" y="1371600"/>
            <a:ext cx="31734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1T14:50:24Z</dcterms:created>
  <dc:creator>Jennifer Budzinski</dc:creator>
  <dc:description/>
  <dc:language>en-US</dc:language>
  <cp:lastModifiedBy>Erich Friedman</cp:lastModifiedBy>
  <dcterms:modified xsi:type="dcterms:W3CDTF">2020-08-30T23:45:33Z</dcterms:modified>
  <cp:revision>278</cp:revision>
  <dc:subject/>
  <dc:title>Slide 1</dc:title>
</cp:coreProperties>
</file>