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7313-9D90-4A0A-BB91-A0A426DB0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EE02-992F-4628-8394-A75FDAAD5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2F80-2611-4229-A5D4-EA3E4F944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F641-F2CC-4CE1-8914-C7C4379E9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64D8-E1DC-492C-8F07-2A3E8F42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CDB4-287F-4587-AABF-6277EA62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B8ED-7791-4D42-B3E1-B174A722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DDB5-F9FF-4402-9B14-A2A5D477D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63FE-9B07-46A6-91DA-81AE3B533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9828-7B93-4138-BFCC-44C6CAE0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6ACD-C445-4B1C-AF0E-367E2E6A6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B3D4-957B-4E3F-8DD4-5F69AEA43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5C10-EA73-4F26-AF20-90F57477A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D8EF-DD6E-4F2F-BD3B-2413DE819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123F-C010-4968-9824-FD8227B2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3626-1509-4B28-8E12-CEFD3DFB8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2022-8C2C-43D4-B5C9-2DBCE44C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6009-C796-4AD9-842C-E458A82CE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C932-8E9C-4BA4-86F3-1BB9ED2E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BDAD-65D6-4B90-85B1-408A150AA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DACD-BDF1-4A88-B267-7A8CA09C3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76FC-468E-43F4-9659-3CD5D9391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1447-70D7-479F-925B-1260532A9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6705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NIMAL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2130480" y="1371600"/>
            <a:ext cx="4883040" cy="34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20.jpg"/>
          <p:cNvPicPr/>
          <p:nvPr/>
        </p:nvPicPr>
        <p:blipFill>
          <a:blip r:embed="rId1"/>
          <a:stretch/>
        </p:blipFill>
        <p:spPr>
          <a:xfrm>
            <a:off x="2835360" y="1371600"/>
            <a:ext cx="34718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03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1"/>
          <a:stretch/>
        </p:blipFill>
        <p:spPr>
          <a:xfrm>
            <a:off x="2687760" y="1371600"/>
            <a:ext cx="3768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65120" y="490680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RILL  LY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4.jpg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2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LD  WILDLIFE  F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7.jpg"/>
          <p:cNvPicPr/>
          <p:nvPr/>
        </p:nvPicPr>
        <p:blipFill>
          <a:blip r:embed="rId1"/>
          <a:stretch/>
        </p:blipFill>
        <p:spPr>
          <a:xfrm>
            <a:off x="3073320" y="1371600"/>
            <a:ext cx="29973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892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IUS  XM 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16.jpg"/>
          <p:cNvPicPr/>
          <p:nvPr/>
        </p:nvPicPr>
        <p:blipFill>
          <a:blip r:embed="rId1"/>
          <a:stretch/>
        </p:blipFill>
        <p:spPr>
          <a:xfrm>
            <a:off x="3124080" y="1447920"/>
            <a:ext cx="26733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TLE  W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10.jpg"/>
          <p:cNvPicPr/>
          <p:nvPr/>
        </p:nvPicPr>
        <p:blipFill>
          <a:blip r:embed="rId1"/>
          <a:stretch/>
        </p:blipFill>
        <p:spPr>
          <a:xfrm>
            <a:off x="2251080" y="1371600"/>
            <a:ext cx="46418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6656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AR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45252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18.jpg"/>
          <p:cNvPicPr/>
          <p:nvPr/>
        </p:nvPicPr>
        <p:blipFill>
          <a:blip r:embed="rId1"/>
          <a:stretch/>
        </p:blipFill>
        <p:spPr>
          <a:xfrm>
            <a:off x="2894040" y="1371600"/>
            <a:ext cx="3355920" cy="33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42800" y="48672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GM  STU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46040" y="7524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33.jpg"/>
          <p:cNvPicPr/>
          <p:nvPr/>
        </p:nvPicPr>
        <p:blipFill>
          <a:blip r:embed="rId1"/>
          <a:stretch/>
        </p:blipFill>
        <p:spPr>
          <a:xfrm>
            <a:off x="1839960" y="1371600"/>
            <a:ext cx="5464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87760" y="1371600"/>
            <a:ext cx="37684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UGE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228600" y="762120"/>
            <a:ext cx="8686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30.jpg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O  KI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57200" y="717480"/>
            <a:ext cx="82296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130480" y="1371600"/>
            <a:ext cx="488304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ERCROMBIE  &amp;  F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762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20.jpg"/>
          <p:cNvPicPr/>
          <p:nvPr/>
        </p:nvPicPr>
        <p:blipFill>
          <a:blip r:embed="rId1"/>
          <a:stretch/>
        </p:blipFill>
        <p:spPr>
          <a:xfrm>
            <a:off x="2835360" y="1371600"/>
            <a:ext cx="34718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4.jpg"/>
          <p:cNvPicPr/>
          <p:nvPr/>
        </p:nvPicPr>
        <p:blipFill>
          <a:blip r:embed="rId1"/>
          <a:stretch/>
        </p:blipFill>
        <p:spPr>
          <a:xfrm>
            <a:off x="2819520" y="1447920"/>
            <a:ext cx="350496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7.jpg"/>
          <p:cNvPicPr/>
          <p:nvPr/>
        </p:nvPicPr>
        <p:blipFill>
          <a:blip r:embed="rId1"/>
          <a:stretch/>
        </p:blipFill>
        <p:spPr>
          <a:xfrm>
            <a:off x="2968560" y="1371600"/>
            <a:ext cx="32068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16.jpg"/>
          <p:cNvPicPr/>
          <p:nvPr/>
        </p:nvPicPr>
        <p:blipFill>
          <a:blip r:embed="rId1"/>
          <a:stretch/>
        </p:blipFill>
        <p:spPr>
          <a:xfrm>
            <a:off x="3124080" y="1447920"/>
            <a:ext cx="26733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10.jpg"/>
          <p:cNvPicPr/>
          <p:nvPr/>
        </p:nvPicPr>
        <p:blipFill>
          <a:blip r:embed="rId1"/>
          <a:stretch/>
        </p:blipFill>
        <p:spPr>
          <a:xfrm>
            <a:off x="2251080" y="1417680"/>
            <a:ext cx="46418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18.jpg"/>
          <p:cNvPicPr/>
          <p:nvPr/>
        </p:nvPicPr>
        <p:blipFill>
          <a:blip r:embed="rId1"/>
          <a:stretch/>
        </p:blipFill>
        <p:spPr>
          <a:xfrm>
            <a:off x="2822400" y="1432080"/>
            <a:ext cx="34992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33.jpg"/>
          <p:cNvPicPr/>
          <p:nvPr/>
        </p:nvPicPr>
        <p:blipFill>
          <a:blip r:embed="rId1"/>
          <a:stretch/>
        </p:blipFill>
        <p:spPr>
          <a:xfrm>
            <a:off x="1839960" y="1411200"/>
            <a:ext cx="54640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30.jpg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14:50:24Z</dcterms:created>
  <dc:creator>Jennifer Budzinski</dc:creator>
  <dc:description/>
  <dc:language>en-US</dc:language>
  <cp:lastModifiedBy>Erich Friedman</cp:lastModifiedBy>
  <dcterms:modified xsi:type="dcterms:W3CDTF">2020-08-30T23:45:33Z</dcterms:modified>
  <cp:revision>278</cp:revision>
  <dc:subject/>
  <dc:title>Slide 1</dc:title>
</cp:coreProperties>
</file>