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D0FD-41AB-409F-8FA6-E719B7A79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97AA-0017-4370-9E7D-96C40BA1A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0909-8E3D-4580-AFD9-27B5026EC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2F05-7765-4EF2-98DB-BA64B0320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E4EC-392D-45EA-91A0-E110E7EFA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1E12-D4E6-4C9E-A31D-DAAF86F27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5286-FC10-4DE7-89A9-82E57111C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0769-228D-4C40-B866-E06D57D78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1570-A87A-4AC5-8C03-A1CB263D8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955F-34BA-4490-999A-93725DE63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59DD-B3CF-4111-9A5C-44F12EEE3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EA9C-A6F6-4D11-9F3A-A53E27936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4CDA-A257-409B-B3CD-F9EC67A75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FDF8-474E-452D-920A-2A8C1FCC0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66D1-C86E-4045-974E-C396ECBF3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C958-4044-4339-8EC9-F3046EED6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CEF6-1641-412A-A0D0-D0A7BF876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5D86-EFE2-4D1B-82B8-9A3668F29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7C61-DD8A-4CBC-A038-F8E4D9D3F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A07F-FC35-4A48-B45C-7F4B5D495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F39C-D15D-4325-9804-83B3706FD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CEFD-C7A3-4C06-9861-2F8A1EA4F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C701-D294-4674-9121-1C66C953B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LLEGES HAVE THESE "C" LOG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138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5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CAROLINA  GAMEC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76720" cy="36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PBELL  FIGHTING  CAM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944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RAL  MICHIGAN  CHIPPE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NCINNATI  BEARC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2398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ENARY  GENTLE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ELL  BIG 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IGHTON  BLUE  J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734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76720" cy="36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1295280" y="4495680"/>
            <a:ext cx="6553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LEGE  OF  CHARLESTON  COUG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207144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TTANOOGA  MO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138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CLOUD  STATE  HUSK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944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2398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734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2071440" cy="312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33:46Z</dcterms:modified>
  <cp:revision>290</cp:revision>
  <dc:subject/>
  <dc:title>Slide 1</dc:title>
</cp:coreProperties>
</file>