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1671-CEE7-4D7C-8083-DFD0B8CDD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B3A3-90C0-4497-896D-B81C2968E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013-3CD8-4FF9-96E3-96CF1FF28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A54D-CC5B-4361-8CBD-744D5417A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2A8D-E56E-41ED-AAF8-DFFFCEF32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BD15-436D-4B13-B531-43306B9C1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1AF2-F252-4637-B5E2-7C14E4D77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D7B9-633C-4EE4-BE37-31CC84E91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C845-BF28-45A0-B8BF-86CF1A09C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B8FC-323D-4486-A37D-6F477A1E0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C1058-4BE8-48E3-B251-9A157E644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C83E-420B-4ED8-AAC2-EA3B785A3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084E-DEFA-4F9F-87B5-4F1D50244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3481-A90F-4168-9045-F7EA6C268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E93C-50EE-449B-8FB1-D28494E88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0F9E-6C55-46CA-BB5B-3CDE08DDA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E74B-BB62-40C5-AC3C-71F4434449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B9EA-D190-4C9F-B6A6-9E1526555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9E9D2-6159-4842-AC57-ED7E7D5D3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28A4-9272-42AB-B7E7-753B24150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B044-C651-4740-8F4C-8CD6C5F02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93954-493C-4F68-8233-0402F272E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DD6B-8CC3-4D57-B19C-104D2A4C7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6761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LEGES HAVE THESE "C" LOGO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138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 CAROLINA  GAMEC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60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PBELL  FIGHTING  CAM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RAL  MICHIGAN  CHIPPE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0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NCINNATI  BEARCA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3986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ENARY  GENTLEM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NELL  BIG  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IGHTON  BLUE  J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7344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2971800" y="1295280"/>
            <a:ext cx="3276720" cy="36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1295280" y="4495680"/>
            <a:ext cx="6553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LEGE  OF  CHARLESTON  COUG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071440" cy="312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TTANOOGA  MO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13856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 CLOUD  STATE  HUSK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4694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2920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352680" y="1295280"/>
            <a:ext cx="23986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81280" cy="37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67344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3505320" y="1295280"/>
            <a:ext cx="2071440" cy="3124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3:46Z</dcterms:modified>
  <cp:revision>290</cp:revision>
  <dc:subject/>
  <dc:title>Slide 1</dc:title>
</cp:coreProperties>
</file>