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7125-2526-4114-8DE7-5F823B0FE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86ED-080C-4FC1-9703-D0DE44AE9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C7F4-010E-4A97-8332-9E615DC2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B35E-C4D2-44CB-996B-EC0AD9111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FA54-794C-4897-8913-9876106A5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21E7-0F27-4F52-8C9F-5A7BEBAA9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5332-D16B-46C7-ABB0-8DD8B36E4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448-CD88-4101-BE05-794E8B28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8A3A-A896-452E-BCF6-23589762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7FED-5A87-43C7-B560-130B3DE3E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ED1-25A5-4D5C-A882-B98EE47D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E096-3A8F-4951-BBE5-F6602EB27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663D-BF54-4D99-9DF7-928FC5EC0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5E38-E556-4466-B0CA-FBB88FA8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00C5-CC18-4196-8C71-D32DA750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DA2-2C27-4D05-942B-1367E8FAD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3C47-EB9D-406E-BDE2-21A85452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C185-B31A-40A1-B44F-DCBE91F5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67BC-2B34-424C-9280-E9209884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EFE0-A1D7-4AEB-AB8E-66AC0B7D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051A-1FAA-4BF4-97A4-DA112CBB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0C17-924B-4B37-8EE2-1F30B0FE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44B5-C291-4088-B77A-70F4CC46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S HAVE THESE "C"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3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CAROLINA  GAMEC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6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PBELL  FIGHTING  CAM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  MICHIGAN  CHIPPE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  BEAR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98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NARY  GENT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LL  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IGHTON  BLUE  J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734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6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295280" y="449568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GE  OF  CHARLESTON  COUG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07144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TTANOOGA  MO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3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CLOUD  STATE  HUS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98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73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0714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3:46Z</dcterms:modified>
  <cp:revision>290</cp:revision>
  <dc:subject/>
  <dc:title>Slide 1</dc:title>
</cp:coreProperties>
</file>