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CE905-7ACE-465E-9092-7C801E7A19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22220-FA4B-4722-91EC-0D38773388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AB9A4-3FD2-4E9A-9878-70467345A8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B98CC-3CE4-4779-8712-EEBDF4A28F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53CBE-A524-4589-9C8E-6CE986226F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3F7A8-3981-4DEF-B29F-799D3951A4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932BA-7B94-4A5A-BB22-F06B4B42ED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5B8F8-3C57-4FCC-9499-AB16A495CE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93D96-05A8-46E6-BEA3-23A1D79791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64739-5D5D-409B-9696-4B0CCD8888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6DF81-84EE-430A-8F15-1BE3C9D127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73200-026D-427B-9A8F-CC62CE6B9A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37385-C969-4936-B262-00B4D1C87F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C54B7-142A-4A88-B570-FF9E6362BB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A8CB5-949A-43E9-9FE7-B7A00B81A8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E73F2-9946-42CF-86B5-EBC9D10B4E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345A1-4740-43D3-8713-6E8BDEADD2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F8FF3-714B-4D87-90E9-94B9EAD9D2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33E1A-8295-47FE-BE60-A855103A09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2A080-3C21-4427-A035-BE94FC6EB0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4D131-9A6B-45F0-84AB-EDF1E96A5F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F0117-B637-45E9-BFFB-EC0D56AA6D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B1F01-F9B3-4A18-ABFE-BFFF69111B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2057400" y="106668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DENTIFY THESE "Q" LOGO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2514600" y="1219320"/>
            <a:ext cx="431964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2590920" y="1219320"/>
            <a:ext cx="3935160" cy="358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457200" y="495288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QUIZN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2209680" y="1219320"/>
            <a:ext cx="4780080" cy="335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457200" y="49528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QUALITY  HOT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"/>
          <p:cNvPicPr/>
          <p:nvPr/>
        </p:nvPicPr>
        <p:blipFill>
          <a:blip r:embed="rId1"/>
          <a:stretch/>
        </p:blipFill>
        <p:spPr>
          <a:xfrm>
            <a:off x="2362320" y="1219320"/>
            <a:ext cx="4518000" cy="3504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304920" y="4952880"/>
            <a:ext cx="85341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QUICKTI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"/>
          <p:cNvPicPr/>
          <p:nvPr/>
        </p:nvPicPr>
        <p:blipFill>
          <a:blip r:embed="rId1"/>
          <a:stretch/>
        </p:blipFill>
        <p:spPr>
          <a:xfrm>
            <a:off x="2895480" y="1219320"/>
            <a:ext cx="3465720" cy="3465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QUA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3" descr=""/>
          <p:cNvPicPr/>
          <p:nvPr/>
        </p:nvPicPr>
        <p:blipFill>
          <a:blip r:embed="rId1"/>
          <a:stretch/>
        </p:blipFill>
        <p:spPr>
          <a:xfrm>
            <a:off x="2590920" y="1219320"/>
            <a:ext cx="4116240" cy="358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46836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QV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3" descr=""/>
          <p:cNvPicPr/>
          <p:nvPr/>
        </p:nvPicPr>
        <p:blipFill>
          <a:blip r:embed="rId1"/>
          <a:stretch/>
        </p:blipFill>
        <p:spPr>
          <a:xfrm>
            <a:off x="2895480" y="1219320"/>
            <a:ext cx="337356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45396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QORDOB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3" descr=""/>
          <p:cNvPicPr/>
          <p:nvPr/>
        </p:nvPicPr>
        <p:blipFill>
          <a:blip r:embed="rId1"/>
          <a:stretch/>
        </p:blipFill>
        <p:spPr>
          <a:xfrm>
            <a:off x="2743200" y="1219320"/>
            <a:ext cx="3733920" cy="3668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IRY  QUE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3" descr=""/>
          <p:cNvPicPr/>
          <p:nvPr/>
        </p:nvPicPr>
        <p:blipFill>
          <a:blip r:embed="rId1"/>
          <a:stretch/>
        </p:blipFill>
        <p:spPr>
          <a:xfrm>
            <a:off x="2971800" y="1219320"/>
            <a:ext cx="3244680" cy="3504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2209680" y="1219320"/>
            <a:ext cx="4780080" cy="335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343080" y="4952880"/>
            <a:ext cx="84582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QUALCOM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3" descr=""/>
          <p:cNvPicPr/>
          <p:nvPr/>
        </p:nvPicPr>
        <p:blipFill>
          <a:blip r:embed="rId1"/>
          <a:stretch/>
        </p:blipFill>
        <p:spPr>
          <a:xfrm>
            <a:off x="3048120" y="1219320"/>
            <a:ext cx="3124080" cy="3673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457200" y="49528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QUIKSIL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1"/>
          <a:stretch/>
        </p:blipFill>
        <p:spPr>
          <a:xfrm>
            <a:off x="2514600" y="1219320"/>
            <a:ext cx="431964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MPAQ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3" descr=""/>
          <p:cNvPicPr/>
          <p:nvPr/>
        </p:nvPicPr>
        <p:blipFill>
          <a:blip r:embed="rId1"/>
          <a:stretch/>
        </p:blipFill>
        <p:spPr>
          <a:xfrm>
            <a:off x="2590920" y="1219320"/>
            <a:ext cx="3935160" cy="358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2362320" y="1219320"/>
            <a:ext cx="4518000" cy="350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2895480" y="1219320"/>
            <a:ext cx="3465720" cy="346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2590920" y="1219320"/>
            <a:ext cx="4116240" cy="358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2895480" y="1219320"/>
            <a:ext cx="337356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2743200" y="1219320"/>
            <a:ext cx="3733920" cy="366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3" descr=""/>
          <p:cNvPicPr/>
          <p:nvPr/>
        </p:nvPicPr>
        <p:blipFill>
          <a:blip r:embed="rId1"/>
          <a:stretch/>
        </p:blipFill>
        <p:spPr>
          <a:xfrm>
            <a:off x="2971800" y="1219320"/>
            <a:ext cx="3244680" cy="350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3048120" y="1219320"/>
            <a:ext cx="3124080" cy="3673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1T14:39:58Z</dcterms:created>
  <dc:creator>Jennifer Budzinski</dc:creator>
  <dc:description/>
  <dc:language>en-US</dc:language>
  <cp:lastModifiedBy>Erich Friedman</cp:lastModifiedBy>
  <dcterms:modified xsi:type="dcterms:W3CDTF">2020-08-30T23:34:21Z</dcterms:modified>
  <cp:revision>289</cp:revision>
  <dc:subject/>
  <dc:title>Slide 1</dc:title>
</cp:coreProperties>
</file>