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A2A-807D-4BAA-88F5-2F6FAA72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6F26-6247-47A0-BF03-6A474F02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9C0A-360A-4C53-BE46-21D46EA73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9116-7737-4E7B-A606-871929FA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C03-3880-4896-A1F0-36CAD5C0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F17-99C5-410A-9504-710A3D66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522-785D-420C-9370-3EC69D0C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6A5-FD41-43D2-AD00-047B055B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A465-AC5E-47EC-98B2-BC9A0377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FD7-F744-4BE9-907A-D8BFE138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F4AA-5310-46B8-9A06-73FD698C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AF6-390A-4829-A820-AFF740D8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2AD-9D6B-40D1-A58F-DDCE6483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638-40E4-497A-AF51-5DC9A7DB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854-6932-416D-856B-3B9D05FB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39B-AE8F-4EA6-B1F7-D856E9DF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9384-AE55-4E21-A4A2-8C8BEBB7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858-9681-4C76-85A5-B40FBACD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928-E92A-4546-8D33-B21DB5A8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C34-B054-4796-8517-D933842D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77C3-C9C6-41A5-B57C-1F9E2F3F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2D4-6455-4EAB-ACFD-C834361F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4D8-08F0-46F3-AD42-7CA1E230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057400" y="10666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Q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19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35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80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ITY  HOT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80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CK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6572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116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73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39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ORD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RY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24468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800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CO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24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K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19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351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8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657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116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73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2446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240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4:21Z</dcterms:modified>
  <cp:revision>289</cp:revision>
  <dc:subject/>
  <dc:title>Slide 1</dc:title>
</cp:coreProperties>
</file>