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DC7-4093-4DA3-9A8D-F14945854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D1C7-740B-4169-A14B-220BE73A2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D1F6-D77A-422A-AECA-33CEA862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A09C-4A56-4434-A5FD-98925F92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C9C-CE89-443F-A5F6-B5EF9DE4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51AA-6B18-4846-9850-4D3DC514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CF89-AFFB-4C7E-9C89-DCD0FB871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4D51-D39C-494D-AC70-193B5DCA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C1B0-7007-435D-BB6D-BCE96F966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963E-EFC3-416D-9B54-45051E6E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60D-089D-41E2-A1D0-55F1DFD7F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1A1A-26E5-4C57-BC16-46A2AB35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76F-6D55-4B1F-B6CB-2DB93D70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6E7-E572-480B-806D-9F958051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946-09A8-45B2-8523-9EBEE0D5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99EE-1E5E-4B0E-B054-59EB1269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BAF-2A2F-4E49-B451-B3D02187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5967-AFBA-47C3-BEDC-F6C311EF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F0A8-7B53-496B-8C91-1057228F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C644-FF08-47E5-B1F2-A31B0A83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FDC-D42C-4ACE-9A93-3DEA7459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B3BB-474C-4398-BC1E-B2E1CF0E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C876-6DB0-48AC-97DB-478AB246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IRLINE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FTHA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7672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ISH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1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7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38520" y="1295280"/>
            <a:ext cx="374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RO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  AIR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767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1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7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1156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738520" y="1295280"/>
            <a:ext cx="3743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4:17:06Z</dcterms:created>
  <dc:creator>Jennifer Budzinski</dc:creator>
  <dc:description/>
  <dc:language>en-US</dc:language>
  <cp:lastModifiedBy>Erich Friedman</cp:lastModifiedBy>
  <dcterms:modified xsi:type="dcterms:W3CDTF">2020-08-30T23:37:52Z</dcterms:modified>
  <cp:revision>289</cp:revision>
  <dc:subject/>
  <dc:title>Slide 1</dc:title>
</cp:coreProperties>
</file>