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07F1-2F99-422D-915F-0CBF017C1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BF78-177A-4CDE-958A-63EDB922F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BDBD-6C1C-4A09-B0AF-0F56854E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F922-CB00-4F7E-8F05-950B6329E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E50C-6ACB-4650-8654-B6650E30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018-BCC4-4AA9-9630-CEBAF4988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B7C3-1A1E-4E8D-AAF3-4B0147494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3AF9-4A5C-4355-94BE-26FBEC42D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00E5-71AB-4409-B0BD-532C7BE18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9CEF-72D9-474D-B257-8AE6AEDE7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BD43-2FA3-4B6B-80DC-FDACEADFC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3D38-8F09-4EF8-B5BF-4CE9C8121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74E-A0B1-4D5E-9DB2-12C3ED25A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488C-4FD3-4723-B6B8-44A4CB64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D015-B22D-4994-9C49-5CC897F5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198D-0D05-4BAC-BA92-2E536CAF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2C88-BAFE-4349-B2AD-4898FBE27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B686-10AF-4B2B-BE30-FA6AD8AE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D7FE-7F51-4993-865F-0A168A66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7D6C-37BD-4D4B-95A3-6BBDBA89A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7B0F-1701-44A2-A035-38EFFB1C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2C1-CBED-4FF5-8B81-BC1E8E1FD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F87A-4C53-437E-AB41-286EF116C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IRLINE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FTHAN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7672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ISH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1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7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38520" y="1295280"/>
            <a:ext cx="3743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RO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4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  AIR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4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27672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3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1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197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11560" cy="37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738520" y="1295280"/>
            <a:ext cx="3743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362320" y="1295280"/>
            <a:ext cx="4419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1T14:17:06Z</dcterms:created>
  <dc:creator>Jennifer Budzinski</dc:creator>
  <dc:description/>
  <dc:language>en-US</dc:language>
  <cp:lastModifiedBy>Erich Friedman</cp:lastModifiedBy>
  <dcterms:modified xsi:type="dcterms:W3CDTF">2020-08-30T23:37:52Z</dcterms:modified>
  <cp:revision>289</cp:revision>
  <dc:subject/>
  <dc:title>Slide 1</dc:title>
</cp:coreProperties>
</file>