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971-1383-431B-9231-B43D2A87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7BE-9B75-4A1D-A71A-A18506EC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2824-6B0B-4D84-BCEB-830885E1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BFA-4487-4C14-8635-9FCB2129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9885-1797-44BF-88D6-FC8F6D2EF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8283-648A-4326-997D-63425910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438-86DB-4129-90F4-7D439195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0EF2-CCD7-4463-A1F4-61AC9DC1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BCB-C43E-412D-8548-B6B70071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5B2-556E-43AB-99B4-553CC020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5E14-811F-4C7E-AD2A-BE4A1F91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A09A-1090-48B4-BBA5-4910E0B1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D85-C009-4951-819A-84839063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8295-0FED-4C79-B3DB-1B79368E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EC00-CD85-4AE4-9264-F15C0300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697-37FD-4BD4-989A-3FCC93ED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CE9-1740-4572-8B3C-93C3D209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08E-BABA-4351-AC6F-8F18A539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C8BD-580D-48CA-A080-90C4AEE0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868B-5C36-4D05-B550-C7F77F6F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0A23-7CE2-4DA5-8CB6-6846F9E2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8F0F-2A63-4460-918A-EAF91653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9A25-22E1-4EB9-B65E-0353542E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IRLINE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FTHA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7672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ISH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1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7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38520" y="1295280"/>
            <a:ext cx="374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RO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  AIR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767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1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7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1156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738520" y="1295280"/>
            <a:ext cx="3743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4:17:06Z</dcterms:created>
  <dc:creator>Jennifer Budzinski</dc:creator>
  <dc:description/>
  <dc:language>en-US</dc:language>
  <cp:lastModifiedBy>Erich Friedman</cp:lastModifiedBy>
  <dcterms:modified xsi:type="dcterms:W3CDTF">2020-08-30T23:37:52Z</dcterms:modified>
  <cp:revision>289</cp:revision>
  <dc:subject/>
  <dc:title>Slide 1</dc:title>
</cp:coreProperties>
</file>