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DF5B-C97F-4170-9C33-546A8AC7D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1801-1D49-4281-B010-B814BC4B0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F616-2416-4245-9C9B-FAB18FF32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DEE9-B755-4408-A957-8AB0E6FB0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05FF-69E4-4761-AEB8-D340F50D5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8FD0-C773-47C6-AE84-9E99DB435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8949-C1C7-4998-A4F8-FA7876FBD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D840-8BDE-4D6E-BC98-1C8E85D84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AADB-F8DD-4440-B9FA-9B2F1B95B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9C80-1A91-4A31-B2BB-7024C70FA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30D0-69E8-4850-AB37-7FE529422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85E4-DDD5-40DD-98AB-EA42A980B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5CE3-CDA8-40EB-A020-CB2DAF33B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A645-05BD-455A-B319-B0EC9208A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690B-6F22-4602-8DAA-13FE68531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AD6D-115C-40D7-87FF-AC10F2503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00DE-33B3-4F3B-8B6A-AD4FD8592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F7CA-59A2-47D6-AB7B-FDCE76210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C5FB-F058-4D22-9D09-B4E2CFBBD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73E5-C816-42C3-AAFA-85818FD0B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8324-95C5-4448-A01B-FD3B1CA4E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F086-439A-4312-A8C7-70A24192D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4C27-2AD2-45C7-9804-1CF8E1A2D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66680" y="1676160"/>
            <a:ext cx="70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RECTANGULAR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2739960" y="1295280"/>
            <a:ext cx="3664080" cy="36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1"/>
          <a:stretch/>
        </p:blipFill>
        <p:spPr>
          <a:xfrm>
            <a:off x="3263760" y="1295280"/>
            <a:ext cx="2616480" cy="35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DW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2825640" y="1295280"/>
            <a:ext cx="34927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MINO'S  PIZ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2762280" y="1295280"/>
            <a:ext cx="36194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R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ROSO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OD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2612880" y="1295280"/>
            <a:ext cx="39182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PITAL 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61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LARO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2755800" y="1295280"/>
            <a:ext cx="36324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825640" y="1295280"/>
            <a:ext cx="34927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"/>
          <p:cNvPicPr/>
          <p:nvPr/>
        </p:nvPicPr>
        <p:blipFill>
          <a:blip r:embed="rId1"/>
          <a:stretch/>
        </p:blipFill>
        <p:spPr>
          <a:xfrm>
            <a:off x="2816280" y="1371600"/>
            <a:ext cx="3511440" cy="352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  MICRO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2779560" y="1295280"/>
            <a:ext cx="3584880" cy="35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IONAL  GEOGRAPH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3263760" y="1295280"/>
            <a:ext cx="2616480" cy="359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2762280" y="1295280"/>
            <a:ext cx="36194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717640" y="1295280"/>
            <a:ext cx="3708720" cy="37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513160" y="1295280"/>
            <a:ext cx="4117680" cy="36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61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2717640" y="1295280"/>
            <a:ext cx="37087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2743200" y="1352520"/>
            <a:ext cx="3657600" cy="3670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38:55Z</dcterms:modified>
  <cp:revision>290</cp:revision>
  <dc:subject/>
  <dc:title>Slide 1</dc:title>
</cp:coreProperties>
</file>