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CF0B-9CEC-4B87-B05B-3AE0F0DDF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5FDD-04B9-4B06-BEA1-606427EBB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76E6-2C44-49CF-9B1A-324845A72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8AD4-987A-434F-ADB3-888B0C5C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21C6-4F31-49B7-A6B0-92C069BFC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28BA-4116-427F-B196-18ABE6E6D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384F-4680-4F04-80BD-3590B54F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CFA1-E831-4EA4-A143-8C43A21D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F6FA-663A-4DF2-BF96-F84A1428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A8AE-AD3C-4D33-BCD3-CCD4EEC2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C0B-0E5D-40E6-A0F5-72084E47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835E-DF5F-47FF-A74A-D7832745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CD20-66DD-44D3-AED2-F817E4F88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F00D-DE31-4732-930B-FC3092574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0736-5AC1-4DF8-8E26-016A0A316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B56C-CFCF-4007-8B02-B8574B604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704-9817-418A-AE32-AC5A7C3A8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246-7D85-42B5-8B83-1C3B5918A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62CA-C017-455C-AFBB-B0DB6F739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9365-8709-48B3-8A40-10D24FEE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A4B4-50F9-493C-831E-4F778BB5B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4BEB-E83E-47B9-AFEA-BBEB44C22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6D71-F074-4E9F-8F9D-C3986BF8F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RECTANGUL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39960" y="1295280"/>
            <a:ext cx="366408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3263760" y="1295280"/>
            <a:ext cx="261648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25640" y="1295280"/>
            <a:ext cx="3492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O'S  PI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612880" y="1295280"/>
            <a:ext cx="3918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ITAL 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R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55800" y="1295280"/>
            <a:ext cx="3632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25640" y="1295280"/>
            <a:ext cx="3492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816280" y="1371600"/>
            <a:ext cx="351144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MICRO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79560" y="1295280"/>
            <a:ext cx="358488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GEO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263760" y="1295280"/>
            <a:ext cx="261648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513160" y="1295280"/>
            <a:ext cx="411768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352520"/>
            <a:ext cx="3657600" cy="367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8:55Z</dcterms:modified>
  <cp:revision>290</cp:revision>
  <dc:subject/>
  <dc:title>Slide 1</dc:title>
</cp:coreProperties>
</file>