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6F9F-ECDF-4F21-8C8D-322426CD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F017-FB38-4180-9F37-D78DE749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5BB0-2B35-40C6-B0DF-D1742463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710-678C-4B89-86B6-9173DE896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6BA-F3FF-4597-A437-13BA922E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22B8-6546-4F07-AC1A-394CAB631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E1D6-FEA2-410B-964D-EE356AC2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AD2-A3E3-455A-B5F2-A6D659463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C920-BF22-4CCA-9CE5-59EA7165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BB05-9628-4951-A02D-40025AA4E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76CA-DC42-43C5-A2D1-2448F950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D01-7378-4CF4-9A03-6C8DE2170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3703-022E-43E3-96D5-BDBA4E22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1DD4-8B33-40CE-8C03-58B990B0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D19D-2CC1-429F-A1E3-0D789F49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AC78-F88F-4F14-9982-B7456D76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CC7B-63C2-45D8-89E4-26F58F90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0D3-4497-4913-9E33-75FDCE8B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383D-CA51-44B5-AF83-006DE8C06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A1E6-C291-460C-9304-76D24AD93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8F6A-2422-416C-8707-72029952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3D82-26F9-40C1-9CF8-40E150AF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2A96-EBB5-4100-AD09-759EC2012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RECTANGUL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39960" y="1295280"/>
            <a:ext cx="366408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3263760" y="1295280"/>
            <a:ext cx="26164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25640" y="1295280"/>
            <a:ext cx="3492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O'S  PI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612880" y="1295280"/>
            <a:ext cx="3918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ITAL 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R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55800" y="1295280"/>
            <a:ext cx="3632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25640" y="1295280"/>
            <a:ext cx="349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816280" y="1371600"/>
            <a:ext cx="351144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MICR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79560" y="1295280"/>
            <a:ext cx="358488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GEO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263760" y="1295280"/>
            <a:ext cx="261648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513160" y="1295280"/>
            <a:ext cx="411768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352520"/>
            <a:ext cx="3657600" cy="367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8:55Z</dcterms:modified>
  <cp:revision>290</cp:revision>
  <dc:subject/>
  <dc:title>Slide 1</dc:title>
</cp:coreProperties>
</file>