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E3B-FE65-4959-AD90-A6E632FDE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67DF-D811-45F2-98DC-82AA4FB5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6F17-4511-4211-9A2C-0E2A26D6A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CCAE-48BC-4DCA-8C8F-2E5D7959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743A-3C0B-4B24-B068-2D452159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BECA-0CAC-4254-B741-D3E72892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CF1-793E-4178-AF6B-FB76BE014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9D83-2646-49BE-B708-20148C3F1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5C2-DFD1-48A0-A3AF-6DDEF4D7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7690-7216-4CAF-A2B0-4E38BA830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AB22-5288-4364-9D82-BC6704C84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DAD0-6B15-477C-9958-08BF3542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53AB-13C0-4B37-BCCD-08345D24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E9E-2F1B-4BC7-AF0F-8568E816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9257-612A-4EA6-B28C-29694472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1BE2-9860-4001-8000-6C7B2F8A4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1DEF-32DD-4C8F-8455-743199DE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C4AA-C3D8-4AD7-AE38-F343A1E8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18E6-9786-4A46-9D92-F4D0932B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FC3-8C2E-482A-AF7A-C26B4BB8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C7B0-685E-48FA-9CE0-4009B4EE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EE9A-1AC7-4343-8FAA-F03A96FF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B75-6647-4F8B-9C28-F677B9ED8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676160"/>
            <a:ext cx="6096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IRD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473280" y="1295280"/>
            <a:ext cx="219744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076480" y="1295280"/>
            <a:ext cx="499104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505240" y="1295280"/>
            <a:ext cx="412416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244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589040" y="1357200"/>
            <a:ext cx="596592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9104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413160" y="1270080"/>
            <a:ext cx="231768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EAGLE  OUTFI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413080" y="1295280"/>
            <a:ext cx="4317840" cy="36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ROVSKI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 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987640" y="1295280"/>
            <a:ext cx="3168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FTHA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05240" y="1295280"/>
            <a:ext cx="4133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435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ST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89000" y="1295280"/>
            <a:ext cx="516600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6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527280" y="1295280"/>
            <a:ext cx="208944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IRNOFF  VOD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076480" y="1295280"/>
            <a:ext cx="499104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1920" y="1333440"/>
            <a:ext cx="6140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21000" y="1295280"/>
            <a:ext cx="2500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13080" y="1295280"/>
            <a:ext cx="4317840" cy="36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36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20960" y="1295280"/>
            <a:ext cx="53020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2:30Z</dcterms:modified>
  <cp:revision>290</cp:revision>
  <dc:subject/>
  <dc:title>Slide 1</dc:title>
</cp:coreProperties>
</file>