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291F-3F44-4033-96D7-A21574C11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55E0-AAAF-42E0-99BC-D5B99E599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7EC2-3725-4364-8A3B-FEA31192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9871-2C79-4AA1-83A4-7A73B3F5F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8BC3-D17E-4402-A357-5DC884B7A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BE7E7-3504-4556-BCD4-F87F7EEB0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D12F-1E82-40F2-8356-295C1C2F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D13F-876B-42D3-8A55-A94A1238A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0D9-859C-4A75-A755-E27EB9E8A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4CD6-32A6-4A12-B3BA-24C87978F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5A2C-8F75-4C7D-8172-F6AF1DA4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E4F6-9F65-4E68-B8E8-171C102A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DED2-3966-4B92-97F6-CBC657E2F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79EF-4F76-4AA3-B9B2-F6DCCCB20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A9F-F343-45A6-81B0-9D1E1C53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4B01-EA38-4542-8B6A-54768183D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0828-EB17-467F-AB34-2BA14BAAD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28D-9000-45A2-9836-7E38AB8F5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19D-B39A-43BA-831B-E32D3F9E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1AA6-FEEC-4B5A-95D1-41EA2A6D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466-C606-491A-9D25-B64925F5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979D-B041-432D-BBE4-026B3EF0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24E9-BFF6-4557-9291-EDA8B0F5C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676160"/>
            <a:ext cx="6096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IRD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473280" y="1295280"/>
            <a:ext cx="219744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076480" y="1295280"/>
            <a:ext cx="499104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505240" y="1295280"/>
            <a:ext cx="4124160" cy="35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244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589040" y="1357200"/>
            <a:ext cx="596592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91040"/>
            <a:ext cx="853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413160" y="1270080"/>
            <a:ext cx="231768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EAGLE  OUTFI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413080" y="1295280"/>
            <a:ext cx="4317840" cy="36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ROVSKI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552760" y="129528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6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 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987640" y="1295280"/>
            <a:ext cx="3168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FTHAN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05240" y="1295280"/>
            <a:ext cx="4133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435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ST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89000" y="1295280"/>
            <a:ext cx="516600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6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527280" y="1295280"/>
            <a:ext cx="208944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IRNOFF  VOD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076480" y="1295280"/>
            <a:ext cx="499104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501920" y="1333440"/>
            <a:ext cx="6140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321000" y="1295280"/>
            <a:ext cx="2500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413080" y="1295280"/>
            <a:ext cx="4317840" cy="36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52760" y="1295280"/>
            <a:ext cx="40384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36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20960" y="1295280"/>
            <a:ext cx="53020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2:30Z</dcterms:modified>
  <cp:revision>290</cp:revision>
  <dc:subject/>
  <dc:title>Slide 1</dc:title>
</cp:coreProperties>
</file>