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4CC3-4ACE-41C1-870B-444CA9EB3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B6B8-4FE4-4555-B14C-F1BB966FF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1D7D-DBD5-4149-82B5-09D12704C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4339-FB9E-4CC0-8561-38CAD9C3F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9E33-D0D9-4D73-94F6-AD4D5A760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7095-D191-4D2C-B0AE-E9E01ECF0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45B5-1971-4344-85EE-14C828450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67F8-850C-483A-89BD-BB61B9C27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F87B-0C9E-439B-8421-AD86FA588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9109-E547-4E16-8A5A-FFE8221A1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9803-C5CC-4CD9-B36D-29BBD7E78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62FA-A838-43D7-A711-C4C5D3348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1EE4-84C8-4F2A-860F-3E32ECB0A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171E-8B37-4989-8D34-4AE8C4B79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B79C-5DB0-4BF2-B2DE-39D0006E7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5B23-40F6-437C-9B7D-2C40970AA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C897-E149-4281-8E90-54BE51C0F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75C7-BB5D-4DF6-8D24-8958BAD8F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9F3D-10E3-4C33-A90E-5C960423E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6717-7EF9-49A9-8A0E-DE89A8AAE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D0CC-6B91-46D2-9EC3-79827150A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7CD3-3D7E-4A2C-BF3F-AFF8010FC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0D64-4462-4989-8E61-6BC612FE4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676160"/>
            <a:ext cx="6096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BIRD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473280" y="1295280"/>
            <a:ext cx="2197440" cy="36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076480" y="1295280"/>
            <a:ext cx="4991040" cy="35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505240" y="1295280"/>
            <a:ext cx="4124160" cy="35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2444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589040" y="1357200"/>
            <a:ext cx="5965920" cy="34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4991040"/>
            <a:ext cx="853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413160" y="1270080"/>
            <a:ext cx="2317680" cy="346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EAGLE  OUTFI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413080" y="1295280"/>
            <a:ext cx="4317840" cy="360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9719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AROVSKI  CRYS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552760" y="1295280"/>
            <a:ext cx="403848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4956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GUIN  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987640" y="1295280"/>
            <a:ext cx="3168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658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FTHAN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359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505240" y="1295280"/>
            <a:ext cx="41335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435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STL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989000" y="1295280"/>
            <a:ext cx="5166000" cy="35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56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527280" y="1295280"/>
            <a:ext cx="2089440" cy="34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IRNOFF  VOD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076480" y="1295280"/>
            <a:ext cx="4991040" cy="354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01920" y="1333440"/>
            <a:ext cx="61401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321000" y="1295280"/>
            <a:ext cx="25002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413080" y="1295280"/>
            <a:ext cx="4317840" cy="36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552760" y="1295280"/>
            <a:ext cx="403848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2367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920960" y="1295280"/>
            <a:ext cx="5302080" cy="364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42:30Z</dcterms:modified>
  <cp:revision>290</cp:revision>
  <dc:subject/>
  <dc:title>Slide 1</dc:title>
</cp:coreProperties>
</file>