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34CD-A54F-4A58-90C0-7365E10D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B70F-D2D9-4C98-9584-34A9A3778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791B-8A5C-40EC-9CB7-B9E44D59D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4DA1-5810-459A-8263-A5C3C005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64C0-5013-4591-B4F1-E66F2FE4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802D-117B-4756-9A5A-47145BE4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4B0-2449-4F3C-A457-7AC7D741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EF8-5C9F-4585-8AAA-1DBE4851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AD9A-7CBD-4DAC-9B26-E40D5964D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AE39-BE2A-4EB2-9C32-421E1EC1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C20-0D7D-4F4D-8F3C-C138F724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231-D8D1-412F-BC2D-E19E6A7B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723E-039D-45F0-85DF-3CB3742A3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DBFC-AF03-483E-AB05-17A42B4F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FE33-10A6-4A81-85FB-F9D7AA8C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A7A-5020-4A6A-AB71-EFEECC86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BFE0-365C-48E3-AD92-A26FE901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4BF9-1433-4907-8336-3CAF5AF39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4F4-F724-469A-8431-8F781AD70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B79-A62A-4181-93AE-19E0EA48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780B-0A72-4796-843A-6297FAE4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4EEE-458B-4E3A-8F2E-BFF9EB10C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1D2-3CBB-4935-A2B6-9662EBEA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RIANG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444680" y="1295280"/>
            <a:ext cx="625464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SUBI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3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009960" y="1285920"/>
            <a:ext cx="312408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3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YS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34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PUBLIC  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54120" y="1330200"/>
            <a:ext cx="4235760" cy="33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3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4496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GLE  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647800" y="1295280"/>
            <a:ext cx="3848400" cy="35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VO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444680" y="1295280"/>
            <a:ext cx="625464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009960" y="1285920"/>
            <a:ext cx="3124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34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454120" y="1330200"/>
            <a:ext cx="423576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629080" y="1295280"/>
            <a:ext cx="3886200" cy="357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6:14Z</dcterms:modified>
  <cp:revision>289</cp:revision>
  <dc:subject/>
  <dc:title>Slide 1</dc:title>
</cp:coreProperties>
</file>