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DE2F-0396-44EC-948C-C1BA5823C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739D-D5A6-43D6-B2CA-298E77C15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D1BB-5552-40D6-92BF-896139500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CDF7-AE18-4A45-968A-5C6CBCC5E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9956-6786-4CCD-9FDD-FA3C50C7E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D367-65EB-4D61-8D82-C21FAE1EE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D69C-3646-4587-8560-B6D9B540B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ADB4-F521-4E62-8F06-09506524A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8879-14AA-4B54-B1E9-D58B00FA4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35FE-B0A2-4E34-982E-5A4DB2CED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A8AE-9075-432E-8C4E-C833CD751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E8CF-010B-49FE-BDA6-D01859BB4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4EE9-971B-4942-809F-6C5EF83A7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1C20-CCA8-4ED6-9754-DF7BBAE12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69C7-76C6-437D-BA9C-A0B46DD46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BAF6-A26E-4A40-A457-1239A0985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04EE-3E8E-4968-9CF5-24C8E9E85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28A0-655C-49FD-8EC4-245A3F627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F51A-51FC-4B8F-B3C3-5485B4734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349F-27C2-44DA-B50A-DA65DE4D3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2E2B-BC48-4D15-BE2F-505C4F392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493D-CFA3-4E28-B433-9FEB42450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DB2A-60C2-483A-882B-CF0EB8C2E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TRIANGULAR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705040" y="1295280"/>
            <a:ext cx="3733920" cy="32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444680" y="1295280"/>
            <a:ext cx="6254640" cy="34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TSUBIS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635200" y="1295280"/>
            <a:ext cx="3873600" cy="33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3009960" y="1285920"/>
            <a:ext cx="3124080" cy="35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476440" y="1295280"/>
            <a:ext cx="4191120" cy="339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A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YS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735280" y="1295280"/>
            <a:ext cx="3673440" cy="344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641680" y="1295280"/>
            <a:ext cx="3860640" cy="33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IDA  PUBLIC  UT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454120" y="1330200"/>
            <a:ext cx="4235760" cy="335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635200" y="1295280"/>
            <a:ext cx="3873600" cy="33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4496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GLE  DR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2647800" y="1295280"/>
            <a:ext cx="3848400" cy="353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2705040" y="1295280"/>
            <a:ext cx="3733920" cy="32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VO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444680" y="1295280"/>
            <a:ext cx="6254640" cy="34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3009960" y="1285920"/>
            <a:ext cx="31240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476440" y="1295280"/>
            <a:ext cx="4191120" cy="33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735280" y="1295280"/>
            <a:ext cx="3673440" cy="34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641680" y="1295280"/>
            <a:ext cx="386064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454120" y="1330200"/>
            <a:ext cx="4235760" cy="33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629080" y="1295280"/>
            <a:ext cx="3886200" cy="357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46:14Z</dcterms:modified>
  <cp:revision>289</cp:revision>
  <dc:subject/>
  <dc:title>Slide 1</dc:title>
</cp:coreProperties>
</file>