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BBDB-B67D-4FE7-B8D1-ECB08079A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79F4-8190-4E78-A1AB-2E469397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6EFAA-684B-46C8-8055-751383AFE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3560-3F61-4B07-A3EB-FCA98834E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9B80-08C0-45C1-9C18-DF92A9D2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2C1-CA59-4C9E-A744-A9671F7F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7648-4301-42CF-A9BF-FBCCEB4D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67A-CF54-4599-A7A4-52B2F7C8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001-10DF-4327-A56D-229A3EC6E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AC11-5399-4CDA-ACF5-55C9E8D35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52CA-32BA-45E6-A6D7-A29E9791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85D-3810-4A6F-80FC-1A8A3AB30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39C6-57F5-4E2F-8F3B-012CAA736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42AA-8565-46D4-8EEB-917C17A3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103-6130-4125-949B-EC018714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41493-B35E-4231-BAAC-8188E465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D46B-3E1C-46F4-A783-2F13F57D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5CC6-6729-48AF-B689-BCEEAE5DF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C51-EFC5-40D6-AD37-281B3FA26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BE66-E6D5-4A32-AEF1-05953420F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6852-B2B6-4C46-823A-8A010BFAC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C4C8-D7F8-4A5C-AA7B-DA40496B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B3D8-359B-416E-A85E-DD1B2BA1D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RI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PUBLIC  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35200" y="1295280"/>
            <a:ext cx="3873600" cy="33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4496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GLE 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2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VO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4680" y="1295280"/>
            <a:ext cx="625464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3009960" y="1285920"/>
            <a:ext cx="31240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5280" y="1295280"/>
            <a:ext cx="367344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454120" y="1330200"/>
            <a:ext cx="423576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629080" y="1295280"/>
            <a:ext cx="3886200" cy="357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14Z</dcterms:modified>
  <cp:revision>289</cp:revision>
  <dc:subject/>
  <dc:title>Slide 1</dc:title>
</cp:coreProperties>
</file>