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1A0-B32B-4433-9B52-F15845A5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E46-A5EC-4177-B42A-A1C9D774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1F2-29EA-4684-9A40-E115C8B2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B1A-6C74-4006-ABB8-045425FB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C404-2D34-46B2-97AF-DABFAC75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F94-8BB6-4A2B-A69C-0B51CF29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3EDE-B5DD-450E-99B6-372E626C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5B9-1EC5-40E0-9F76-2D639F21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25C4-2014-4DFC-97EB-4F277DC9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6FA-2D29-4EDA-BE5C-B1E9E492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5E7-4662-4EAA-AE2A-77C52B75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1D0-7473-42E8-8521-4CE46270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D703-1964-4EC0-9911-07900ABD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185-EFE7-45A9-ADF0-1FE2B8AC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57E-209A-4031-9986-61148335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AB68-D6D2-4175-80AD-B3A480BD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BFA-DF97-4179-BAF6-50044F5F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1BC-CF91-4DD7-9FCC-04C109AAF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ED7-1417-4530-AC8A-B2166C34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F22A-FFDD-4672-9FEB-0FFB0E8DC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37AC-9784-49A9-9038-1FB42FB7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672D-6D37-40AB-B802-3BE9F1AE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3087-7D34-4A5A-B971-5E76D911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9064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H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Honda.jpg"/>
          <p:cNvPicPr/>
          <p:nvPr/>
        </p:nvPicPr>
        <p:blipFill>
          <a:blip r:embed="rId1"/>
          <a:stretch/>
        </p:blipFill>
        <p:spPr>
          <a:xfrm>
            <a:off x="2368440" y="1295280"/>
            <a:ext cx="4407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holiday inn.jpg"/>
          <p:cNvPicPr/>
          <p:nvPr/>
        </p:nvPicPr>
        <p:blipFill>
          <a:blip r:embed="rId1"/>
          <a:stretch/>
        </p:blipFill>
        <p:spPr>
          <a:xfrm>
            <a:off x="2819520" y="1293840"/>
            <a:ext cx="350496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196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History_Channel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QVA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Honda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02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5712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hilary.png"/>
          <p:cNvPicPr/>
          <p:nvPr/>
        </p:nvPicPr>
        <p:blipFill>
          <a:blip r:embed="rId1"/>
          <a:stretch/>
        </p:blipFill>
        <p:spPr>
          <a:xfrm>
            <a:off x="2468520" y="1295280"/>
            <a:ext cx="4206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G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UND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holiday in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History_Channel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52760" y="1292400"/>
            <a:ext cx="40384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ilary.png"/>
          <p:cNvPicPr/>
          <p:nvPr/>
        </p:nvPicPr>
        <p:blipFill>
          <a:blip r:embed="rId1"/>
          <a:stretch/>
        </p:blipFill>
        <p:spPr>
          <a:xfrm>
            <a:off x="2438280" y="1295280"/>
            <a:ext cx="4295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36Z</dcterms:modified>
  <cp:revision>293</cp:revision>
  <dc:subject/>
  <dc:title>Slide 1</dc:title>
</cp:coreProperties>
</file>