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6A64-DA45-41E6-8ADD-81FBA2505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320C-B391-4617-A49B-B2CD00523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11F6-1AB5-4E06-8637-D41F7F613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0A60-05D9-4C62-9A50-29C783926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C913-1A9E-4275-A087-22022377C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F964-3FEB-4BA1-A131-1F69F2AD7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4CB7-D874-4865-BAF9-C867F47CB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EB1F-EB8F-4A62-A8C0-2C1188CE6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10C9-501C-4C65-8151-F2F372171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CB3B-3C79-4C1F-BBE7-656F5FD8D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9249-A191-4F3A-B9D6-AE01F59DD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5FA8-B11E-4461-98AC-AE7388899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365A-7FE5-48BA-981E-64F0398B9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E3CB-17F3-48FF-9931-FCFBFCFE5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910B-A620-4499-B840-53D8D20D8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7AEA-2805-495C-985C-DA513916F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3ED4-9B15-4AFF-BCD6-E2B8CD114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738C-A5F5-4CF0-AFD0-BB81982A2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B443-891B-45B9-BDA2-A070A91BD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92D0-E406-486C-A848-E95FC9408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77E0-9BF3-447D-9326-E34EAA0B2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0D99-DA18-4EE0-86EC-3948BA626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8251-2A5D-4D2A-8CF6-15D3B2D75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90640" y="1676160"/>
            <a:ext cx="5562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H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789280" y="1295280"/>
            <a:ext cx="35654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Hyundai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8640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Honda.jpg"/>
          <p:cNvPicPr/>
          <p:nvPr/>
        </p:nvPicPr>
        <p:blipFill>
          <a:blip r:embed="rId1"/>
          <a:stretch/>
        </p:blipFill>
        <p:spPr>
          <a:xfrm>
            <a:off x="2368440" y="1295280"/>
            <a:ext cx="4407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IDAY  I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holiday inn.jpg"/>
          <p:cNvPicPr/>
          <p:nvPr/>
        </p:nvPicPr>
        <p:blipFill>
          <a:blip r:embed="rId1"/>
          <a:stretch/>
        </p:blipFill>
        <p:spPr>
          <a:xfrm>
            <a:off x="2819520" y="1293840"/>
            <a:ext cx="3504960" cy="35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7196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TORY 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History_Channel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hilton.jpg"/>
          <p:cNvPicPr/>
          <p:nvPr/>
        </p:nvPicPr>
        <p:blipFill>
          <a:blip r:embed="rId1"/>
          <a:stretch/>
        </p:blipFill>
        <p:spPr>
          <a:xfrm>
            <a:off x="2057400" y="1295280"/>
            <a:ext cx="5102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33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SQVA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3009960" y="1295280"/>
            <a:ext cx="312408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687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625840" y="1295280"/>
            <a:ext cx="389232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hane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753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Honda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021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57120" y="495936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ARY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hilary.png"/>
          <p:cNvPicPr/>
          <p:nvPr/>
        </p:nvPicPr>
        <p:blipFill>
          <a:blip r:embed="rId1"/>
          <a:stretch/>
        </p:blipFill>
        <p:spPr>
          <a:xfrm>
            <a:off x="2468520" y="1295280"/>
            <a:ext cx="4206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G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2789280" y="1295280"/>
            <a:ext cx="35654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UND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Hyundai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8640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holiday inn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1332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History_Channel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hilton.jpg"/>
          <p:cNvPicPr/>
          <p:nvPr/>
        </p:nvPicPr>
        <p:blipFill>
          <a:blip r:embed="rId1"/>
          <a:stretch/>
        </p:blipFill>
        <p:spPr>
          <a:xfrm>
            <a:off x="2057400" y="1295280"/>
            <a:ext cx="5102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5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004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2552760" y="1292400"/>
            <a:ext cx="4038480" cy="37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hane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753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hilary.png"/>
          <p:cNvPicPr/>
          <p:nvPr/>
        </p:nvPicPr>
        <p:blipFill>
          <a:blip r:embed="rId1"/>
          <a:stretch/>
        </p:blipFill>
        <p:spPr>
          <a:xfrm>
            <a:off x="2438280" y="1295280"/>
            <a:ext cx="4295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6:36Z</dcterms:modified>
  <cp:revision>293</cp:revision>
  <dc:subject/>
  <dc:title>Slide 1</dc:title>
</cp:coreProperties>
</file>