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F975-015B-4F01-9B1F-671CF045A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09BF-78F4-4413-85F5-A52EC97E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A72B-C6BD-44BF-ABB8-CC7D8D273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7626-6C3D-4BE2-8055-71A2C7EED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114D-7C6E-4E9D-8F3A-10CF7AAAB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73D0-D00D-4975-9362-B258B4959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2506-E092-4761-9115-623603170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1D7F-1042-4411-836B-F32C9346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FA3A-F9ED-43AE-B110-C746C6064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6774-D37C-4DB9-AD4E-F3448CF9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AF7D-A744-4C9E-8015-6130AD673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A76D-7FD0-4EE3-B42F-3DD7D2B0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26C-3058-4999-A8FF-B634EB86A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DC18-9CE8-4649-9EC5-B6CB214A2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4823-3382-4FD4-9833-67A007C09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0BBC-FDD6-4320-AFAF-281121C0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0DA7-3139-45E0-B673-BE360867A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0B48-3661-4557-B4AC-7C1422D39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D846-2969-4B84-9DDF-65CF9E02C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3F70-A760-4D8F-A768-4401E123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7D03-6400-4BD8-9E7E-D0CF9C19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F717-F134-4F68-9C2A-17B91050C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3611-A38F-45BA-991E-5846A0DE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90640" y="1676160"/>
            <a:ext cx="5562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H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yundai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864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Honda.jpg"/>
          <p:cNvPicPr/>
          <p:nvPr/>
        </p:nvPicPr>
        <p:blipFill>
          <a:blip r:embed="rId1"/>
          <a:stretch/>
        </p:blipFill>
        <p:spPr>
          <a:xfrm>
            <a:off x="2368440" y="1295280"/>
            <a:ext cx="4407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holiday inn.jpg"/>
          <p:cNvPicPr/>
          <p:nvPr/>
        </p:nvPicPr>
        <p:blipFill>
          <a:blip r:embed="rId1"/>
          <a:stretch/>
        </p:blipFill>
        <p:spPr>
          <a:xfrm>
            <a:off x="2819520" y="1293840"/>
            <a:ext cx="350496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196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History_Channel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hilton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2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33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QVAR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3009960" y="1295280"/>
            <a:ext cx="312408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8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hane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753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Honda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02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5712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hilary.png"/>
          <p:cNvPicPr/>
          <p:nvPr/>
        </p:nvPicPr>
        <p:blipFill>
          <a:blip r:embed="rId1"/>
          <a:stretch/>
        </p:blipFill>
        <p:spPr>
          <a:xfrm>
            <a:off x="2468520" y="1295280"/>
            <a:ext cx="4206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G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UND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yundai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864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holiday in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History_Channel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hilton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02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5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552760" y="1292400"/>
            <a:ext cx="40384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hane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753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ilary.png"/>
          <p:cNvPicPr/>
          <p:nvPr/>
        </p:nvPicPr>
        <p:blipFill>
          <a:blip r:embed="rId1"/>
          <a:stretch/>
        </p:blipFill>
        <p:spPr>
          <a:xfrm>
            <a:off x="2438280" y="1295280"/>
            <a:ext cx="4295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6:36Z</dcterms:modified>
  <cp:revision>293</cp:revision>
  <dc:subject/>
  <dc:title>Slide 1</dc:title>
</cp:coreProperties>
</file>