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0533-EBDD-41CF-A1C0-A459306FA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6B24-F5AD-4F58-95C4-E995A747E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5984-A96E-4C26-ACE1-675D7AD7D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0B1E-35B5-4BDB-A744-5F6768945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BB96-94F3-4CC8-8FFC-96E2E08C5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0B70-3559-4061-B657-90AFB2F8F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3D0E-0373-451F-808D-ED2F7B909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8437-F176-424E-8676-E9EC571E1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63B6-1F90-465D-A5E4-2D411A4AF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D092-AE43-464A-9C84-7A23F4F90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8B7D3-8F79-4122-9688-8B3990CD4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F0D4-45CB-4A22-8DB0-263DC6504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026C-5FFE-4B8C-81C0-FB6C7FAE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C1A2-D34A-4A22-9D59-B274B551F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5797-E7CF-45F3-9BC4-6C941AAB5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0F23-26B4-46A2-9A1E-7974EFA1A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E7C3-9AE4-4C3E-BAEC-1D60EF00B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B264-CE7F-476B-8191-E677E87DA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6F35-5DA7-4723-902B-8485F6057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51A5-0F5D-4893-BDDD-4745A086B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E6E6-C158-4EBD-9C3D-948160021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5143-589A-40E5-9D1C-145C0EADC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7F51-FD02-4C87-9984-EE56D4C08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057400" y="1676520"/>
            <a:ext cx="5029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P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784600" y="1295280"/>
            <a:ext cx="3574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3102120" y="1333440"/>
            <a:ext cx="293976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T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33560" y="1295280"/>
            <a:ext cx="3476880" cy="345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7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BL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2793960" y="1262160"/>
            <a:ext cx="3556080" cy="35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Y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3070080" y="1295280"/>
            <a:ext cx="300384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247840" y="1295280"/>
            <a:ext cx="4648320" cy="351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3060720" y="1295280"/>
            <a:ext cx="30225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2744640" y="1295280"/>
            <a:ext cx="3654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DO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3086280" y="1295280"/>
            <a:ext cx="2971800" cy="343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NED  PARENT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3208320" y="1295280"/>
            <a:ext cx="2727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TNEY  BOW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2784600" y="1295280"/>
            <a:ext cx="3574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IPAL  FINAN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3121200" y="1295280"/>
            <a:ext cx="290160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793960" y="1262160"/>
            <a:ext cx="3556080" cy="35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3070080" y="1295280"/>
            <a:ext cx="300384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247840" y="1295280"/>
            <a:ext cx="4648320" cy="35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3060720" y="1295280"/>
            <a:ext cx="30225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744640" y="1295280"/>
            <a:ext cx="3654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3086280" y="1295280"/>
            <a:ext cx="2971800" cy="34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3208320" y="1295280"/>
            <a:ext cx="2727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7:01Z</dcterms:modified>
  <cp:revision>290</cp:revision>
  <dc:subject/>
  <dc:title>Slide 1</dc:title>
</cp:coreProperties>
</file>