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1B0-981F-493A-9DC0-AC5B92FCA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FF64-402A-4B78-818B-904693E90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A464-F31C-4E6D-8283-422F8854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1C80-61D4-45DA-8AE7-4EB63A60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55DD-B51A-4CBB-9B15-78AC6119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4333-7692-4993-9010-85D634EBE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549-46AB-43AF-A8D9-D45619AC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7F50-1C07-4E35-9B6B-EA314593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9B2D-893D-45DD-9AA4-5F3226E61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0767-2E01-4C67-80E7-A1F19400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A2E2-0885-4A13-B7CF-6B26DD03D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3D69-7446-411C-B8A8-4578883B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A118-011C-4563-8D4D-96AEC310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25CE-D888-4AEB-992E-3B485D8E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E5A-D90A-4CA1-A836-7775B89F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A7CC-9378-4802-969A-A285DF77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740-F91A-46AE-935B-F5EC8F66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8AD3-3674-4CEA-B1B8-BC04C9F9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8643-EC0D-4720-A2F3-CC2D59B2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5386-F4B2-4065-92C3-949541C2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B16E-348E-44A1-935F-BEE33883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965-041F-4740-8210-CD45969A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AF03-6C6D-4D43-838A-0DCBE513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057400" y="1676520"/>
            <a:ext cx="5029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P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84600" y="1295280"/>
            <a:ext cx="3574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3102120" y="1333440"/>
            <a:ext cx="293976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33560" y="1295280"/>
            <a:ext cx="347688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7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B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2793960" y="1262160"/>
            <a:ext cx="355608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3070080" y="1295280"/>
            <a:ext cx="300384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35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3060720" y="1295280"/>
            <a:ext cx="30225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4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NED  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208320" y="1295280"/>
            <a:ext cx="2727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NEY  BOW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84600" y="1295280"/>
            <a:ext cx="35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IPAL  FINA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121200" y="1295280"/>
            <a:ext cx="290160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93960" y="1262160"/>
            <a:ext cx="355608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3070080" y="1295280"/>
            <a:ext cx="300384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060720" y="1295280"/>
            <a:ext cx="30225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4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208320" y="1295280"/>
            <a:ext cx="2727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7:01Z</dcterms:modified>
  <cp:revision>290</cp:revision>
  <dc:subject/>
  <dc:title>Slide 1</dc:title>
</cp:coreProperties>
</file>